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1392-7D76-4175-9663-373E450DE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41A7-6513-4897-9A7D-169A9541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A815-5813-446A-BAD6-683D8EA22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465A-AF63-46D9-A11A-100ACFB8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1764-0292-4DDA-8CD7-C81CC77FC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DDF5-260C-4BB2-A304-FCB762A1C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F4C99-A368-4EC1-86A7-BE696D0BE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7786-3529-4F27-97BE-4AFEE473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C196-8430-4A7E-9801-EBE00981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7F2E-81DC-45AD-8955-5CBFD3BE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15082-102B-4171-B497-CA27BB60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3F5F-9DE1-41D4-B657-22064F11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2D13-0401-416E-BEC9-641490D7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7FB8-9843-4176-9CAB-2C5DE430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28BC-2E13-4CFF-8385-A58EC7FB4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5D84-319A-41DD-A503-3B956FF4C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C28B-4E28-4E9D-966D-F09820977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52DF-F71A-4440-AF16-2DE83A80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DD1B-AF90-4452-89E1-66B08F27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4022-7C89-470C-96AF-C5AAC5F8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4AC7-C95A-44E5-A27F-4ABF761A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8AD4-BC41-4834-A21A-E3F909E18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52E2-BBD9-4177-B75D-CE543C8E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8693-882A-4131-9A63-E8AA9CDA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59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6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6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316576B-3C76-45B6-AB10-2EF46BFD07A3}" type="slidenum"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59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a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2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e0000"/>
                    </a:gs>
                    <a:gs pos="100000">
                      <a:srgbClr val="57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6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66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570000"/>
                    </a:gs>
                    <a:gs pos="100000">
                      <a:srgbClr val="7e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0000"/>
                  </a:gs>
                  <a:gs pos="100000">
                    <a:srgbClr val="7e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66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cf0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8B43F7-124C-4082-8FB1-22D901338635}" type="slidenum">
              <a:rPr b="0" lang="fr-FR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cf0b2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fcf0b2"/>
                </a:solidFill>
                <a:uFillTx/>
                <a:latin typeface="Gill Sans Ultra Bold"/>
              </a:rPr>
              <a:t>Les robots suiveurs de ligne</a:t>
            </a:r>
            <a:endParaRPr b="0" lang="en-US" sz="38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050560" y="6021360"/>
            <a:ext cx="492948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PE année 2008-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55640" y="198900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cf0b2"/>
                </a:solidFill>
                <a:uFillTx/>
                <a:latin typeface="Arial"/>
              </a:rPr>
              <a:t>1- Introduction sur les rob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003640" y="1989000"/>
            <a:ext cx="41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fcf0b2"/>
                </a:solidFill>
                <a:uFillTx/>
                <a:latin typeface="Arial"/>
              </a:rPr>
              <a:t>2- Les technologies du robot suiveur de lig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00000" y="2997360"/>
            <a:ext cx="30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16000" y="2997360"/>
            <a:ext cx="39592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cf0b2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cf0b2"/>
                </a:solidFill>
                <a:latin typeface="Arial"/>
              </a:rPr>
              <a:t>Les origines du rob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cf0b2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cf0b2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cf0b2"/>
                </a:solidFill>
                <a:latin typeface="Arial"/>
              </a:rPr>
              <a:t>Les robots aujourd’h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cf0b2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cf0b2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cf0b2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64000" y="2997360"/>
            <a:ext cx="27352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cf0b2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cf0b2"/>
                </a:solidFill>
                <a:latin typeface="Arial"/>
              </a:rPr>
              <a:t>Côté électro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cf0b2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cf0b2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cf0b2"/>
                </a:solidFill>
                <a:latin typeface="Arial"/>
              </a:rPr>
              <a:t>Coté mécan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4030560" cy="7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mic Sans MS"/>
              </a:rPr>
              <a:t>2°) Capteurs Magnétiques.</a:t>
            </a:r>
            <a:endParaRPr b="0" lang="en-US" sz="1800" spc="-1" strike="noStrike">
              <a:solidFill>
                <a:srgbClr val="fcf0b2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556000" y="1773360"/>
            <a:ext cx="4000320" cy="40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203640" y="2060640"/>
            <a:ext cx="2160360" cy="273672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Eras Bold ITC"/>
              </a:rPr>
              <a:t>Rôle du microcontrôleur :</a:t>
            </a:r>
            <a:endParaRPr b="0" lang="en-US" sz="3600" spc="-1" strike="noStrike">
              <a:solidFill>
                <a:srgbClr val="fcf0b2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 rot="5472000">
            <a:off x="593640" y="2293920"/>
            <a:ext cx="1739880" cy="24256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5796000" y="1628640"/>
            <a:ext cx="2935080" cy="31687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826920" y="5734080"/>
            <a:ext cx="1441440" cy="358920"/>
          </a:xfrm>
          <a:prstGeom prst="rightArrow">
            <a:avLst>
              <a:gd name="adj1" fmla="val 50000"/>
              <a:gd name="adj2" fmla="val 100401"/>
            </a:avLst>
          </a:prstGeom>
          <a:solidFill>
            <a:srgbClr val="c554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40000" y="57340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Informations d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6084720" y="2421000"/>
            <a:ext cx="371520" cy="4316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5364000" y="5734080"/>
            <a:ext cx="1513080" cy="3841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6948360" y="5661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Informations des rel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411280" y="3141720"/>
            <a:ext cx="1224000" cy="287280"/>
          </a:xfrm>
          <a:prstGeom prst="rightArrow">
            <a:avLst>
              <a:gd name="adj1" fmla="val 50000"/>
              <a:gd name="adj2" fmla="val 106516"/>
            </a:avLst>
          </a:prstGeom>
          <a:solidFill>
            <a:srgbClr val="c554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340000" y="3645000"/>
            <a:ext cx="1224000" cy="288720"/>
          </a:xfrm>
          <a:prstGeom prst="leftArrow">
            <a:avLst>
              <a:gd name="adj1" fmla="val 50000"/>
              <a:gd name="adj2" fmla="val 105985"/>
            </a:avLst>
          </a:prstGeom>
          <a:solidFill>
            <a:srgbClr val="c554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6"/>
          <a:stretch/>
        </p:blipFill>
        <p:spPr>
          <a:xfrm>
            <a:off x="5076720" y="2565360"/>
            <a:ext cx="1047960" cy="1335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7"/>
          <a:stretch/>
        </p:blipFill>
        <p:spPr>
          <a:xfrm>
            <a:off x="5076720" y="4437000"/>
            <a:ext cx="1047960" cy="1335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8"/>
          <a:stretch/>
        </p:blipFill>
        <p:spPr>
          <a:xfrm>
            <a:off x="4788000" y="4221000"/>
            <a:ext cx="342720" cy="5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500"/>
                            </p:stCondLst>
                            <p:childTnLst>
                              <p:par>
                                <p:cTn id="23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9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9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500"/>
                            </p:stCondLst>
                            <p:childTnLst>
                              <p:par>
                                <p:cTn id="2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9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388800"/>
            <a:ext cx="8227800" cy="9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 Extra Bold"/>
              </a:rPr>
              <a:t>B) Côté mécanique :</a:t>
            </a:r>
            <a:endParaRPr b="0" lang="en-US" sz="2400" spc="-1" strike="noStrike">
              <a:solidFill>
                <a:srgbClr val="fcf0b2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556000" y="1413000"/>
            <a:ext cx="4032000" cy="35287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1116000" y="501336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ux moteurs, pour orienter le robot. Le type d’alimentation change selon la taille du robo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Eras Bold ITC"/>
              </a:rPr>
              <a:t>Fonctionnement du moteur :</a:t>
            </a:r>
            <a:endParaRPr b="0" lang="en-US" sz="3600" spc="-1" strike="noStrike">
              <a:solidFill>
                <a:srgbClr val="fcf0b2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190600" y="1681200"/>
            <a:ext cx="4762800" cy="34956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187280" y="5516640"/>
            <a:ext cx="67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e champ magnétique provoqué par le stator fait tourner les bobines du rotor, et donc le mot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10920" y="5445000"/>
            <a:ext cx="822636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our tourner, les robots utilisent la vitesse de rotation des moteur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2948040" cy="21891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-108000" y="386064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Tourner à gauch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6084720" y="1413000"/>
            <a:ext cx="2948040" cy="21891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6443640" y="3860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Tourner à dro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3276720" y="1484280"/>
            <a:ext cx="2693880" cy="165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500"/>
                            </p:stCondLst>
                            <p:childTnLst>
                              <p:par>
                                <p:cTn id="3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0" y="5157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Grâce au système du « pont en H », les moteurs peuvent également tourner dans le sens inverse de la normale, pour pouvoir par exemple effectuer un demi-tou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4619880" cy="282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cf0b2"/>
                </a:solidFill>
                <a:uFillTx/>
                <a:latin typeface="Eras Bold ITC"/>
              </a:rPr>
              <a:t>1- Introduction sur les robots.</a:t>
            </a:r>
            <a:endParaRPr b="0" lang="en-US" sz="32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0" y="1341000"/>
            <a:ext cx="914400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US" sz="2400" spc="-1" strike="noStrike">
                <a:solidFill>
                  <a:srgbClr val="fcf0b2"/>
                </a:solidFill>
                <a:latin typeface="Rockwell Extra Bold"/>
              </a:rPr>
              <a:t>A) L’ origine des robo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3132000" y="3068640"/>
            <a:ext cx="2913120" cy="261288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050920" y="5877000"/>
            <a:ext cx="532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canard de Vaucan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411280" y="836640"/>
            <a:ext cx="3889440" cy="31208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835280" y="443700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'automate «joueur d'échecs» de Von Kempele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Rockwell Extra Bold"/>
              </a:rPr>
              <a:t>B) Les robots dans la fiction</a:t>
            </a:r>
            <a:endParaRPr b="0" lang="en-US" sz="2400" spc="-1" strike="noStrike">
              <a:solidFill>
                <a:srgbClr val="fcf0b2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059280" y="2492280"/>
            <a:ext cx="2409480" cy="325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4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f0b2"/>
                </a:solidFill>
                <a:uFillTx/>
                <a:latin typeface="Eras Bold ITC"/>
              </a:rPr>
              <a:t>B) Les robots aujourd'hui</a:t>
            </a:r>
            <a:br>
              <a:rPr sz="3200"/>
            </a:br>
            <a:endParaRPr b="0" lang="en-US" sz="2400" spc="-1" strike="noStrike">
              <a:solidFill>
                <a:srgbClr val="fcf0b2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519280" y="1440000"/>
            <a:ext cx="3780000" cy="324000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539640" y="5013000"/>
            <a:ext cx="8229600" cy="122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bot d’exploration A MER A sur M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2556000" y="47628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0" y="5373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 robots de plus en plus humai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388440"/>
            <a:ext cx="914400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cf0b2"/>
                </a:solidFill>
                <a:uFillTx/>
                <a:latin typeface="Eras Bold ITC"/>
              </a:rPr>
              <a:t>C) Les robots à directions précalculées</a:t>
            </a:r>
            <a:endParaRPr b="0" lang="en-US" sz="2400" spc="-1" strike="noStrike">
              <a:solidFill>
                <a:srgbClr val="fcf0b2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692360" y="2349360"/>
            <a:ext cx="3000240" cy="28180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148360" y="3068640"/>
            <a:ext cx="36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ot suiveur de ligne à l’ Hôpital Jacques Cœur, à Bour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cf0b2"/>
                </a:solidFill>
                <a:uFillTx/>
                <a:latin typeface="Eras Bold ITC"/>
              </a:rPr>
              <a:t>2- Les technologies du robot suiveur de ligne.</a:t>
            </a:r>
            <a:endParaRPr b="0" lang="en-US" sz="3200" spc="-1" strike="noStrike">
              <a:solidFill>
                <a:srgbClr val="fcf0b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79280" y="1557000"/>
            <a:ext cx="8856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 Extra Bold"/>
              </a:rPr>
              <a:t>A) Côté électronique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20718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042920" y="3716280"/>
            <a:ext cx="7104240" cy="19623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611280" y="227664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mic Sans MS"/>
              </a:rPr>
              <a:t>1°) Capteurs Infrarou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2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10000"/>
            </a:gs>
            <a:gs pos="100000">
              <a:srgbClr val="8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2987640" y="1197000"/>
            <a:ext cx="3086280" cy="26100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971640" y="5157720"/>
            <a:ext cx="74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a proximité du sol est nécessaire pour que les capteurs puissent être effica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toine</dc:creator>
  <dc:description/>
  <dc:language>en-US</dc:language>
  <cp:lastModifiedBy>ssi</cp:lastModifiedBy>
  <dcterms:modified xsi:type="dcterms:W3CDTF">2009-01-16T08:22:23Z</dcterms:modified>
  <cp:revision>23</cp:revision>
  <dc:subject/>
  <dc:title>Les robots suiveurs de lignes.</dc:title>
</cp:coreProperties>
</file>