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3236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432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2612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699840"/>
            <a:ext cx="88092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Robot Suiveur de Lign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5040000"/>
            <a:ext cx="841860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3200" spc="-1" strike="noStrike">
                <a:solidFill>
                  <a:srgbClr val="99284c"/>
                </a:solidFill>
                <a:latin typeface="Arial"/>
              </a:rPr>
              <a:t>Projet ppe                           année 2008-2009</a:t>
            </a: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Partie Electriqu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60720" y="1979640"/>
            <a:ext cx="5580000" cy="485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9840"/>
            <a:ext cx="88092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Sommair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21880" y="3239640"/>
            <a:ext cx="8418600" cy="3660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Partie Electriqu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Partie Mécanique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troduction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2240" y="2138400"/>
            <a:ext cx="410688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Un rob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135400" y="2538360"/>
            <a:ext cx="4106880" cy="3962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79640" y="3600360"/>
            <a:ext cx="450036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'est ce que c'e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Introduction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Notre Projet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0000" y="2340000"/>
            <a:ext cx="4564080" cy="45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79640" y="3240000"/>
            <a:ext cx="3779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articipation à un concours robo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Partie Electriqu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71480" y="1719360"/>
            <a:ext cx="8229600" cy="4581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879640" y="3060720"/>
            <a:ext cx="7207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p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2995560"/>
            <a:ext cx="9000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32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Micro controleu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00720" y="3060720"/>
            <a:ext cx="7207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720" y="4859280"/>
            <a:ext cx="900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att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4994280"/>
            <a:ext cx="12603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t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80000" y="4994280"/>
            <a:ext cx="9003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o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79640" y="5940360"/>
            <a:ext cx="9000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lectr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0" y="5921280"/>
            <a:ext cx="900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lectr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5940360"/>
            <a:ext cx="9000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écan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5921280"/>
            <a:ext cx="9003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2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écaniq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4994280"/>
            <a:ext cx="900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an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Partie Electriqu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Repérage de la ligne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35400" y="2701800"/>
            <a:ext cx="4106880" cy="36356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60360" y="3060720"/>
            <a:ext cx="39592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s capteurs InfraRou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413080" y="5400720"/>
            <a:ext cx="647640" cy="66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Partie Electriqu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86000" y="2160720"/>
            <a:ext cx="4913280" cy="4103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Partie Electriqu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2240" y="2138400"/>
            <a:ext cx="4106880" cy="47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La position du     rob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751280" y="1800360"/>
            <a:ext cx="4006800" cy="4716360"/>
            <a:chOff x="4751280" y="1800360"/>
            <a:chExt cx="4006800" cy="4716360"/>
          </a:xfrm>
        </p:grpSpPr>
        <p:sp>
          <p:nvSpPr>
            <p:cNvPr id="77" name=""/>
            <p:cNvSpPr/>
            <p:nvPr/>
          </p:nvSpPr>
          <p:spPr>
            <a:xfrm>
              <a:off x="5646600" y="1950840"/>
              <a:ext cx="801720" cy="4487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5533920" y="2300040"/>
              <a:ext cx="1009800" cy="288360"/>
              <a:chOff x="5533920" y="2300040"/>
              <a:chExt cx="1009800" cy="288360"/>
            </a:xfrm>
          </p:grpSpPr>
          <p:sp>
            <p:nvSpPr>
              <p:cNvPr id="79" name=""/>
              <p:cNvSpPr/>
              <p:nvPr/>
            </p:nvSpPr>
            <p:spPr>
              <a:xfrm>
                <a:off x="5533920" y="2300040"/>
                <a:ext cx="1009800" cy="28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817600" y="2399040"/>
                <a:ext cx="86760" cy="87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651280" y="2399040"/>
                <a:ext cx="86760" cy="87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984280" y="2399040"/>
                <a:ext cx="86760" cy="87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161760" y="2399040"/>
                <a:ext cx="86760" cy="87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328080" y="2399040"/>
                <a:ext cx="86760" cy="87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5203800" y="2945880"/>
              <a:ext cx="1011240" cy="288720"/>
              <a:chOff x="5203800" y="2945880"/>
              <a:chExt cx="1011240" cy="288720"/>
            </a:xfrm>
          </p:grpSpPr>
          <p:sp>
            <p:nvSpPr>
              <p:cNvPr id="86" name=""/>
              <p:cNvSpPr/>
              <p:nvPr/>
            </p:nvSpPr>
            <p:spPr>
              <a:xfrm>
                <a:off x="5203800" y="2945880"/>
                <a:ext cx="1011240" cy="28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487120" y="3045240"/>
                <a:ext cx="87120" cy="9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320800" y="3045240"/>
                <a:ext cx="87120" cy="9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655600" y="3045240"/>
                <a:ext cx="86760" cy="9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831280" y="3045240"/>
                <a:ext cx="88560" cy="9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997600" y="3045240"/>
                <a:ext cx="88560" cy="9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365800" y="2619000"/>
              <a:ext cx="1009440" cy="290160"/>
              <a:chOff x="5365800" y="2619000"/>
              <a:chExt cx="1009440" cy="290160"/>
            </a:xfrm>
          </p:grpSpPr>
          <p:sp>
            <p:nvSpPr>
              <p:cNvPr id="93" name=""/>
              <p:cNvSpPr/>
              <p:nvPr/>
            </p:nvSpPr>
            <p:spPr>
              <a:xfrm>
                <a:off x="5365800" y="2619000"/>
                <a:ext cx="1009440" cy="29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649120" y="2719800"/>
                <a:ext cx="88560" cy="88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482800" y="2719800"/>
                <a:ext cx="8856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15440" y="2719800"/>
                <a:ext cx="88560" cy="88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992920" y="2719800"/>
                <a:ext cx="87120" cy="88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159600" y="2719800"/>
                <a:ext cx="87120" cy="88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030640" y="3272760"/>
              <a:ext cx="1009800" cy="288360"/>
              <a:chOff x="5030640" y="3272760"/>
              <a:chExt cx="1009800" cy="288360"/>
            </a:xfrm>
          </p:grpSpPr>
          <p:sp>
            <p:nvSpPr>
              <p:cNvPr id="100" name=""/>
              <p:cNvSpPr/>
              <p:nvPr/>
            </p:nvSpPr>
            <p:spPr>
              <a:xfrm>
                <a:off x="5030640" y="3272760"/>
                <a:ext cx="1009800" cy="28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15760" y="3373200"/>
                <a:ext cx="8712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49440" y="3373200"/>
                <a:ext cx="8856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482440" y="3373200"/>
                <a:ext cx="8712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659920" y="3373200"/>
                <a:ext cx="87120" cy="88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26240" y="3373200"/>
                <a:ext cx="87120" cy="88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4863960" y="3604320"/>
              <a:ext cx="1009800" cy="288720"/>
              <a:chOff x="4863960" y="3604320"/>
              <a:chExt cx="1009800" cy="288720"/>
            </a:xfrm>
          </p:grpSpPr>
          <p:sp>
            <p:nvSpPr>
              <p:cNvPr id="107" name=""/>
              <p:cNvSpPr/>
              <p:nvPr/>
            </p:nvSpPr>
            <p:spPr>
              <a:xfrm>
                <a:off x="4863960" y="3604320"/>
                <a:ext cx="1009800" cy="28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149080" y="3703680"/>
                <a:ext cx="87120" cy="9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981320" y="3703680"/>
                <a:ext cx="86760" cy="9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315760" y="3703680"/>
                <a:ext cx="87120" cy="9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491800" y="3703680"/>
                <a:ext cx="88560" cy="9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58120" y="3703680"/>
                <a:ext cx="88560" cy="90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7027920" y="1961640"/>
              <a:ext cx="801720" cy="447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6935760" y="2300040"/>
              <a:ext cx="1009800" cy="288360"/>
              <a:chOff x="6935760" y="2300040"/>
              <a:chExt cx="1009800" cy="288360"/>
            </a:xfrm>
          </p:grpSpPr>
          <p:sp>
            <p:nvSpPr>
              <p:cNvPr id="115" name=""/>
              <p:cNvSpPr/>
              <p:nvPr/>
            </p:nvSpPr>
            <p:spPr>
              <a:xfrm>
                <a:off x="6935760" y="2300040"/>
                <a:ext cx="1009800" cy="28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219080" y="2399040"/>
                <a:ext cx="87120" cy="87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052760" y="2399040"/>
                <a:ext cx="87120" cy="87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87560" y="2399040"/>
                <a:ext cx="86760" cy="87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563240" y="2399040"/>
                <a:ext cx="87120" cy="87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29560" y="2399040"/>
                <a:ext cx="87120" cy="878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7284960" y="2945880"/>
              <a:ext cx="1009800" cy="288720"/>
              <a:chOff x="7284960" y="2945880"/>
              <a:chExt cx="1009800" cy="288720"/>
            </a:xfrm>
          </p:grpSpPr>
          <p:sp>
            <p:nvSpPr>
              <p:cNvPr id="122" name=""/>
              <p:cNvSpPr/>
              <p:nvPr/>
            </p:nvSpPr>
            <p:spPr>
              <a:xfrm>
                <a:off x="7284960" y="2945880"/>
                <a:ext cx="1009800" cy="28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70080" y="3047040"/>
                <a:ext cx="87120" cy="88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402320" y="3047040"/>
                <a:ext cx="86760" cy="88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736760" y="3047040"/>
                <a:ext cx="87120" cy="88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912440" y="3047040"/>
                <a:ext cx="8856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078760" y="3047040"/>
                <a:ext cx="8856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624800" y="3604320"/>
              <a:ext cx="1009440" cy="288720"/>
              <a:chOff x="7624800" y="3604320"/>
              <a:chExt cx="1009440" cy="288720"/>
            </a:xfrm>
          </p:grpSpPr>
          <p:sp>
            <p:nvSpPr>
              <p:cNvPr id="129" name=""/>
              <p:cNvSpPr/>
              <p:nvPr/>
            </p:nvSpPr>
            <p:spPr>
              <a:xfrm>
                <a:off x="7624800" y="3604320"/>
                <a:ext cx="1009440" cy="28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908120" y="3705480"/>
                <a:ext cx="8712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741800" y="3705480"/>
                <a:ext cx="87120" cy="88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074440" y="3705480"/>
                <a:ext cx="8712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251920" y="3705480"/>
                <a:ext cx="8712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417160" y="3705480"/>
                <a:ext cx="8856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7102440" y="2619000"/>
              <a:ext cx="1011240" cy="290160"/>
              <a:chOff x="7102440" y="2619000"/>
              <a:chExt cx="1011240" cy="290160"/>
            </a:xfrm>
          </p:grpSpPr>
          <p:sp>
            <p:nvSpPr>
              <p:cNvPr id="136" name=""/>
              <p:cNvSpPr/>
              <p:nvPr/>
            </p:nvSpPr>
            <p:spPr>
              <a:xfrm>
                <a:off x="7102440" y="2619000"/>
                <a:ext cx="1011240" cy="29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385760" y="2719800"/>
                <a:ext cx="88560" cy="88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219440" y="2719800"/>
                <a:ext cx="87120" cy="88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552080" y="2719800"/>
                <a:ext cx="88560" cy="88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729560" y="2719800"/>
                <a:ext cx="87120" cy="88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96240" y="2719800"/>
                <a:ext cx="8712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7456320" y="3272760"/>
              <a:ext cx="1009800" cy="288360"/>
              <a:chOff x="7456320" y="3272760"/>
              <a:chExt cx="1009800" cy="288360"/>
            </a:xfrm>
          </p:grpSpPr>
          <p:sp>
            <p:nvSpPr>
              <p:cNvPr id="143" name=""/>
              <p:cNvSpPr/>
              <p:nvPr/>
            </p:nvSpPr>
            <p:spPr>
              <a:xfrm>
                <a:off x="7456320" y="3272760"/>
                <a:ext cx="1009800" cy="28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740000" y="3371760"/>
                <a:ext cx="86760" cy="89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573680" y="3371760"/>
                <a:ext cx="86760" cy="89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908120" y="3371760"/>
                <a:ext cx="87120" cy="89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84160" y="3371760"/>
                <a:ext cx="86760" cy="89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251920" y="3371760"/>
                <a:ext cx="87120" cy="89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7746840" y="3942720"/>
              <a:ext cx="1011240" cy="288360"/>
              <a:chOff x="7746840" y="3942720"/>
              <a:chExt cx="1011240" cy="288360"/>
            </a:xfrm>
          </p:grpSpPr>
          <p:sp>
            <p:nvSpPr>
              <p:cNvPr id="150" name=""/>
              <p:cNvSpPr/>
              <p:nvPr/>
            </p:nvSpPr>
            <p:spPr>
              <a:xfrm>
                <a:off x="7746840" y="3942720"/>
                <a:ext cx="1011240" cy="288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31960" y="4043160"/>
                <a:ext cx="8712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864200" y="4043160"/>
                <a:ext cx="8676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198280" y="4043160"/>
                <a:ext cx="8712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374320" y="4043160"/>
                <a:ext cx="8856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542440" y="4043160"/>
                <a:ext cx="8856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751280" y="3936240"/>
              <a:ext cx="1009800" cy="290160"/>
              <a:chOff x="4751280" y="3936240"/>
              <a:chExt cx="1009800" cy="290160"/>
            </a:xfrm>
          </p:grpSpPr>
          <p:sp>
            <p:nvSpPr>
              <p:cNvPr id="157" name=""/>
              <p:cNvSpPr/>
              <p:nvPr/>
            </p:nvSpPr>
            <p:spPr>
              <a:xfrm>
                <a:off x="4751280" y="3936240"/>
                <a:ext cx="1009800" cy="29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036400" y="4036680"/>
                <a:ext cx="8712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70080" y="4036680"/>
                <a:ext cx="8712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203080" y="4036680"/>
                <a:ext cx="8712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379120" y="4036680"/>
                <a:ext cx="8820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545440" y="4036680"/>
                <a:ext cx="88560" cy="88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719280"/>
                    <a:tab algn="l" pos="1438200"/>
                    <a:tab algn="l" pos="2157480"/>
                    <a:tab algn="l" pos="2876400"/>
                    <a:tab algn="l" pos="3595680"/>
                    <a:tab algn="l" pos="4314960"/>
                    <a:tab algn="l" pos="5033880"/>
                    <a:tab algn="l" pos="5753160"/>
                    <a:tab algn="l" pos="6472080"/>
                    <a:tab algn="l" pos="7191360"/>
                    <a:tab algn="l" pos="7910640"/>
                    <a:tab algn="l" pos="8629560"/>
                    <a:tab algn="l" pos="9348840"/>
                    <a:tab algn="l" pos="10067760"/>
                    <a:tab algn="l" pos="107870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3" name="" descr=""/>
            <p:cNvPicPr/>
            <p:nvPr/>
          </p:nvPicPr>
          <p:blipFill>
            <a:blip r:embed="rId1"/>
            <a:srcRect l="18591" t="10557" r="28071" b="8501"/>
            <a:stretch/>
          </p:blipFill>
          <p:spPr>
            <a:xfrm>
              <a:off x="6783480" y="4767840"/>
              <a:ext cx="1270080" cy="155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826400" y="1804680"/>
              <a:ext cx="34920" cy="457848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2"/>
            <a:srcRect l="18591" t="11143" r="28071" b="8501"/>
            <a:stretch/>
          </p:blipFill>
          <p:spPr>
            <a:xfrm>
              <a:off x="5419800" y="4756680"/>
              <a:ext cx="1270080" cy="154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630760" y="1800360"/>
              <a:ext cx="23760" cy="4716360"/>
            </a:xfrm>
            <a:prstGeom prst="line">
              <a:avLst/>
            </a:prstGeom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19280"/>
                  <a:tab algn="l" pos="1438200"/>
                  <a:tab algn="l" pos="2157480"/>
                  <a:tab algn="l" pos="2876400"/>
                  <a:tab algn="l" pos="3595680"/>
                  <a:tab algn="l" pos="4314960"/>
                  <a:tab algn="l" pos="5033880"/>
                  <a:tab algn="l" pos="5753160"/>
                  <a:tab algn="l" pos="6472080"/>
                  <a:tab algn="l" pos="7191360"/>
                  <a:tab algn="l" pos="7910640"/>
                  <a:tab algn="l" pos="8629560"/>
                  <a:tab algn="l" pos="9348840"/>
                  <a:tab algn="l" pos="10067760"/>
                  <a:tab algn="l" pos="10787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079640" y="3524400"/>
            <a:ext cx="34192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 Positions pour plus de pré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fr-FR" sz="3600" spc="-1" strike="noStrike">
                <a:solidFill>
                  <a:srgbClr val="99284c"/>
                </a:solidFill>
                <a:latin typeface="Arial"/>
              </a:rPr>
              <a:t>Partie Electrique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224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fr-FR" sz="3200" spc="-1" strike="noStrike">
                <a:solidFill>
                  <a:srgbClr val="333333"/>
                </a:solidFill>
                <a:latin typeface="Arial"/>
              </a:rPr>
              <a:t>La motorisation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135400" y="2978280"/>
            <a:ext cx="4106880" cy="3079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1:36:11Z</dcterms:created>
  <dc:creator>Simon Laridant</dc:creator>
  <dc:description>Modèle de présentation d'un nouveau produit et des besoins auxquels il répond</dc:description>
  <dc:language>en-US</dc:language>
  <cp:lastModifiedBy>ssi</cp:lastModifiedBy>
  <dcterms:modified xsi:type="dcterms:W3CDTF">2009-05-07T07:42:44Z</dcterms:modified>
  <cp:revision>9</cp:revision>
  <dc:subject/>
  <dc:title>Présentation d'un nouveau produit</dc:title>
</cp:coreProperties>
</file>