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camera.wav" ContentType="audio/x-wav"/>
  <Override PartName="/ppt/media/image2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DD25-D23D-4E3D-A642-82495EB66B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D09-4779-425A-B2A0-D7EC658C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396-F532-4007-9474-BB6EB4AE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755-7291-46B6-8C1E-8F85404D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CAC-DD36-4C5C-A59B-161EFA5D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1FD-FF34-4A7E-ACE9-48EE5313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53A-07E9-46BF-A782-FD2ADC1C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7DF-DBB9-4D68-8E9D-7ED8FCFC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798-4D5D-45A3-87C5-81AB842E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90E-7F15-44B2-ADCE-DA735C8E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195-7C32-4899-BF33-B976D7D9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984-D3B8-4E56-AB50-0F3FBCDC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538-F6EA-4956-98B1-100E892C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ACEF-807F-4CB5-A4BF-5D695BAF8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t Personnel Encadr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ontaine lumin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ontaine lumineuse2"/>
          <p:cNvPicPr/>
          <p:nvPr/>
        </p:nvPicPr>
        <p:blipFill>
          <a:blip r:embed="rId1"/>
          <a:stretch/>
        </p:blipFill>
        <p:spPr>
          <a:xfrm>
            <a:off x="2411280" y="306864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 I2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on des confl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ch1"/>
          <p:cNvPicPr/>
          <p:nvPr/>
        </p:nvPicPr>
        <p:blipFill>
          <a:blip r:embed="rId1"/>
          <a:stretch/>
        </p:blipFill>
        <p:spPr>
          <a:xfrm>
            <a:off x="4067280" y="1989000"/>
            <a:ext cx="4897440" cy="2671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2"/>
          <a:stretch/>
        </p:blipFill>
        <p:spPr>
          <a:xfrm>
            <a:off x="4284720" y="5157720"/>
            <a:ext cx="454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 bus I2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 fonctionna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ject 0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protoc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e de 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d’une adr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d’une do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riture d’une do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d’une do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1158840" y="274680"/>
          <a:ext cx="6826320" cy="58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8840" y="274680"/>
                    <a:ext cx="68263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ag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, horlo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5486400" y="1676520"/>
          <a:ext cx="21416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676520"/>
                    <a:ext cx="21416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26240" y="49356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langag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87000" y="1560600"/>
            <a:ext cx="687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isto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pparu dans les années 1970 dans les laboratoires 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venté par Dennis Ritchie et Ken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Publier par Brian Kernighan et Dennis Rit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250280" y="3809880"/>
            <a:ext cx="50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00320" y="3657600"/>
            <a:ext cx="464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avantages du langage 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a port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a rapid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a taille (beaucoup plus comp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iblement 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cile à appre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20520" y="874800"/>
            <a:ext cx="571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rincipales étapes d’un programme en langage 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criture du programm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a comp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écution du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657600"/>
            <a:ext cx="52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eur = programme informati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traduit le langage source en langage 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0400" y="300816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ompil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86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52440" y="38088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horloge de la fonta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32560" y="1484280"/>
            <a:ext cx="61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but: Programmer l’heure et la date sur un afficheur L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déclencher l’allumage des d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59720" y="300816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d’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5600" y="26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3429000"/>
          <a:ext cx="75438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5438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e de l’horlo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élection du composant à tra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er le port ,configurer le bus I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rer le program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er puis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620640"/>
            <a:ext cx="540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384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ét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schéma en coupe pompe centri"/>
          <p:cNvPicPr/>
          <p:nvPr/>
        </p:nvPicPr>
        <p:blipFill>
          <a:blip r:embed="rId1"/>
          <a:stretch/>
        </p:blipFill>
        <p:spPr>
          <a:xfrm>
            <a:off x="7020000" y="1557360"/>
            <a:ext cx="1817640" cy="230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pompe volum"/>
          <p:cNvPicPr/>
          <p:nvPr/>
        </p:nvPicPr>
        <p:blipFill>
          <a:blip r:embed="rId2"/>
          <a:stretch/>
        </p:blipFill>
        <p:spPr>
          <a:xfrm>
            <a:off x="4643280" y="3429000"/>
            <a:ext cx="20131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é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oblème consiste à incorporer de nouvelles fonctionnalités à une fontaine simple en considérant l’environnement et suivant les besoins des utilisat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9720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754200"/>
            <a:ext cx="518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228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es pompes centrifug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092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95-01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4572000" cy="347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791320" y="1752480"/>
            <a:ext cx="2911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nctionnemen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u de pertes d’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ble coû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200" y="457200"/>
            <a:ext cx="67816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istingue deux types de pompes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mpes a circuit fer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1000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95-03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2125800" cy="1349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37360" y="4027320"/>
            <a:ext cx="463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mpes à circuit ou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95-04" descr=""/>
          <p:cNvPicPr/>
          <p:nvPr/>
        </p:nvPicPr>
        <p:blipFill>
          <a:blip r:embed="rId2"/>
          <a:stretch/>
        </p:blipFill>
        <p:spPr>
          <a:xfrm>
            <a:off x="2590920" y="4572000"/>
            <a:ext cx="15238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441160" y="304920"/>
            <a:ext cx="45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mpes volumét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7880" y="4346640"/>
            <a:ext cx="637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istingue deux sortes de pomp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 pompes volumétriques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 pompes volumétriques ro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mpe volum"/>
          <p:cNvPicPr/>
          <p:nvPr/>
        </p:nvPicPr>
        <p:blipFill>
          <a:blip r:embed="rId1"/>
          <a:stretch/>
        </p:blipFill>
        <p:spPr>
          <a:xfrm>
            <a:off x="3505320" y="1066680"/>
            <a:ext cx="188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5600" y="228600"/>
            <a:ext cx="64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mpes volumétriques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1066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e: Système bielle maniv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764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g076" descr=" "/>
          <p:cNvPicPr/>
          <p:nvPr/>
        </p:nvPicPr>
        <p:blipFill>
          <a:blip r:embed="rId1"/>
          <a:stretch/>
        </p:blipFill>
        <p:spPr>
          <a:xfrm>
            <a:off x="3429000" y="1752480"/>
            <a:ext cx="2629080" cy="1067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3040" y="2971800"/>
            <a:ext cx="31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pompes à pist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478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g077" descr=" "/>
          <p:cNvPicPr/>
          <p:nvPr/>
        </p:nvPicPr>
        <p:blipFill>
          <a:blip r:embed="rId2"/>
          <a:stretch/>
        </p:blipFill>
        <p:spPr>
          <a:xfrm>
            <a:off x="1295280" y="3886200"/>
            <a:ext cx="2849760" cy="2590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30400" y="23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g079" descr=" "/>
          <p:cNvPicPr/>
          <p:nvPr/>
        </p:nvPicPr>
        <p:blipFill>
          <a:blip r:embed="rId3"/>
          <a:stretch/>
        </p:blipFill>
        <p:spPr>
          <a:xfrm>
            <a:off x="5257800" y="3962520"/>
            <a:ext cx="3284640" cy="223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08160" y="2971800"/>
            <a:ext cx="40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pompes à engren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94160" y="155520"/>
            <a:ext cx="51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pompes volumétriques ro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43720" y="1106640"/>
            <a:ext cx="53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existe un grand nombre de pom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" y="2057400"/>
            <a:ext cx="39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pompes à engren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005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g080" descr=" "/>
          <p:cNvPicPr/>
          <p:nvPr/>
        </p:nvPicPr>
        <p:blipFill>
          <a:blip r:embed="rId1"/>
          <a:stretch/>
        </p:blipFill>
        <p:spPr>
          <a:xfrm>
            <a:off x="4648320" y="1752480"/>
            <a:ext cx="2666880" cy="1676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1320" y="411480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pompes à palet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g081" descr=" "/>
          <p:cNvPicPr/>
          <p:nvPr/>
        </p:nvPicPr>
        <p:blipFill>
          <a:blip r:embed="rId2"/>
          <a:stretch/>
        </p:blipFill>
        <p:spPr>
          <a:xfrm>
            <a:off x="3962520" y="3809880"/>
            <a:ext cx="42670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99360" y="965160"/>
            <a:ext cx="26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pompes à 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6396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mg082" descr=" "/>
          <p:cNvPicPr/>
          <p:nvPr/>
        </p:nvPicPr>
        <p:blipFill>
          <a:blip r:embed="rId1"/>
          <a:stretch/>
        </p:blipFill>
        <p:spPr>
          <a:xfrm>
            <a:off x="4495680" y="914400"/>
            <a:ext cx="2514600" cy="2036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0052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g084" descr=" "/>
          <p:cNvPicPr/>
          <p:nvPr/>
        </p:nvPicPr>
        <p:blipFill>
          <a:blip r:embed="rId2"/>
          <a:stretch/>
        </p:blipFill>
        <p:spPr>
          <a:xfrm>
            <a:off x="5105520" y="3886200"/>
            <a:ext cx="3344760" cy="2346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7680" y="403848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pomp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éristalt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brication et mo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des j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786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4600" indent="-80460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tés sur les fonta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ion géné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 électri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I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tion DEL, horlo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 méca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pom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et montage des nouvelles compos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ntiqu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yen-âge et Empire et Age d’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nos j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ion géné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4038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ères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cti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11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on et princ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ude du mo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sortes de mo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agemcc"/>
          <p:cNvPicPr/>
          <p:nvPr/>
        </p:nvPicPr>
        <p:blipFill>
          <a:blip r:embed="rId1"/>
          <a:stretch/>
        </p:blipFill>
        <p:spPr>
          <a:xfrm>
            <a:off x="4716360" y="2374920"/>
            <a:ext cx="3911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stitution et princi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oteur stator"/>
          <p:cNvPicPr/>
          <p:nvPr/>
        </p:nvPicPr>
        <p:blipFill>
          <a:blip r:embed="rId1"/>
          <a:stretch/>
        </p:blipFill>
        <p:spPr>
          <a:xfrm>
            <a:off x="250920" y="1557360"/>
            <a:ext cx="86756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3" descr="moteurcadre.gif"/>
          <p:cNvPicPr/>
          <p:nvPr/>
        </p:nvPicPr>
        <p:blipFill>
          <a:blip r:embed="rId1"/>
          <a:stretch/>
        </p:blipFill>
        <p:spPr>
          <a:xfrm>
            <a:off x="2109960" y="1859040"/>
            <a:ext cx="49240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tude du mo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08:50:39Z</dcterms:created>
  <dc:creator>22SISOUNTHONE</dc:creator>
  <dc:description/>
  <dc:language>en-US</dc:language>
  <cp:lastModifiedBy>6faubert</cp:lastModifiedBy>
  <dcterms:modified xsi:type="dcterms:W3CDTF">2008-04-29T10:10:32Z</dcterms:modified>
  <cp:revision>22</cp:revision>
  <dc:subject/>
  <dc:title>Projet Personnel Encadré</dc:title>
</cp:coreProperties>
</file>