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EF1FD-1694-453D-8FFC-6B9E158391C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B6AD8-08AD-4011-A994-FF3CF4E93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85C7-3A09-4413-8083-40D879CD86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D5A716-D7AE-4DF8-AB2E-E4D0F621F3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CDA2-F97D-4840-8B66-E20652D204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45CA1CF-5EA2-438C-A410-BF4CA4D5EA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E241C-ED7E-4179-B498-E424968C17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4D9B0A1-0925-4EA4-83D0-6FD20BEA74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9EE1E9-7486-48F9-B4D5-D55F95A711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32852-74DE-4F8A-9547-82140CD2FC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4B97CE-85CF-49AB-9FAA-4524F931D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BA7C07-7E30-483D-BD7E-B302F6A71A1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out d’abord on a dû chercher les caractéristiques du composant pour pouvoir trouver la valeur des résistances (R1 et R2) nécessaire au bon fonctionnement du montage. Ensuite on a dû trouver comment intégrer le capteur de façon a ce qu’il tienne a côté du raille du mobile sans changer d’orientation. Pour cela on a fabriqué un support avec des composant d’un jeu de construction puis on a soudé au capteur les résistances nécessaires puis on a fixé le capteur sur le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onnée et form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ngueur du mobile 8,98cm amplitude de5V à 0,4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V=D/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D : est la longueur du mo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T : est le temps de dé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F9495-541A-4325-AD54-9F00791480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1ADAD-EFDC-494F-8B6A-85E81FD861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2B217-258B-4E15-B928-CE8C12B1E7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7A02A-F0F6-40F5-8E98-19B7F6E4189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61EA3-9390-43AC-93FC-55C541A538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A1F650C-3D5F-4019-987B-D0453B8412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Ce décalage se produit lorsqu’il y 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un mouvement entre le récepteur 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 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l’émetteu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	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	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La découverte de 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phénomène est attribué à Christi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 </a:t>
            </a: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Doppler pour les ondes sonores, et 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Hippolyte Fizeau pour les ond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Arial"/>
                <a:ea typeface="Lucida Sans Unicode"/>
              </a:rPr>
              <a:t>magnétiques, au XIX ème siècl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BDD79C-DD48-4C43-BB3F-68FA70310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48CA78-E754-4D36-AB0C-B5123C545F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1F00B-FEC2-4279-8B82-ED861CE0BD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14D6F-0615-40DD-9E42-515162C511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484CC-5163-452C-9BD9-5D46A328FB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99A5-6271-4D84-AF4D-9D919C09E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DEAD-99D1-4655-A959-F1C5D4702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A0B1-3551-4330-8F82-376B8D55B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2C96-D97E-41E8-960D-7E55DF350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8A0EA-7E93-40E7-A4D3-5D98B66EBD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FFD05-D67C-4D30-B623-B442E30821C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E8285-B656-4F2B-8445-38DA72DBA8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5CD2-F2D5-44D9-B901-F293143F9A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F0C15-9D30-4250-B85C-8BA436D2CF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359B3-0130-441A-A8DA-04BF731F99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92C14-8AAF-4D7F-B7C8-71CD42702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6788-7B74-46E1-92DB-A471ABC6B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D7DC-F7B9-4C88-A6CC-43B1F0A66E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BB934-D5A4-43A2-84BE-8F398F3372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6BAC-5512-476C-ABA4-E8EE7ABBAC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BADB7-4187-42DC-A637-4124589E08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1F44-E54E-4F33-84EE-24EE89D1D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DCBE9-CBE5-4D18-AAF8-F3C8D2E04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6F491-B93C-42F0-844C-76BDB9A99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FE61C-A8F2-4718-95E3-8CC5D8A96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1303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6AA12-CD67-494A-9519-F33F98A11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49CEB-FC02-4FC1-A43F-291024F11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D83F-634D-412D-AD3B-E4B5AB8B4F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C274-48B3-46C2-8D50-BB8FEF1FD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1597680" y="-97200"/>
            <a:ext cx="9068760" cy="9064440"/>
            <a:chOff x="-1597680" y="-97200"/>
            <a:chExt cx="9068760" cy="9064440"/>
          </a:xfrm>
        </p:grpSpPr>
        <p:grpSp>
          <p:nvGrpSpPr>
            <p:cNvPr id="1" name="Group 2"/>
            <p:cNvGrpSpPr/>
            <p:nvPr/>
          </p:nvGrpSpPr>
          <p:grpSpPr>
            <a:xfrm>
              <a:off x="-1597680" y="-97200"/>
              <a:ext cx="9068760" cy="9064440"/>
              <a:chOff x="-1597680" y="-97200"/>
              <a:chExt cx="9068760" cy="9064440"/>
            </a:xfrm>
          </p:grpSpPr>
          <p:grpSp>
            <p:nvGrpSpPr>
              <p:cNvPr id="2" name="Group 3"/>
              <p:cNvGrpSpPr/>
              <p:nvPr/>
            </p:nvGrpSpPr>
            <p:grpSpPr>
              <a:xfrm>
                <a:off x="-1597680" y="-97200"/>
                <a:ext cx="9068760" cy="9064440"/>
                <a:chOff x="-1597680" y="-97200"/>
                <a:chExt cx="9068760" cy="9064440"/>
              </a:xfrm>
            </p:grpSpPr>
            <p:sp>
              <p:nvSpPr>
                <p:cNvPr id="3" name="AutoShape 4"/>
                <p:cNvSpPr/>
                <p:nvPr/>
              </p:nvSpPr>
              <p:spPr>
                <a:xfrm>
                  <a:off x="387360" y="190332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5"/>
                <p:cNvGrpSpPr/>
                <p:nvPr/>
              </p:nvGrpSpPr>
              <p:grpSpPr>
                <a:xfrm>
                  <a:off x="-1597680" y="-97200"/>
                  <a:ext cx="9068760" cy="9064440"/>
                  <a:chOff x="-1597680" y="-97200"/>
                  <a:chExt cx="9068760" cy="9064440"/>
                </a:xfrm>
              </p:grpSpPr>
              <p:sp>
                <p:nvSpPr>
                  <p:cNvPr id="5" name="AutoShape 6"/>
                  <p:cNvSpPr/>
                  <p:nvPr/>
                </p:nvSpPr>
                <p:spPr>
                  <a:xfrm>
                    <a:off x="25560" y="1227240"/>
                    <a:ext cx="6292800" cy="555768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AutoShape 7"/>
                  <p:cNvSpPr/>
                  <p:nvPr/>
                </p:nvSpPr>
                <p:spPr>
                  <a:xfrm>
                    <a:off x="34920" y="144612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AutoShape 8"/>
                  <p:cNvSpPr/>
                  <p:nvPr/>
                </p:nvSpPr>
                <p:spPr>
                  <a:xfrm>
                    <a:off x="206280" y="1665360"/>
                    <a:ext cx="5616720" cy="511956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9"/>
                  <p:cNvGrpSpPr/>
                  <p:nvPr/>
                </p:nvGrpSpPr>
                <p:grpSpPr>
                  <a:xfrm>
                    <a:off x="-1597680" y="-97200"/>
                    <a:ext cx="9068760" cy="9064440"/>
                    <a:chOff x="-1597680" y="-97200"/>
                    <a:chExt cx="9068760" cy="9064440"/>
                  </a:xfrm>
                </p:grpSpPr>
                <p:sp>
                  <p:nvSpPr>
                    <p:cNvPr id="9" name="AutoShape 10"/>
                    <p:cNvSpPr/>
                    <p:nvPr/>
                  </p:nvSpPr>
                  <p:spPr>
                    <a:xfrm>
                      <a:off x="25200" y="762120"/>
                      <a:ext cx="6767280" cy="602100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1"/>
                    <p:cNvGrpSpPr/>
                    <p:nvPr/>
                  </p:nvGrpSpPr>
                  <p:grpSpPr>
                    <a:xfrm>
                      <a:off x="-1597680" y="-97200"/>
                      <a:ext cx="9068760" cy="9064440"/>
                      <a:chOff x="-1597680" y="-97200"/>
                      <a:chExt cx="9068760" cy="9064440"/>
                    </a:xfrm>
                  </p:grpSpPr>
                  <p:sp>
                    <p:nvSpPr>
                      <p:cNvPr id="11" name="AutoShape 12"/>
                      <p:cNvSpPr/>
                      <p:nvPr/>
                    </p:nvSpPr>
                    <p:spPr>
                      <a:xfrm>
                        <a:off x="25200" y="978840"/>
                        <a:ext cx="6540120" cy="580356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1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3"/>
                      <p:cNvGrpSpPr/>
                      <p:nvPr/>
                    </p:nvGrpSpPr>
                    <p:grpSpPr>
                      <a:xfrm>
                        <a:off x="-1597680" y="-97200"/>
                        <a:ext cx="9068760" cy="9064440"/>
                        <a:chOff x="-1597680" y="-97200"/>
                        <a:chExt cx="9068760" cy="9064440"/>
                      </a:xfrm>
                    </p:grpSpPr>
                    <p:sp>
                      <p:nvSpPr>
                        <p:cNvPr id="13" name="Line 14"/>
                        <p:cNvSpPr/>
                        <p:nvPr/>
                      </p:nvSpPr>
                      <p:spPr>
                        <a:xfrm flipH="1" flipV="1">
                          <a:off x="2238480" y="930960"/>
                          <a:ext cx="321840" cy="360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5"/>
                        <p:cNvSpPr/>
                        <p:nvPr/>
                      </p:nvSpPr>
                      <p:spPr>
                        <a:xfrm flipH="1" flipV="1">
                          <a:off x="10440" y="2611800"/>
                          <a:ext cx="24116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6"/>
                        <p:cNvSpPr/>
                        <p:nvPr/>
                      </p:nvSpPr>
                      <p:spPr>
                        <a:xfrm flipH="1" flipV="1">
                          <a:off x="24840" y="2224080"/>
                          <a:ext cx="2405160" cy="2341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7"/>
                        <p:cNvSpPr/>
                        <p:nvPr/>
                      </p:nvSpPr>
                      <p:spPr>
                        <a:xfrm flipH="1" flipV="1">
                          <a:off x="23400" y="1740600"/>
                          <a:ext cx="2416320" cy="2814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8"/>
                        <p:cNvSpPr/>
                        <p:nvPr/>
                      </p:nvSpPr>
                      <p:spPr>
                        <a:xfrm flipH="1" flipV="1">
                          <a:off x="37440" y="1171080"/>
                          <a:ext cx="2406600" cy="337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19"/>
                        <p:cNvSpPr/>
                        <p:nvPr/>
                      </p:nvSpPr>
                      <p:spPr>
                        <a:xfrm flipH="1" flipV="1">
                          <a:off x="1108800" y="769320"/>
                          <a:ext cx="1401120" cy="376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0"/>
                        <p:cNvSpPr/>
                        <p:nvPr/>
                      </p:nvSpPr>
                      <p:spPr>
                        <a:xfrm flipH="1" flipV="1">
                          <a:off x="24840" y="2974680"/>
                          <a:ext cx="2389320" cy="1618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1"/>
                        <p:cNvSpPr/>
                        <p:nvPr/>
                      </p:nvSpPr>
                      <p:spPr>
                        <a:xfrm flipH="1" flipV="1">
                          <a:off x="20160" y="3286080"/>
                          <a:ext cx="2391120" cy="132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2"/>
                        <p:cNvSpPr/>
                        <p:nvPr/>
                      </p:nvSpPr>
                      <p:spPr>
                        <a:xfrm flipH="1">
                          <a:off x="667440" y="4744440"/>
                          <a:ext cx="178992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3"/>
                        <p:cNvSpPr/>
                        <p:nvPr/>
                      </p:nvSpPr>
                      <p:spPr>
                        <a:xfrm flipH="1" flipV="1">
                          <a:off x="200880" y="4521960"/>
                          <a:ext cx="223380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4"/>
                        <p:cNvSpPr/>
                        <p:nvPr/>
                      </p:nvSpPr>
                      <p:spPr>
                        <a:xfrm flipH="1" flipV="1">
                          <a:off x="23400" y="3818880"/>
                          <a:ext cx="2394000" cy="83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5"/>
                        <p:cNvSpPr/>
                        <p:nvPr/>
                      </p:nvSpPr>
                      <p:spPr>
                        <a:xfrm flipH="1">
                          <a:off x="1554840" y="4820400"/>
                          <a:ext cx="975600" cy="135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6"/>
                        <p:cNvSpPr/>
                        <p:nvPr/>
                      </p:nvSpPr>
                      <p:spPr>
                        <a:xfrm flipH="1">
                          <a:off x="1683000" y="4831560"/>
                          <a:ext cx="856440" cy="1448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7"/>
                        <p:cNvSpPr/>
                        <p:nvPr/>
                      </p:nvSpPr>
                      <p:spPr>
                        <a:xfrm flipH="1">
                          <a:off x="1802160" y="4831560"/>
                          <a:ext cx="742320" cy="154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8"/>
                        <p:cNvSpPr/>
                        <p:nvPr/>
                      </p:nvSpPr>
                      <p:spPr>
                        <a:xfrm flipH="1">
                          <a:off x="1931760" y="4836240"/>
                          <a:ext cx="620280" cy="1650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29"/>
                        <p:cNvSpPr/>
                        <p:nvPr/>
                      </p:nvSpPr>
                      <p:spPr>
                        <a:xfrm flipH="1">
                          <a:off x="2079720" y="4847400"/>
                          <a:ext cx="482400" cy="17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0"/>
                        <p:cNvSpPr/>
                        <p:nvPr/>
                      </p:nvSpPr>
                      <p:spPr>
                        <a:xfrm flipH="1">
                          <a:off x="2227320" y="4850640"/>
                          <a:ext cx="342720" cy="187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1"/>
                        <p:cNvSpPr/>
                        <p:nvPr/>
                      </p:nvSpPr>
                      <p:spPr>
                        <a:xfrm flipH="1">
                          <a:off x="2592000" y="4871160"/>
                          <a:ext cx="7920" cy="192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2"/>
                        <p:cNvSpPr/>
                        <p:nvPr/>
                      </p:nvSpPr>
                      <p:spPr>
                        <a:xfrm>
                          <a:off x="2612880" y="4874400"/>
                          <a:ext cx="16956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3"/>
                        <p:cNvSpPr/>
                        <p:nvPr/>
                      </p:nvSpPr>
                      <p:spPr>
                        <a:xfrm>
                          <a:off x="2631960" y="4883760"/>
                          <a:ext cx="331200" cy="189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4"/>
                        <p:cNvSpPr/>
                        <p:nvPr/>
                      </p:nvSpPr>
                      <p:spPr>
                        <a:xfrm>
                          <a:off x="2652480" y="4885200"/>
                          <a:ext cx="512280" cy="19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5"/>
                        <p:cNvSpPr/>
                        <p:nvPr/>
                      </p:nvSpPr>
                      <p:spPr>
                        <a:xfrm>
                          <a:off x="2671560" y="4885200"/>
                          <a:ext cx="693360" cy="190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6"/>
                        <p:cNvSpPr/>
                        <p:nvPr/>
                      </p:nvSpPr>
                      <p:spPr>
                        <a:xfrm>
                          <a:off x="2682720" y="4885200"/>
                          <a:ext cx="893160" cy="1889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7"/>
                        <p:cNvSpPr/>
                        <p:nvPr/>
                      </p:nvSpPr>
                      <p:spPr>
                        <a:xfrm>
                          <a:off x="2707920" y="4889880"/>
                          <a:ext cx="1102680" cy="1891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8"/>
                        <p:cNvSpPr/>
                        <p:nvPr/>
                      </p:nvSpPr>
                      <p:spPr>
                        <a:xfrm>
                          <a:off x="2725560" y="4883760"/>
                          <a:ext cx="1347120" cy="191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39"/>
                        <p:cNvSpPr/>
                        <p:nvPr/>
                      </p:nvSpPr>
                      <p:spPr>
                        <a:xfrm>
                          <a:off x="2747880" y="4879080"/>
                          <a:ext cx="1622880" cy="19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0"/>
                        <p:cNvSpPr/>
                        <p:nvPr/>
                      </p:nvSpPr>
                      <p:spPr>
                        <a:xfrm>
                          <a:off x="2759040" y="4863240"/>
                          <a:ext cx="19418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1"/>
                        <p:cNvSpPr/>
                        <p:nvPr/>
                      </p:nvSpPr>
                      <p:spPr>
                        <a:xfrm>
                          <a:off x="2765160" y="4850640"/>
                          <a:ext cx="2357640" cy="193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2"/>
                        <p:cNvSpPr/>
                        <p:nvPr/>
                      </p:nvSpPr>
                      <p:spPr>
                        <a:xfrm>
                          <a:off x="2777760" y="4841280"/>
                          <a:ext cx="2859120" cy="1949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3"/>
                        <p:cNvSpPr/>
                        <p:nvPr/>
                      </p:nvSpPr>
                      <p:spPr>
                        <a:xfrm>
                          <a:off x="2784240" y="482364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4"/>
                        <p:cNvSpPr/>
                        <p:nvPr/>
                      </p:nvSpPr>
                      <p:spPr>
                        <a:xfrm>
                          <a:off x="2784240" y="4806360"/>
                          <a:ext cx="3955680" cy="178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5"/>
                        <p:cNvSpPr/>
                        <p:nvPr/>
                      </p:nvSpPr>
                      <p:spPr>
                        <a:xfrm>
                          <a:off x="2787480" y="4788720"/>
                          <a:ext cx="3992040" cy="1394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6"/>
                        <p:cNvSpPr/>
                        <p:nvPr/>
                      </p:nvSpPr>
                      <p:spPr>
                        <a:xfrm>
                          <a:off x="2777760" y="4745880"/>
                          <a:ext cx="3908160" cy="65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7"/>
                        <p:cNvSpPr/>
                        <p:nvPr/>
                      </p:nvSpPr>
                      <p:spPr>
                        <a:xfrm flipV="1">
                          <a:off x="2739960" y="3796560"/>
                          <a:ext cx="3217680" cy="886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8"/>
                        <p:cNvSpPr/>
                        <p:nvPr/>
                      </p:nvSpPr>
                      <p:spPr>
                        <a:xfrm flipV="1">
                          <a:off x="2727000" y="3277800"/>
                          <a:ext cx="2921040" cy="1378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AutoShape 49"/>
                        <p:cNvSpPr/>
                        <p:nvPr/>
                      </p:nvSpPr>
                      <p:spPr>
                        <a:xfrm>
                          <a:off x="25200" y="3978000"/>
                          <a:ext cx="2446200" cy="280476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0"/>
                        <p:cNvGrpSpPr/>
                        <p:nvPr/>
                      </p:nvGrpSpPr>
                      <p:grpSpPr>
                        <a:xfrm>
                          <a:off x="-1597680" y="-97200"/>
                          <a:ext cx="9068760" cy="9064440"/>
                          <a:chOff x="-1597680" y="-97200"/>
                          <a:chExt cx="9068760" cy="9064440"/>
                        </a:xfrm>
                      </p:grpSpPr>
                      <p:sp>
                        <p:nvSpPr>
                          <p:cNvPr id="50" name="Oval 51"/>
                          <p:cNvSpPr/>
                          <p:nvPr/>
                        </p:nvSpPr>
                        <p:spPr>
                          <a:xfrm rot="18780000">
                            <a:off x="2304720" y="4719960"/>
                            <a:ext cx="500760" cy="492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2"/>
                          <p:cNvSpPr/>
                          <p:nvPr/>
                        </p:nvSpPr>
                        <p:spPr>
                          <a:xfrm rot="18780000">
                            <a:off x="2131560" y="4493160"/>
                            <a:ext cx="873720" cy="8841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3"/>
                          <p:cNvSpPr/>
                          <p:nvPr/>
                        </p:nvSpPr>
                        <p:spPr>
                          <a:xfrm rot="18780000">
                            <a:off x="1869120" y="4121280"/>
                            <a:ext cx="1464840" cy="14295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4"/>
                          <p:cNvSpPr/>
                          <p:nvPr/>
                        </p:nvSpPr>
                        <p:spPr>
                          <a:xfrm rot="18780000">
                            <a:off x="1663560" y="3828600"/>
                            <a:ext cx="1937520" cy="1985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5"/>
                          <p:cNvSpPr/>
                          <p:nvPr/>
                        </p:nvSpPr>
                        <p:spPr>
                          <a:xfrm rot="18780000">
                            <a:off x="1445760" y="3432600"/>
                            <a:ext cx="2444760" cy="2579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6"/>
                          <p:cNvSpPr/>
                          <p:nvPr/>
                        </p:nvSpPr>
                        <p:spPr>
                          <a:xfrm rot="18780000">
                            <a:off x="1218240" y="3146040"/>
                            <a:ext cx="3022920" cy="3128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7"/>
                          <p:cNvSpPr/>
                          <p:nvPr/>
                        </p:nvSpPr>
                        <p:spPr>
                          <a:xfrm rot="18780000">
                            <a:off x="942480" y="2823840"/>
                            <a:ext cx="3629520" cy="368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8"/>
                          <p:cNvSpPr/>
                          <p:nvPr/>
                        </p:nvSpPr>
                        <p:spPr>
                          <a:xfrm rot="18780000">
                            <a:off x="697320" y="2502000"/>
                            <a:ext cx="4186080" cy="4216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59"/>
                          <p:cNvSpPr/>
                          <p:nvPr/>
                        </p:nvSpPr>
                        <p:spPr>
                          <a:xfrm rot="18780000">
                            <a:off x="398160" y="2207880"/>
                            <a:ext cx="4861440" cy="4740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0"/>
                          <p:cNvSpPr/>
                          <p:nvPr/>
                        </p:nvSpPr>
                        <p:spPr>
                          <a:xfrm rot="18780000">
                            <a:off x="182160" y="1869480"/>
                            <a:ext cx="5321880" cy="530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1"/>
                          <p:cNvSpPr/>
                          <p:nvPr/>
                        </p:nvSpPr>
                        <p:spPr>
                          <a:xfrm rot="18720000">
                            <a:off x="-29880" y="1554480"/>
                            <a:ext cx="5848200" cy="5882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2"/>
                          <p:cNvSpPr/>
                          <p:nvPr/>
                        </p:nvSpPr>
                        <p:spPr>
                          <a:xfrm rot="18780000">
                            <a:off x="-249840" y="1206360"/>
                            <a:ext cx="6373080" cy="6456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3"/>
                        <p:cNvSpPr/>
                        <p:nvPr/>
                      </p:nvSpPr>
                      <p:spPr>
                        <a:xfrm flipV="1">
                          <a:off x="2652480" y="1779840"/>
                          <a:ext cx="1318680" cy="28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4"/>
                        <p:cNvSpPr/>
                        <p:nvPr/>
                      </p:nvSpPr>
                      <p:spPr>
                        <a:xfrm flipV="1">
                          <a:off x="2665080" y="2132280"/>
                          <a:ext cx="1765800" cy="246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5"/>
                        <p:cNvSpPr/>
                        <p:nvPr/>
                      </p:nvSpPr>
                      <p:spPr>
                        <a:xfrm flipV="1">
                          <a:off x="2666880" y="1935720"/>
                          <a:ext cx="1553040" cy="26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6"/>
                        <p:cNvSpPr/>
                        <p:nvPr/>
                      </p:nvSpPr>
                      <p:spPr>
                        <a:xfrm flipV="1">
                          <a:off x="2674800" y="2291040"/>
                          <a:ext cx="1975320" cy="231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7"/>
                        <p:cNvSpPr/>
                        <p:nvPr/>
                      </p:nvSpPr>
                      <p:spPr>
                        <a:xfrm flipV="1">
                          <a:off x="2682720" y="2467440"/>
                          <a:ext cx="2212920" cy="2146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8"/>
                        <p:cNvSpPr/>
                        <p:nvPr/>
                      </p:nvSpPr>
                      <p:spPr>
                        <a:xfrm flipV="1">
                          <a:off x="2701800" y="2882520"/>
                          <a:ext cx="2535120" cy="1749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69"/>
                        <p:cNvSpPr/>
                        <p:nvPr/>
                      </p:nvSpPr>
                      <p:spPr>
                        <a:xfrm flipV="1">
                          <a:off x="2714400" y="3093840"/>
                          <a:ext cx="2706840" cy="154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0"/>
                        <p:cNvSpPr/>
                        <p:nvPr/>
                      </p:nvSpPr>
                      <p:spPr>
                        <a:xfrm flipV="1">
                          <a:off x="2736720" y="3555720"/>
                          <a:ext cx="3028680" cy="1116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1"/>
                        <p:cNvSpPr/>
                        <p:nvPr/>
                      </p:nvSpPr>
                      <p:spPr>
                        <a:xfrm flipV="1">
                          <a:off x="2747880" y="4041000"/>
                          <a:ext cx="3371400" cy="649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2"/>
                        <p:cNvSpPr/>
                        <p:nvPr/>
                      </p:nvSpPr>
                      <p:spPr>
                        <a:xfrm flipV="1">
                          <a:off x="2752560" y="4375800"/>
                          <a:ext cx="354600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3"/>
                        <p:cNvSpPr/>
                        <p:nvPr/>
                      </p:nvSpPr>
                      <p:spPr>
                        <a:xfrm flipV="1">
                          <a:off x="2750760" y="4701600"/>
                          <a:ext cx="370152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4"/>
                        <p:cNvSpPr/>
                        <p:nvPr/>
                      </p:nvSpPr>
                      <p:spPr>
                        <a:xfrm>
                          <a:off x="2768400" y="4723560"/>
                          <a:ext cx="3826800" cy="315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5"/>
                        <p:cNvSpPr/>
                        <p:nvPr/>
                      </p:nvSpPr>
                      <p:spPr>
                        <a:xfrm>
                          <a:off x="2785680" y="4768200"/>
                          <a:ext cx="3987360" cy="10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6"/>
                        <p:cNvSpPr/>
                        <p:nvPr/>
                      </p:nvSpPr>
                      <p:spPr>
                        <a:xfrm flipH="1">
                          <a:off x="2413080" y="4861800"/>
                          <a:ext cx="17424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7"/>
                        <p:cNvSpPr/>
                        <p:nvPr/>
                      </p:nvSpPr>
                      <p:spPr>
                        <a:xfrm flipH="1">
                          <a:off x="1444680" y="4809240"/>
                          <a:ext cx="106452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8"/>
                        <p:cNvSpPr/>
                        <p:nvPr/>
                      </p:nvSpPr>
                      <p:spPr>
                        <a:xfrm flipH="1">
                          <a:off x="1333800" y="4796640"/>
                          <a:ext cx="116604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79"/>
                        <p:cNvSpPr/>
                        <p:nvPr/>
                      </p:nvSpPr>
                      <p:spPr>
                        <a:xfrm flipH="1">
                          <a:off x="1216440" y="4788720"/>
                          <a:ext cx="1277280" cy="1067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0"/>
                        <p:cNvSpPr/>
                        <p:nvPr/>
                      </p:nvSpPr>
                      <p:spPr>
                        <a:xfrm flipH="1">
                          <a:off x="1113840" y="4777560"/>
                          <a:ext cx="137376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1"/>
                        <p:cNvSpPr/>
                        <p:nvPr/>
                      </p:nvSpPr>
                      <p:spPr>
                        <a:xfrm flipH="1">
                          <a:off x="1007280" y="4771440"/>
                          <a:ext cx="1465920" cy="857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2"/>
                        <p:cNvSpPr/>
                        <p:nvPr/>
                      </p:nvSpPr>
                      <p:spPr>
                        <a:xfrm flipH="1">
                          <a:off x="894600" y="4760280"/>
                          <a:ext cx="157536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3"/>
                        <p:cNvSpPr/>
                        <p:nvPr/>
                      </p:nvSpPr>
                      <p:spPr>
                        <a:xfrm flipH="1">
                          <a:off x="780120" y="4750560"/>
                          <a:ext cx="168300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4"/>
                        <p:cNvSpPr/>
                        <p:nvPr/>
                      </p:nvSpPr>
                      <p:spPr>
                        <a:xfrm flipH="1">
                          <a:off x="562320" y="4733280"/>
                          <a:ext cx="188820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5"/>
                        <p:cNvSpPr/>
                        <p:nvPr/>
                      </p:nvSpPr>
                      <p:spPr>
                        <a:xfrm flipH="1">
                          <a:off x="440640" y="4723560"/>
                          <a:ext cx="2003760" cy="187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6"/>
                        <p:cNvSpPr/>
                        <p:nvPr/>
                      </p:nvSpPr>
                      <p:spPr>
                        <a:xfrm flipH="1">
                          <a:off x="315720" y="4710960"/>
                          <a:ext cx="212112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7"/>
                        <p:cNvSpPr/>
                        <p:nvPr/>
                      </p:nvSpPr>
                      <p:spPr>
                        <a:xfrm flipH="1" flipV="1">
                          <a:off x="64440" y="4294800"/>
                          <a:ext cx="236556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8"/>
                        <p:cNvSpPr/>
                        <p:nvPr/>
                      </p:nvSpPr>
                      <p:spPr>
                        <a:xfrm flipH="1" flipV="1">
                          <a:off x="23400" y="4060440"/>
                          <a:ext cx="2399040" cy="609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89"/>
                        <p:cNvSpPr/>
                        <p:nvPr/>
                      </p:nvSpPr>
                      <p:spPr>
                        <a:xfrm flipH="1" flipV="1">
                          <a:off x="21960" y="3556800"/>
                          <a:ext cx="2392560" cy="1080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0"/>
                        <p:cNvSpPr/>
                        <p:nvPr/>
                      </p:nvSpPr>
                      <p:spPr>
                        <a:xfrm flipH="1" flipV="1">
                          <a:off x="359640" y="972720"/>
                          <a:ext cx="2097720" cy="3564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1"/>
                        <p:cNvSpPr/>
                        <p:nvPr/>
                      </p:nvSpPr>
                      <p:spPr>
                        <a:xfrm flipH="1" flipV="1">
                          <a:off x="721080" y="830880"/>
                          <a:ext cx="1757880" cy="3704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2"/>
                        <p:cNvSpPr/>
                        <p:nvPr/>
                      </p:nvSpPr>
                      <p:spPr>
                        <a:xfrm flipH="1" flipV="1">
                          <a:off x="1503720" y="786960"/>
                          <a:ext cx="1021680" cy="3741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3"/>
                        <p:cNvSpPr/>
                        <p:nvPr/>
                      </p:nvSpPr>
                      <p:spPr>
                        <a:xfrm flipH="1" flipV="1">
                          <a:off x="1854000" y="839160"/>
                          <a:ext cx="688680" cy="3693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4"/>
                        <p:cNvSpPr/>
                        <p:nvPr/>
                      </p:nvSpPr>
                      <p:spPr>
                        <a:xfrm flipV="1">
                          <a:off x="2574720" y="1042560"/>
                          <a:ext cx="4320" cy="349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5"/>
                        <p:cNvSpPr/>
                        <p:nvPr/>
                      </p:nvSpPr>
                      <p:spPr>
                        <a:xfrm flipV="1">
                          <a:off x="2595240" y="1166400"/>
                          <a:ext cx="304560" cy="3381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6"/>
                        <p:cNvSpPr/>
                        <p:nvPr/>
                      </p:nvSpPr>
                      <p:spPr>
                        <a:xfrm flipV="1">
                          <a:off x="2606400" y="1310400"/>
                          <a:ext cx="585360" cy="324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7"/>
                        <p:cNvSpPr/>
                        <p:nvPr/>
                      </p:nvSpPr>
                      <p:spPr>
                        <a:xfrm flipV="1">
                          <a:off x="2620800" y="1459440"/>
                          <a:ext cx="845280" cy="3107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8"/>
                        <p:cNvSpPr/>
                        <p:nvPr/>
                      </p:nvSpPr>
                      <p:spPr>
                        <a:xfrm flipV="1">
                          <a:off x="2633400" y="1626120"/>
                          <a:ext cx="1094760" cy="2945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99"/>
              <p:cNvGrpSpPr/>
              <p:nvPr/>
            </p:nvGrpSpPr>
            <p:grpSpPr>
              <a:xfrm>
                <a:off x="28440" y="2679480"/>
                <a:ext cx="5016600" cy="4111200"/>
                <a:chOff x="28440" y="2679480"/>
                <a:chExt cx="5016600" cy="4111200"/>
              </a:xfrm>
            </p:grpSpPr>
            <p:sp>
              <p:nvSpPr>
                <p:cNvPr id="99" name="Line 100"/>
                <p:cNvSpPr/>
                <p:nvPr/>
              </p:nvSpPr>
              <p:spPr>
                <a:xfrm flipV="1">
                  <a:off x="2695680" y="2679480"/>
                  <a:ext cx="2349360" cy="195012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1"/>
                <p:cNvSpPr/>
                <p:nvPr/>
              </p:nvSpPr>
              <p:spPr>
                <a:xfrm flipH="1" flipV="1">
                  <a:off x="1403280" y="6051600"/>
                  <a:ext cx="357120" cy="73800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2"/>
                <p:cNvGrpSpPr/>
                <p:nvPr/>
              </p:nvGrpSpPr>
              <p:grpSpPr>
                <a:xfrm>
                  <a:off x="28440" y="4282200"/>
                  <a:ext cx="2088720" cy="2508480"/>
                  <a:chOff x="28440" y="4282200"/>
                  <a:chExt cx="2088720" cy="2508480"/>
                </a:xfrm>
              </p:grpSpPr>
              <p:sp>
                <p:nvSpPr>
                  <p:cNvPr id="102" name="Line 103"/>
                  <p:cNvSpPr/>
                  <p:nvPr/>
                </p:nvSpPr>
                <p:spPr>
                  <a:xfrm flipH="1">
                    <a:off x="1128960" y="6053760"/>
                    <a:ext cx="2772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AutoShape 104"/>
                  <p:cNvSpPr/>
                  <p:nvPr/>
                </p:nvSpPr>
                <p:spPr>
                  <a:xfrm>
                    <a:off x="30960" y="5044680"/>
                    <a:ext cx="1593720" cy="17460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5"/>
                  <p:cNvSpPr/>
                  <p:nvPr/>
                </p:nvSpPr>
                <p:spPr>
                  <a:xfrm flipH="1">
                    <a:off x="1992240" y="6649560"/>
                    <a:ext cx="12492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6"/>
                  <p:cNvSpPr/>
                  <p:nvPr/>
                </p:nvSpPr>
                <p:spPr>
                  <a:xfrm flipH="1" flipV="1">
                    <a:off x="563400" y="5755680"/>
                    <a:ext cx="846000" cy="2962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7"/>
                  <p:cNvSpPr/>
                  <p:nvPr/>
                </p:nvSpPr>
                <p:spPr>
                  <a:xfrm flipH="1" flipV="1">
                    <a:off x="399960" y="4857840"/>
                    <a:ext cx="163080" cy="9014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8"/>
                  <p:cNvSpPr/>
                  <p:nvPr/>
                </p:nvSpPr>
                <p:spPr>
                  <a:xfrm flipH="1" flipV="1">
                    <a:off x="28440" y="4711680"/>
                    <a:ext cx="375120" cy="1490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09"/>
                  <p:cNvSpPr/>
                  <p:nvPr/>
                </p:nvSpPr>
                <p:spPr>
                  <a:xfrm flipV="1">
                    <a:off x="113760" y="4857840"/>
                    <a:ext cx="288000" cy="310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0"/>
                  <p:cNvSpPr/>
                  <p:nvPr/>
                </p:nvSpPr>
                <p:spPr>
                  <a:xfrm flipH="1">
                    <a:off x="556560" y="545328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1"/>
                  <p:cNvSpPr/>
                  <p:nvPr/>
                </p:nvSpPr>
                <p:spPr>
                  <a:xfrm flipV="1">
                    <a:off x="32760" y="4282200"/>
                    <a:ext cx="2196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2"/>
            <p:cNvGrpSpPr/>
            <p:nvPr/>
          </p:nvGrpSpPr>
          <p:grpSpPr>
            <a:xfrm>
              <a:off x="25560" y="2104920"/>
              <a:ext cx="5160960" cy="4678200"/>
              <a:chOff x="25560" y="2104920"/>
              <a:chExt cx="5160960" cy="4678200"/>
            </a:xfrm>
          </p:grpSpPr>
          <p:sp>
            <p:nvSpPr>
              <p:cNvPr id="112" name="AutoShape 113"/>
              <p:cNvSpPr/>
              <p:nvPr/>
            </p:nvSpPr>
            <p:spPr>
              <a:xfrm>
                <a:off x="25560" y="4215600"/>
                <a:ext cx="2260440" cy="256752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AutoShape 114"/>
              <p:cNvSpPr/>
              <p:nvPr/>
            </p:nvSpPr>
            <p:spPr>
              <a:xfrm>
                <a:off x="25560" y="3587040"/>
                <a:ext cx="2625840" cy="319608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5"/>
              <p:cNvSpPr/>
              <p:nvPr/>
            </p:nvSpPr>
            <p:spPr>
              <a:xfrm rot="19080000">
                <a:off x="3121200" y="3047400"/>
                <a:ext cx="212364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6"/>
              <p:cNvSpPr/>
              <p:nvPr/>
            </p:nvSpPr>
            <p:spPr>
              <a:xfrm rot="16500000">
                <a:off x="3063960" y="4150080"/>
                <a:ext cx="35179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7"/>
              <p:cNvSpPr/>
              <p:nvPr/>
            </p:nvSpPr>
            <p:spPr>
              <a:xfrm rot="18180000">
                <a:off x="1576080" y="427608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8"/>
              <p:cNvSpPr/>
              <p:nvPr/>
            </p:nvSpPr>
            <p:spPr>
              <a:xfrm rot="20760000">
                <a:off x="1080360" y="2774520"/>
                <a:ext cx="375156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19"/>
              <p:cNvGrpSpPr/>
              <p:nvPr/>
            </p:nvGrpSpPr>
            <p:grpSpPr>
              <a:xfrm>
                <a:off x="4615560" y="2104920"/>
                <a:ext cx="570960" cy="520920"/>
                <a:chOff x="4615560" y="2104920"/>
                <a:chExt cx="570960" cy="520920"/>
              </a:xfrm>
            </p:grpSpPr>
            <p:sp>
              <p:nvSpPr>
                <p:cNvPr id="119" name="Oval 120"/>
                <p:cNvSpPr/>
                <p:nvPr/>
              </p:nvSpPr>
              <p:spPr>
                <a:xfrm rot="2820000">
                  <a:off x="4642200" y="2325240"/>
                  <a:ext cx="327240" cy="214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AutoShape 121"/>
                <p:cNvSpPr/>
                <p:nvPr/>
              </p:nvSpPr>
              <p:spPr>
                <a:xfrm>
                  <a:off x="4736160" y="2231640"/>
                  <a:ext cx="301680" cy="25776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AutoShape 122"/>
                <p:cNvSpPr/>
                <p:nvPr/>
              </p:nvSpPr>
              <p:spPr>
                <a:xfrm>
                  <a:off x="4834440" y="2220120"/>
                  <a:ext cx="216360" cy="1807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AutoShape 123"/>
                <p:cNvSpPr/>
                <p:nvPr/>
              </p:nvSpPr>
              <p:spPr>
                <a:xfrm>
                  <a:off x="4911480" y="2112840"/>
                  <a:ext cx="269640" cy="230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AutoShape 124"/>
                <p:cNvSpPr/>
                <p:nvPr/>
              </p:nvSpPr>
              <p:spPr>
                <a:xfrm>
                  <a:off x="5081040" y="2104920"/>
                  <a:ext cx="105480" cy="85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Text Box 125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Text Box 12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9BD587-D740-48CC-8D44-49D3D1C65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1"/>
          <p:cNvGrpSpPr/>
          <p:nvPr/>
        </p:nvGrpSpPr>
        <p:grpSpPr>
          <a:xfrm>
            <a:off x="-1622160" y="-61560"/>
            <a:ext cx="9069840" cy="9065880"/>
            <a:chOff x="-1622160" y="-61560"/>
            <a:chExt cx="9069840" cy="9065880"/>
          </a:xfrm>
        </p:grpSpPr>
        <p:grpSp>
          <p:nvGrpSpPr>
            <p:cNvPr id="166" name="Group 2"/>
            <p:cNvGrpSpPr/>
            <p:nvPr/>
          </p:nvGrpSpPr>
          <p:grpSpPr>
            <a:xfrm>
              <a:off x="-1622160" y="-61560"/>
              <a:ext cx="9069840" cy="9065880"/>
              <a:chOff x="-1622160" y="-61560"/>
              <a:chExt cx="9069840" cy="9065880"/>
            </a:xfrm>
          </p:grpSpPr>
          <p:grpSp>
            <p:nvGrpSpPr>
              <p:cNvPr id="167" name="Group 3"/>
              <p:cNvGrpSpPr/>
              <p:nvPr/>
            </p:nvGrpSpPr>
            <p:grpSpPr>
              <a:xfrm>
                <a:off x="-1622160" y="-61560"/>
                <a:ext cx="9069840" cy="9065880"/>
                <a:chOff x="-1622160" y="-61560"/>
                <a:chExt cx="9069840" cy="9065880"/>
              </a:xfrm>
            </p:grpSpPr>
            <p:sp>
              <p:nvSpPr>
                <p:cNvPr id="168" name="AutoShape 4"/>
                <p:cNvSpPr/>
                <p:nvPr/>
              </p:nvSpPr>
              <p:spPr>
                <a:xfrm>
                  <a:off x="363600" y="1940040"/>
                  <a:ext cx="5208480" cy="4881600"/>
                </a:xfrm>
                <a:prstGeom prst="pie">
                  <a:avLst/>
                </a:pr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5"/>
                <p:cNvGrpSpPr/>
                <p:nvPr/>
              </p:nvGrpSpPr>
              <p:grpSpPr>
                <a:xfrm>
                  <a:off x="-1622160" y="-61560"/>
                  <a:ext cx="9069840" cy="9065880"/>
                  <a:chOff x="-1622160" y="-61560"/>
                  <a:chExt cx="9069840" cy="9065880"/>
                </a:xfrm>
              </p:grpSpPr>
              <p:sp>
                <p:nvSpPr>
                  <p:cNvPr id="170" name="AutoShape 6"/>
                  <p:cNvSpPr/>
                  <p:nvPr/>
                </p:nvSpPr>
                <p:spPr>
                  <a:xfrm>
                    <a:off x="1440" y="1263600"/>
                    <a:ext cx="6293160" cy="555804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AutoShape 7"/>
                  <p:cNvSpPr/>
                  <p:nvPr/>
                </p:nvSpPr>
                <p:spPr>
                  <a:xfrm>
                    <a:off x="11160" y="1482840"/>
                    <a:ext cx="6037200" cy="533880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AutoShape 8"/>
                  <p:cNvSpPr/>
                  <p:nvPr/>
                </p:nvSpPr>
                <p:spPr>
                  <a:xfrm>
                    <a:off x="182520" y="1701720"/>
                    <a:ext cx="5616720" cy="5119920"/>
                  </a:xfrm>
                  <a:prstGeom prst="pie">
                    <a:avLst/>
                  </a:pr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9"/>
                  <p:cNvGrpSpPr/>
                  <p:nvPr/>
                </p:nvGrpSpPr>
                <p:grpSpPr>
                  <a:xfrm>
                    <a:off x="-1622160" y="-61560"/>
                    <a:ext cx="9069840" cy="9065880"/>
                    <a:chOff x="-1622160" y="-61560"/>
                    <a:chExt cx="9069840" cy="9065880"/>
                  </a:xfrm>
                </p:grpSpPr>
                <p:sp>
                  <p:nvSpPr>
                    <p:cNvPr id="174" name="AutoShape 10"/>
                    <p:cNvSpPr/>
                    <p:nvPr/>
                  </p:nvSpPr>
                  <p:spPr>
                    <a:xfrm>
                      <a:off x="1080" y="798480"/>
                      <a:ext cx="6767640" cy="6021720"/>
                    </a:xfrm>
                    <a:prstGeom prst="pie">
                      <a:avLst/>
                    </a:pr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1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1"/>
                    <p:cNvGrpSpPr/>
                    <p:nvPr/>
                  </p:nvGrpSpPr>
                  <p:grpSpPr>
                    <a:xfrm>
                      <a:off x="-1622160" y="-61560"/>
                      <a:ext cx="9069840" cy="9065880"/>
                      <a:chOff x="-1622160" y="-61560"/>
                      <a:chExt cx="9069840" cy="9065880"/>
                    </a:xfrm>
                  </p:grpSpPr>
                  <p:sp>
                    <p:nvSpPr>
                      <p:cNvPr id="176" name="AutoShape 12"/>
                      <p:cNvSpPr/>
                      <p:nvPr/>
                    </p:nvSpPr>
                    <p:spPr>
                      <a:xfrm>
                        <a:off x="1080" y="1015200"/>
                        <a:ext cx="6540840" cy="5804280"/>
                      </a:xfrm>
                      <a:prstGeom prst="pie">
                        <a:avLst/>
                      </a:pr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lnSpc>
                            <a:spcPct val="101000"/>
                          </a:lnSpc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3"/>
                      <p:cNvGrpSpPr/>
                      <p:nvPr/>
                    </p:nvGrpSpPr>
                    <p:grpSpPr>
                      <a:xfrm>
                        <a:off x="-1622160" y="-61560"/>
                        <a:ext cx="9069840" cy="9065880"/>
                        <a:chOff x="-1622160" y="-61560"/>
                        <a:chExt cx="9069840" cy="9065880"/>
                      </a:xfrm>
                    </p:grpSpPr>
                    <p:sp>
                      <p:nvSpPr>
                        <p:cNvPr id="178" name="Line 14"/>
                        <p:cNvSpPr/>
                        <p:nvPr/>
                      </p:nvSpPr>
                      <p:spPr>
                        <a:xfrm flipH="1" flipV="1">
                          <a:off x="2214720" y="967320"/>
                          <a:ext cx="321840" cy="360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5"/>
                        <p:cNvSpPr/>
                        <p:nvPr/>
                      </p:nvSpPr>
                      <p:spPr>
                        <a:xfrm flipH="1" flipV="1">
                          <a:off x="-12960" y="2647440"/>
                          <a:ext cx="2411640" cy="19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6"/>
                        <p:cNvSpPr/>
                        <p:nvPr/>
                      </p:nvSpPr>
                      <p:spPr>
                        <a:xfrm flipH="1" flipV="1">
                          <a:off x="1080" y="2260800"/>
                          <a:ext cx="2405520" cy="234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7"/>
                        <p:cNvSpPr/>
                        <p:nvPr/>
                      </p:nvSpPr>
                      <p:spPr>
                        <a:xfrm flipH="1" flipV="1">
                          <a:off x="0" y="1776240"/>
                          <a:ext cx="2416320" cy="2814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8"/>
                        <p:cNvSpPr/>
                        <p:nvPr/>
                      </p:nvSpPr>
                      <p:spPr>
                        <a:xfrm flipH="1" flipV="1">
                          <a:off x="13680" y="1206720"/>
                          <a:ext cx="2406600" cy="3372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19"/>
                        <p:cNvSpPr/>
                        <p:nvPr/>
                      </p:nvSpPr>
                      <p:spPr>
                        <a:xfrm flipH="1" flipV="1">
                          <a:off x="1085040" y="805680"/>
                          <a:ext cx="1401120" cy="3765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0"/>
                        <p:cNvSpPr/>
                        <p:nvPr/>
                      </p:nvSpPr>
                      <p:spPr>
                        <a:xfrm flipH="1" flipV="1">
                          <a:off x="720" y="3011400"/>
                          <a:ext cx="2389320" cy="1618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1"/>
                        <p:cNvSpPr/>
                        <p:nvPr/>
                      </p:nvSpPr>
                      <p:spPr>
                        <a:xfrm flipH="1" flipV="1">
                          <a:off x="-3240" y="3321000"/>
                          <a:ext cx="2391120" cy="132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2"/>
                        <p:cNvSpPr/>
                        <p:nvPr/>
                      </p:nvSpPr>
                      <p:spPr>
                        <a:xfrm flipH="1">
                          <a:off x="643680" y="4780800"/>
                          <a:ext cx="1789920" cy="491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3"/>
                        <p:cNvSpPr/>
                        <p:nvPr/>
                      </p:nvSpPr>
                      <p:spPr>
                        <a:xfrm flipH="1" flipV="1">
                          <a:off x="177480" y="4558680"/>
                          <a:ext cx="2234160" cy="182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4"/>
                        <p:cNvSpPr/>
                        <p:nvPr/>
                      </p:nvSpPr>
                      <p:spPr>
                        <a:xfrm flipH="1" flipV="1">
                          <a:off x="0" y="3855600"/>
                          <a:ext cx="2394000" cy="833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5"/>
                        <p:cNvSpPr/>
                        <p:nvPr/>
                      </p:nvSpPr>
                      <p:spPr>
                        <a:xfrm flipH="1">
                          <a:off x="1530720" y="4857120"/>
                          <a:ext cx="975600" cy="135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6"/>
                        <p:cNvSpPr/>
                        <p:nvPr/>
                      </p:nvSpPr>
                      <p:spPr>
                        <a:xfrm flipH="1">
                          <a:off x="1659240" y="4868280"/>
                          <a:ext cx="85644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7"/>
                        <p:cNvSpPr/>
                        <p:nvPr/>
                      </p:nvSpPr>
                      <p:spPr>
                        <a:xfrm flipH="1">
                          <a:off x="1778040" y="4868280"/>
                          <a:ext cx="74268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8"/>
                        <p:cNvSpPr/>
                        <p:nvPr/>
                      </p:nvSpPr>
                      <p:spPr>
                        <a:xfrm flipH="1">
                          <a:off x="1908360" y="4872960"/>
                          <a:ext cx="620280" cy="1650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29"/>
                        <p:cNvSpPr/>
                        <p:nvPr/>
                      </p:nvSpPr>
                      <p:spPr>
                        <a:xfrm flipH="1">
                          <a:off x="2055960" y="4884120"/>
                          <a:ext cx="482400" cy="1764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0"/>
                        <p:cNvSpPr/>
                        <p:nvPr/>
                      </p:nvSpPr>
                      <p:spPr>
                        <a:xfrm flipH="1">
                          <a:off x="2203560" y="4887360"/>
                          <a:ext cx="342720" cy="1873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1"/>
                        <p:cNvSpPr/>
                        <p:nvPr/>
                      </p:nvSpPr>
                      <p:spPr>
                        <a:xfrm flipH="1">
                          <a:off x="2568240" y="4907880"/>
                          <a:ext cx="7560" cy="1924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2"/>
                        <p:cNvSpPr/>
                        <p:nvPr/>
                      </p:nvSpPr>
                      <p:spPr>
                        <a:xfrm>
                          <a:off x="2590920" y="4911120"/>
                          <a:ext cx="16956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3"/>
                        <p:cNvSpPr/>
                        <p:nvPr/>
                      </p:nvSpPr>
                      <p:spPr>
                        <a:xfrm>
                          <a:off x="2608560" y="4920480"/>
                          <a:ext cx="331200" cy="1896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4"/>
                        <p:cNvSpPr/>
                        <p:nvPr/>
                      </p:nvSpPr>
                      <p:spPr>
                        <a:xfrm>
                          <a:off x="2629080" y="4922280"/>
                          <a:ext cx="512280" cy="190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5"/>
                        <p:cNvSpPr/>
                        <p:nvPr/>
                      </p:nvSpPr>
                      <p:spPr>
                        <a:xfrm>
                          <a:off x="2648160" y="4922280"/>
                          <a:ext cx="693360" cy="1906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6"/>
                        <p:cNvSpPr/>
                        <p:nvPr/>
                      </p:nvSpPr>
                      <p:spPr>
                        <a:xfrm>
                          <a:off x="2659320" y="4920480"/>
                          <a:ext cx="892800" cy="1889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7"/>
                        <p:cNvSpPr/>
                        <p:nvPr/>
                      </p:nvSpPr>
                      <p:spPr>
                        <a:xfrm>
                          <a:off x="2684520" y="4926960"/>
                          <a:ext cx="110268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8"/>
                        <p:cNvSpPr/>
                        <p:nvPr/>
                      </p:nvSpPr>
                      <p:spPr>
                        <a:xfrm>
                          <a:off x="2702160" y="4920480"/>
                          <a:ext cx="1347120" cy="191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39"/>
                        <p:cNvSpPr/>
                        <p:nvPr/>
                      </p:nvSpPr>
                      <p:spPr>
                        <a:xfrm>
                          <a:off x="2724120" y="4915800"/>
                          <a:ext cx="1623240" cy="1911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0"/>
                        <p:cNvSpPr/>
                        <p:nvPr/>
                      </p:nvSpPr>
                      <p:spPr>
                        <a:xfrm>
                          <a:off x="2735280" y="4899960"/>
                          <a:ext cx="1942200" cy="192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1"/>
                        <p:cNvSpPr/>
                        <p:nvPr/>
                      </p:nvSpPr>
                      <p:spPr>
                        <a:xfrm>
                          <a:off x="2741760" y="4887360"/>
                          <a:ext cx="2357640" cy="193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2"/>
                        <p:cNvSpPr/>
                        <p:nvPr/>
                      </p:nvSpPr>
                      <p:spPr>
                        <a:xfrm>
                          <a:off x="2754360" y="4877640"/>
                          <a:ext cx="2859480" cy="1950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3"/>
                        <p:cNvSpPr/>
                        <p:nvPr/>
                      </p:nvSpPr>
                      <p:spPr>
                        <a:xfrm>
                          <a:off x="2760840" y="4860360"/>
                          <a:ext cx="3497040" cy="196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4"/>
                        <p:cNvSpPr/>
                        <p:nvPr/>
                      </p:nvSpPr>
                      <p:spPr>
                        <a:xfrm>
                          <a:off x="2760840" y="4842720"/>
                          <a:ext cx="3955320" cy="178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5"/>
                        <p:cNvSpPr/>
                        <p:nvPr/>
                      </p:nvSpPr>
                      <p:spPr>
                        <a:xfrm>
                          <a:off x="2764080" y="4825440"/>
                          <a:ext cx="3992040" cy="1394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6"/>
                        <p:cNvSpPr/>
                        <p:nvPr/>
                      </p:nvSpPr>
                      <p:spPr>
                        <a:xfrm>
                          <a:off x="2754360" y="4782240"/>
                          <a:ext cx="3908160" cy="65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7"/>
                        <p:cNvSpPr/>
                        <p:nvPr/>
                      </p:nvSpPr>
                      <p:spPr>
                        <a:xfrm flipV="1">
                          <a:off x="2716200" y="3833280"/>
                          <a:ext cx="3217680" cy="887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8"/>
                        <p:cNvSpPr/>
                        <p:nvPr/>
                      </p:nvSpPr>
                      <p:spPr>
                        <a:xfrm flipV="1">
                          <a:off x="2703600" y="3314880"/>
                          <a:ext cx="2921040" cy="1378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AutoShape 49"/>
                        <p:cNvSpPr/>
                        <p:nvPr/>
                      </p:nvSpPr>
                      <p:spPr>
                        <a:xfrm>
                          <a:off x="1080" y="4014360"/>
                          <a:ext cx="2446560" cy="2805480"/>
                        </a:xfrm>
                        <a:prstGeom prst="pie">
                          <a:avLst/>
                        </a:pr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0"/>
                        <p:cNvGrpSpPr/>
                        <p:nvPr/>
                      </p:nvGrpSpPr>
                      <p:grpSpPr>
                        <a:xfrm>
                          <a:off x="-1622160" y="-61560"/>
                          <a:ext cx="9069840" cy="9065880"/>
                          <a:chOff x="-1622160" y="-61560"/>
                          <a:chExt cx="9069840" cy="9065880"/>
                        </a:xfrm>
                      </p:grpSpPr>
                      <p:sp>
                        <p:nvSpPr>
                          <p:cNvPr id="215" name="Oval 51"/>
                          <p:cNvSpPr/>
                          <p:nvPr/>
                        </p:nvSpPr>
                        <p:spPr>
                          <a:xfrm rot="18780000">
                            <a:off x="2280960" y="4756680"/>
                            <a:ext cx="500760" cy="492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2"/>
                          <p:cNvSpPr/>
                          <p:nvPr/>
                        </p:nvSpPr>
                        <p:spPr>
                          <a:xfrm rot="18780000">
                            <a:off x="2107080" y="4526640"/>
                            <a:ext cx="873720" cy="884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3"/>
                          <p:cNvSpPr/>
                          <p:nvPr/>
                        </p:nvSpPr>
                        <p:spPr>
                          <a:xfrm rot="18780000">
                            <a:off x="1845360" y="4157280"/>
                            <a:ext cx="1464840" cy="14295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4"/>
                          <p:cNvSpPr/>
                          <p:nvPr/>
                        </p:nvSpPr>
                        <p:spPr>
                          <a:xfrm rot="18780000">
                            <a:off x="1639800" y="3864600"/>
                            <a:ext cx="1937520" cy="1985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5"/>
                          <p:cNvSpPr/>
                          <p:nvPr/>
                        </p:nvSpPr>
                        <p:spPr>
                          <a:xfrm rot="18780000">
                            <a:off x="1421640" y="3468960"/>
                            <a:ext cx="2444760" cy="2579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6"/>
                          <p:cNvSpPr/>
                          <p:nvPr/>
                        </p:nvSpPr>
                        <p:spPr>
                          <a:xfrm rot="18780000">
                            <a:off x="1194480" y="3178800"/>
                            <a:ext cx="3022920" cy="3128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7"/>
                          <p:cNvSpPr/>
                          <p:nvPr/>
                        </p:nvSpPr>
                        <p:spPr>
                          <a:xfrm rot="18780000">
                            <a:off x="918000" y="2859840"/>
                            <a:ext cx="3629880" cy="368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8"/>
                          <p:cNvSpPr/>
                          <p:nvPr/>
                        </p:nvSpPr>
                        <p:spPr>
                          <a:xfrm rot="18780000">
                            <a:off x="673560" y="2535480"/>
                            <a:ext cx="4186080" cy="4217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59"/>
                          <p:cNvSpPr/>
                          <p:nvPr/>
                        </p:nvSpPr>
                        <p:spPr>
                          <a:xfrm rot="18780000">
                            <a:off x="374400" y="2243880"/>
                            <a:ext cx="4862160" cy="4741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0"/>
                          <p:cNvSpPr/>
                          <p:nvPr/>
                        </p:nvSpPr>
                        <p:spPr>
                          <a:xfrm rot="18780000">
                            <a:off x="158040" y="1902600"/>
                            <a:ext cx="5321880" cy="530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1"/>
                          <p:cNvSpPr/>
                          <p:nvPr/>
                        </p:nvSpPr>
                        <p:spPr>
                          <a:xfrm rot="18720000">
                            <a:off x="-53640" y="1590480"/>
                            <a:ext cx="5847480" cy="58824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2"/>
                          <p:cNvSpPr/>
                          <p:nvPr/>
                        </p:nvSpPr>
                        <p:spPr>
                          <a:xfrm rot="18780000">
                            <a:off x="-273960" y="1242360"/>
                            <a:ext cx="6373800" cy="6457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lnSpc>
                                <a:spcPct val="101000"/>
                              </a:lnSpc>
                              <a:tabLst>
                                <a:tab algn="l" pos="0"/>
                                <a:tab algn="l" pos="449280"/>
                                <a:tab algn="l" pos="898560"/>
                                <a:tab algn="l" pos="1347840"/>
                                <a:tab algn="l" pos="1797120"/>
                                <a:tab algn="l" pos="2246400"/>
                                <a:tab algn="l" pos="2695680"/>
                                <a:tab algn="l" pos="3144960"/>
                                <a:tab algn="l" pos="3594240"/>
                                <a:tab algn="l" pos="4043520"/>
                                <a:tab algn="l" pos="4492800"/>
                                <a:tab algn="l" pos="4941720"/>
                                <a:tab algn="l" pos="5391000"/>
                                <a:tab algn="l" pos="5840280"/>
                                <a:tab algn="l" pos="6289560"/>
                                <a:tab algn="l" pos="6738840"/>
                                <a:tab algn="l" pos="7188120"/>
                                <a:tab algn="l" pos="7637400"/>
                                <a:tab algn="l" pos="8086680"/>
                                <a:tab algn="l" pos="8535960"/>
                                <a:tab algn="l" pos="898524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3"/>
                        <p:cNvSpPr/>
                        <p:nvPr/>
                      </p:nvSpPr>
                      <p:spPr>
                        <a:xfrm flipV="1">
                          <a:off x="2629080" y="1816560"/>
                          <a:ext cx="1318320" cy="2811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4"/>
                        <p:cNvSpPr/>
                        <p:nvPr/>
                      </p:nvSpPr>
                      <p:spPr>
                        <a:xfrm flipV="1">
                          <a:off x="2641680" y="2168640"/>
                          <a:ext cx="1765800" cy="2465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5"/>
                        <p:cNvSpPr/>
                        <p:nvPr/>
                      </p:nvSpPr>
                      <p:spPr>
                        <a:xfrm flipV="1">
                          <a:off x="2643480" y="1972080"/>
                          <a:ext cx="1553400" cy="2648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6"/>
                        <p:cNvSpPr/>
                        <p:nvPr/>
                      </p:nvSpPr>
                      <p:spPr>
                        <a:xfrm flipV="1">
                          <a:off x="2651400" y="2327760"/>
                          <a:ext cx="1975320" cy="231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7"/>
                        <p:cNvSpPr/>
                        <p:nvPr/>
                      </p:nvSpPr>
                      <p:spPr>
                        <a:xfrm flipV="1">
                          <a:off x="2659320" y="2503440"/>
                          <a:ext cx="2213280" cy="2146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8"/>
                        <p:cNvSpPr/>
                        <p:nvPr/>
                      </p:nvSpPr>
                      <p:spPr>
                        <a:xfrm flipV="1">
                          <a:off x="2678400" y="2918880"/>
                          <a:ext cx="2535120" cy="1749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69"/>
                        <p:cNvSpPr/>
                        <p:nvPr/>
                      </p:nvSpPr>
                      <p:spPr>
                        <a:xfrm flipV="1">
                          <a:off x="2691000" y="3130560"/>
                          <a:ext cx="2706840" cy="155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0"/>
                        <p:cNvSpPr/>
                        <p:nvPr/>
                      </p:nvSpPr>
                      <p:spPr>
                        <a:xfrm flipV="1">
                          <a:off x="2713320" y="3591720"/>
                          <a:ext cx="3029040" cy="111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1"/>
                        <p:cNvSpPr/>
                        <p:nvPr/>
                      </p:nvSpPr>
                      <p:spPr>
                        <a:xfrm flipV="1">
                          <a:off x="2724120" y="4078080"/>
                          <a:ext cx="3371760" cy="6487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2"/>
                        <p:cNvSpPr/>
                        <p:nvPr/>
                      </p:nvSpPr>
                      <p:spPr>
                        <a:xfrm flipV="1">
                          <a:off x="2729160" y="4410720"/>
                          <a:ext cx="3546000" cy="320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3"/>
                        <p:cNvSpPr/>
                        <p:nvPr/>
                      </p:nvSpPr>
                      <p:spPr>
                        <a:xfrm flipV="1">
                          <a:off x="2727360" y="4736520"/>
                          <a:ext cx="3701880" cy="5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040" bIns="-4104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4"/>
                        <p:cNvSpPr/>
                        <p:nvPr/>
                      </p:nvSpPr>
                      <p:spPr>
                        <a:xfrm>
                          <a:off x="2745000" y="4760280"/>
                          <a:ext cx="3827160" cy="315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5"/>
                        <p:cNvSpPr/>
                        <p:nvPr/>
                      </p:nvSpPr>
                      <p:spPr>
                        <a:xfrm>
                          <a:off x="2762280" y="4804560"/>
                          <a:ext cx="3987360" cy="1015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6"/>
                        <p:cNvSpPr/>
                        <p:nvPr/>
                      </p:nvSpPr>
                      <p:spPr>
                        <a:xfrm flipH="1">
                          <a:off x="2389320" y="4898160"/>
                          <a:ext cx="17424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7"/>
                        <p:cNvSpPr/>
                        <p:nvPr/>
                      </p:nvSpPr>
                      <p:spPr>
                        <a:xfrm flipH="1">
                          <a:off x="1420920" y="4845960"/>
                          <a:ext cx="1064520" cy="1254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8"/>
                        <p:cNvSpPr/>
                        <p:nvPr/>
                      </p:nvSpPr>
                      <p:spPr>
                        <a:xfrm flipH="1">
                          <a:off x="1310040" y="4833360"/>
                          <a:ext cx="116640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79"/>
                        <p:cNvSpPr/>
                        <p:nvPr/>
                      </p:nvSpPr>
                      <p:spPr>
                        <a:xfrm flipH="1">
                          <a:off x="1193040" y="4825440"/>
                          <a:ext cx="1277280" cy="1067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0"/>
                        <p:cNvSpPr/>
                        <p:nvPr/>
                      </p:nvSpPr>
                      <p:spPr>
                        <a:xfrm flipH="1">
                          <a:off x="1089360" y="4814280"/>
                          <a:ext cx="1374120" cy="965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1"/>
                        <p:cNvSpPr/>
                        <p:nvPr/>
                      </p:nvSpPr>
                      <p:spPr>
                        <a:xfrm flipH="1">
                          <a:off x="983160" y="4807800"/>
                          <a:ext cx="146628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2"/>
                        <p:cNvSpPr/>
                        <p:nvPr/>
                      </p:nvSpPr>
                      <p:spPr>
                        <a:xfrm flipH="1">
                          <a:off x="870840" y="4796640"/>
                          <a:ext cx="1575360" cy="742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3"/>
                        <p:cNvSpPr/>
                        <p:nvPr/>
                      </p:nvSpPr>
                      <p:spPr>
                        <a:xfrm flipH="1">
                          <a:off x="756360" y="4787280"/>
                          <a:ext cx="1683360" cy="620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4"/>
                        <p:cNvSpPr/>
                        <p:nvPr/>
                      </p:nvSpPr>
                      <p:spPr>
                        <a:xfrm flipH="1">
                          <a:off x="538560" y="4769640"/>
                          <a:ext cx="1888200" cy="348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5"/>
                        <p:cNvSpPr/>
                        <p:nvPr/>
                      </p:nvSpPr>
                      <p:spPr>
                        <a:xfrm flipH="1">
                          <a:off x="417240" y="4760280"/>
                          <a:ext cx="2003760" cy="18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6"/>
                        <p:cNvSpPr/>
                        <p:nvPr/>
                      </p:nvSpPr>
                      <p:spPr>
                        <a:xfrm flipH="1">
                          <a:off x="291240" y="4745880"/>
                          <a:ext cx="2121480" cy="1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7"/>
                        <p:cNvSpPr/>
                        <p:nvPr/>
                      </p:nvSpPr>
                      <p:spPr>
                        <a:xfrm flipH="1" flipV="1">
                          <a:off x="40680" y="4331160"/>
                          <a:ext cx="2365560" cy="39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8"/>
                        <p:cNvSpPr/>
                        <p:nvPr/>
                      </p:nvSpPr>
                      <p:spPr>
                        <a:xfrm flipH="1" flipV="1">
                          <a:off x="0" y="4096440"/>
                          <a:ext cx="2399040" cy="609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89"/>
                        <p:cNvSpPr/>
                        <p:nvPr/>
                      </p:nvSpPr>
                      <p:spPr>
                        <a:xfrm flipH="1" flipV="1">
                          <a:off x="-1800" y="3593520"/>
                          <a:ext cx="2392200" cy="1080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0"/>
                        <p:cNvSpPr/>
                        <p:nvPr/>
                      </p:nvSpPr>
                      <p:spPr>
                        <a:xfrm flipH="1" flipV="1">
                          <a:off x="335880" y="1006920"/>
                          <a:ext cx="2097720" cy="3565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1"/>
                        <p:cNvSpPr/>
                        <p:nvPr/>
                      </p:nvSpPr>
                      <p:spPr>
                        <a:xfrm flipH="1" flipV="1">
                          <a:off x="697320" y="867240"/>
                          <a:ext cx="1757880" cy="3704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2"/>
                        <p:cNvSpPr/>
                        <p:nvPr/>
                      </p:nvSpPr>
                      <p:spPr>
                        <a:xfrm flipH="1" flipV="1">
                          <a:off x="1479960" y="822600"/>
                          <a:ext cx="1021680" cy="3741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3"/>
                        <p:cNvSpPr/>
                        <p:nvPr/>
                      </p:nvSpPr>
                      <p:spPr>
                        <a:xfrm flipH="1" flipV="1">
                          <a:off x="1830600" y="875160"/>
                          <a:ext cx="688680" cy="3693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4"/>
                        <p:cNvSpPr/>
                        <p:nvPr/>
                      </p:nvSpPr>
                      <p:spPr>
                        <a:xfrm flipV="1">
                          <a:off x="2551320" y="1078560"/>
                          <a:ext cx="4320" cy="3495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5"/>
                        <p:cNvSpPr/>
                        <p:nvPr/>
                      </p:nvSpPr>
                      <p:spPr>
                        <a:xfrm flipV="1">
                          <a:off x="2571840" y="1202040"/>
                          <a:ext cx="304560" cy="3381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6"/>
                        <p:cNvSpPr/>
                        <p:nvPr/>
                      </p:nvSpPr>
                      <p:spPr>
                        <a:xfrm flipV="1">
                          <a:off x="2583000" y="1346400"/>
                          <a:ext cx="585360" cy="3246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7"/>
                        <p:cNvSpPr/>
                        <p:nvPr/>
                      </p:nvSpPr>
                      <p:spPr>
                        <a:xfrm flipV="1">
                          <a:off x="2597400" y="1495800"/>
                          <a:ext cx="845280" cy="3108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8"/>
                        <p:cNvSpPr/>
                        <p:nvPr/>
                      </p:nvSpPr>
                      <p:spPr>
                        <a:xfrm flipV="1">
                          <a:off x="2610000" y="1661400"/>
                          <a:ext cx="1094760" cy="294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lnSpc>
                              <a:spcPct val="101000"/>
                            </a:lnSpc>
                            <a:tabLst>
                              <a:tab algn="l" pos="0"/>
                              <a:tab algn="l" pos="449280"/>
                              <a:tab algn="l" pos="898560"/>
                              <a:tab algn="l" pos="1347840"/>
                              <a:tab algn="l" pos="1797120"/>
                              <a:tab algn="l" pos="2246400"/>
                              <a:tab algn="l" pos="2695680"/>
                              <a:tab algn="l" pos="3144960"/>
                              <a:tab algn="l" pos="3594240"/>
                              <a:tab algn="l" pos="4043520"/>
                              <a:tab algn="l" pos="4492800"/>
                              <a:tab algn="l" pos="4941720"/>
                              <a:tab algn="l" pos="5391000"/>
                              <a:tab algn="l" pos="5840280"/>
                              <a:tab algn="l" pos="6289560"/>
                              <a:tab algn="l" pos="6738840"/>
                              <a:tab algn="l" pos="7188120"/>
                              <a:tab algn="l" pos="7637400"/>
                              <a:tab algn="l" pos="8086680"/>
                              <a:tab algn="l" pos="8535960"/>
                              <a:tab algn="l" pos="898524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99"/>
              <p:cNvGrpSpPr/>
              <p:nvPr/>
            </p:nvGrpSpPr>
            <p:grpSpPr>
              <a:xfrm>
                <a:off x="4320" y="2715840"/>
                <a:ext cx="5016960" cy="4111200"/>
                <a:chOff x="4320" y="2715840"/>
                <a:chExt cx="5016960" cy="4111200"/>
              </a:xfrm>
            </p:grpSpPr>
            <p:sp>
              <p:nvSpPr>
                <p:cNvPr id="264" name="Line 100"/>
                <p:cNvSpPr/>
                <p:nvPr/>
              </p:nvSpPr>
              <p:spPr>
                <a:xfrm flipV="1">
                  <a:off x="2671920" y="2715840"/>
                  <a:ext cx="2349360" cy="195012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1"/>
                <p:cNvSpPr/>
                <p:nvPr/>
              </p:nvSpPr>
              <p:spPr>
                <a:xfrm flipH="1" flipV="1">
                  <a:off x="1379520" y="6087600"/>
                  <a:ext cx="357120" cy="73764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2"/>
                <p:cNvGrpSpPr/>
                <p:nvPr/>
              </p:nvGrpSpPr>
              <p:grpSpPr>
                <a:xfrm>
                  <a:off x="4320" y="4318560"/>
                  <a:ext cx="2089080" cy="2508480"/>
                  <a:chOff x="4320" y="4318560"/>
                  <a:chExt cx="2089080" cy="2508480"/>
                </a:xfrm>
              </p:grpSpPr>
              <p:sp>
                <p:nvSpPr>
                  <p:cNvPr id="267" name="Line 103"/>
                  <p:cNvSpPr/>
                  <p:nvPr/>
                </p:nvSpPr>
                <p:spPr>
                  <a:xfrm flipH="1">
                    <a:off x="1105200" y="6090480"/>
                    <a:ext cx="27720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AutoShape 104"/>
                  <p:cNvSpPr/>
                  <p:nvPr/>
                </p:nvSpPr>
                <p:spPr>
                  <a:xfrm>
                    <a:off x="7560" y="5081040"/>
                    <a:ext cx="1593000" cy="1746000"/>
                  </a:xfrm>
                  <a:prstGeom prst="pie">
                    <a:avLst/>
                  </a:pr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5"/>
                  <p:cNvSpPr/>
                  <p:nvPr/>
                </p:nvSpPr>
                <p:spPr>
                  <a:xfrm flipH="1">
                    <a:off x="1968120" y="6686280"/>
                    <a:ext cx="125280" cy="1393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6"/>
                  <p:cNvSpPr/>
                  <p:nvPr/>
                </p:nvSpPr>
                <p:spPr>
                  <a:xfrm flipH="1" flipV="1">
                    <a:off x="539640" y="5792400"/>
                    <a:ext cx="845640" cy="295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7"/>
                  <p:cNvSpPr/>
                  <p:nvPr/>
                </p:nvSpPr>
                <p:spPr>
                  <a:xfrm flipH="1" flipV="1">
                    <a:off x="376920" y="4893840"/>
                    <a:ext cx="162720" cy="9014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8"/>
                  <p:cNvSpPr/>
                  <p:nvPr/>
                </p:nvSpPr>
                <p:spPr>
                  <a:xfrm flipH="1" flipV="1">
                    <a:off x="4320" y="4747680"/>
                    <a:ext cx="375480" cy="148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09"/>
                  <p:cNvSpPr/>
                  <p:nvPr/>
                </p:nvSpPr>
                <p:spPr>
                  <a:xfrm flipV="1">
                    <a:off x="90360" y="4893480"/>
                    <a:ext cx="288000" cy="310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0"/>
                  <p:cNvSpPr/>
                  <p:nvPr/>
                </p:nvSpPr>
                <p:spPr>
                  <a:xfrm flipH="1">
                    <a:off x="533160" y="5489640"/>
                    <a:ext cx="281880" cy="3042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1"/>
                  <p:cNvSpPr/>
                  <p:nvPr/>
                </p:nvSpPr>
                <p:spPr>
                  <a:xfrm flipV="1">
                    <a:off x="9360" y="4318560"/>
                    <a:ext cx="21600" cy="3924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>
                      <a:lnSpc>
                        <a:spcPct val="101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2"/>
            <p:cNvGrpSpPr/>
            <p:nvPr/>
          </p:nvGrpSpPr>
          <p:grpSpPr>
            <a:xfrm>
              <a:off x="1440" y="2135160"/>
              <a:ext cx="5217840" cy="4684320"/>
              <a:chOff x="1440" y="2135160"/>
              <a:chExt cx="5217840" cy="4684320"/>
            </a:xfrm>
          </p:grpSpPr>
          <p:sp>
            <p:nvSpPr>
              <p:cNvPr id="277" name="AutoShape 113"/>
              <p:cNvSpPr/>
              <p:nvPr/>
            </p:nvSpPr>
            <p:spPr>
              <a:xfrm>
                <a:off x="1440" y="4251960"/>
                <a:ext cx="2272680" cy="256752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AutoShape 114"/>
              <p:cNvSpPr/>
              <p:nvPr/>
            </p:nvSpPr>
            <p:spPr>
              <a:xfrm>
                <a:off x="1440" y="3623400"/>
                <a:ext cx="2640600" cy="3196080"/>
              </a:xfrm>
              <a:prstGeom prst="pie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5"/>
              <p:cNvSpPr/>
              <p:nvPr/>
            </p:nvSpPr>
            <p:spPr>
              <a:xfrm rot="19080000">
                <a:off x="3113640" y="3083400"/>
                <a:ext cx="213552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6"/>
              <p:cNvSpPr/>
              <p:nvPr/>
            </p:nvSpPr>
            <p:spPr>
              <a:xfrm rot="16500000">
                <a:off x="3066480" y="4186440"/>
                <a:ext cx="35182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7"/>
              <p:cNvSpPr/>
              <p:nvPr/>
            </p:nvSpPr>
            <p:spPr>
              <a:xfrm rot="18180000">
                <a:off x="1572480" y="4312440"/>
                <a:ext cx="424980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8"/>
              <p:cNvSpPr/>
              <p:nvPr/>
            </p:nvSpPr>
            <p:spPr>
              <a:xfrm rot="20760000">
                <a:off x="1062360" y="2811240"/>
                <a:ext cx="3772080" cy="2664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lnSpc>
                    <a:spcPct val="10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19"/>
              <p:cNvGrpSpPr/>
              <p:nvPr/>
            </p:nvGrpSpPr>
            <p:grpSpPr>
              <a:xfrm>
                <a:off x="4645080" y="2135160"/>
                <a:ext cx="574200" cy="520560"/>
                <a:chOff x="4645080" y="2135160"/>
                <a:chExt cx="574200" cy="520560"/>
              </a:xfrm>
            </p:grpSpPr>
            <p:sp>
              <p:nvSpPr>
                <p:cNvPr id="284" name="Oval 120"/>
                <p:cNvSpPr/>
                <p:nvPr/>
              </p:nvSpPr>
              <p:spPr>
                <a:xfrm rot="2820000">
                  <a:off x="4672440" y="2352960"/>
                  <a:ext cx="326520" cy="217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AutoShape 121"/>
                <p:cNvSpPr/>
                <p:nvPr/>
              </p:nvSpPr>
              <p:spPr>
                <a:xfrm>
                  <a:off x="4763160" y="2262240"/>
                  <a:ext cx="304920" cy="25740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AutoShape 122"/>
                <p:cNvSpPr/>
                <p:nvPr/>
              </p:nvSpPr>
              <p:spPr>
                <a:xfrm>
                  <a:off x="4863240" y="2250720"/>
                  <a:ext cx="219960" cy="17964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AutoShape 123"/>
                <p:cNvSpPr/>
                <p:nvPr/>
              </p:nvSpPr>
              <p:spPr>
                <a:xfrm>
                  <a:off x="4941000" y="2143080"/>
                  <a:ext cx="272520" cy="22932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AutoShape 124"/>
                <p:cNvSpPr/>
                <p:nvPr/>
              </p:nvSpPr>
              <p:spPr>
                <a:xfrm>
                  <a:off x="5113440" y="2135160"/>
                  <a:ext cx="105840" cy="85680"/>
                </a:xfrm>
                <a:prstGeom prst="pi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pPr>
                    <a:lnSpc>
                      <a:spcPct val="10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Text Box 127"/>
          <p:cNvSpPr/>
          <p:nvPr/>
        </p:nvSpPr>
        <p:spPr>
          <a:xfrm>
            <a:off x="457200" y="6240600"/>
            <a:ext cx="21337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Text Box 128"/>
          <p:cNvSpPr/>
          <p:nvPr/>
        </p:nvSpPr>
        <p:spPr>
          <a:xfrm>
            <a:off x="3124080" y="624528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EF372E-CCE4-4EE7-AE8C-8A7506C316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539640" y="248760"/>
            <a:ext cx="7772400" cy="11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7100" spc="-1" strike="noStrike">
                <a:solidFill>
                  <a:srgbClr val="ff0000"/>
                </a:solidFill>
                <a:latin typeface="Arial"/>
              </a:rPr>
              <a:t>Presentation PPE</a:t>
            </a:r>
            <a:endParaRPr b="0" lang="en-US" sz="7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42920" y="3284640"/>
            <a:ext cx="6400800" cy="26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Verdana"/>
              </a:rPr>
              <a:t>Mesure de vitesse grâce a l’effet Doppler-Fizeau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5" descr="http://www.quigif.com/images_gifs/informatique/paraboles/paraboles%20(6).gif"/>
          <p:cNvPicPr/>
          <p:nvPr/>
        </p:nvPicPr>
        <p:blipFill>
          <a:blip r:embed="rId1"/>
          <a:stretch/>
        </p:blipFill>
        <p:spPr>
          <a:xfrm>
            <a:off x="642960" y="5286240"/>
            <a:ext cx="1476360" cy="1276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214200" y="285840"/>
            <a:ext cx="82296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'algorithme de ce programme est le suivan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lgorithme_calcul_de_vitesse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constant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c=34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em=40000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variables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BPstart:mot binaire(*donnée*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BPstop:mot binaire(*donnée*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rec:nombre décimal(*donnée*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Vem: nombre entier(*résultat*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Début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 (BPstart=1) alors toujours fai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Vem&lt;-0; frec&lt;-0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Tant que( BPstop=0) fai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lire fre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 (frec=/fem) alor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Vem&lt;-c*(fem-frec)/frec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Afficher Ve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non Afficher "émetteur immobile"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in s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in fai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sinon rie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in si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Fin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7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500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500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500"/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500"/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500"/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3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500"/>
                                        <p:tgtEl>
                                          <p:spTgt spid="36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500"/>
                                        <p:tgtEl>
                                          <p:spTgt spid="3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6" dur="500"/>
                                        <p:tgtEl>
                                          <p:spTgt spid="3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9" dur="500"/>
                                        <p:tgtEl>
                                          <p:spTgt spid="3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500"/>
                                        <p:tgtEl>
                                          <p:spTgt spid="36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5" dur="500"/>
                                        <p:tgtEl>
                                          <p:spTgt spid="36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8" dur="500"/>
                                        <p:tgtEl>
                                          <p:spTgt spid="36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1" dur="500"/>
                                        <p:tgtEl>
                                          <p:spTgt spid="36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4" dur="500"/>
                                        <p:tgtEl>
                                          <p:spTgt spid="36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500"/>
                                        <p:tgtEl>
                                          <p:spTgt spid="36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"/>
          <p:cNvSpPr/>
          <p:nvPr/>
        </p:nvSpPr>
        <p:spPr>
          <a:xfrm>
            <a:off x="457200" y="333360"/>
            <a:ext cx="8229600" cy="58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e programme en C qui correspond à cet algorigramme est le suivant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ar double:frec,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har float:Vem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onstant:c=340,fem=40000;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main()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 (BPstart=1){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Vem=0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While(BPstop=0) Do{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read(frec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f(frec!=fem) Vem=c*(fem-frec)/frec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lcd_puts("la vitesse est:"Vem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lse lcd_puts("l'émetteur est immobile"); 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1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1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1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1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1000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1000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1000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1000"/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1" dur="1000"/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4" dur="1000"/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7" dur="1000"/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0" dur="1000"/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3" dur="1000"/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457200" y="465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L’axe moteu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428760" y="1571760"/>
            <a:ext cx="822960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Un axe motorisé peut-être apparenté a un système vis-écrou en effet la vis représente l’axe et le chariot représente l’écrou. Il peut se comporter suivant 4 forme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’axe a une vitess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roportionnelle a la fréquenc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émise par le GB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6589800" y="3357720"/>
            <a:ext cx="2554200" cy="35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1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"/>
          <p:cNvSpPr/>
          <p:nvPr/>
        </p:nvSpPr>
        <p:spPr>
          <a:xfrm>
            <a:off x="642960" y="448560"/>
            <a:ext cx="7772400" cy="16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100" spc="-1" strike="noStrike">
                <a:solidFill>
                  <a:srgbClr val="0000ff"/>
                </a:solidFill>
                <a:latin typeface="Arial"/>
              </a:rPr>
              <a:t>Relation entre vitesse et fréquence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66" name="Group 2"/>
          <p:cNvGrpSpPr/>
          <p:nvPr/>
        </p:nvGrpSpPr>
        <p:grpSpPr>
          <a:xfrm>
            <a:off x="1214280" y="2357280"/>
            <a:ext cx="5856480" cy="2571840"/>
            <a:chOff x="1214280" y="2357280"/>
            <a:chExt cx="5856480" cy="2571840"/>
          </a:xfrm>
        </p:grpSpPr>
        <p:pic>
          <p:nvPicPr>
            <p:cNvPr id="367" name="Picture 3" descr=""/>
            <p:cNvPicPr/>
            <p:nvPr/>
          </p:nvPicPr>
          <p:blipFill>
            <a:blip r:embed="rId1"/>
            <a:stretch/>
          </p:blipFill>
          <p:spPr>
            <a:xfrm>
              <a:off x="1214280" y="2357280"/>
              <a:ext cx="585648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Text Box 4"/>
            <p:cNvSpPr/>
            <p:nvPr/>
          </p:nvSpPr>
          <p:spPr>
            <a:xfrm>
              <a:off x="1214280" y="2357280"/>
              <a:ext cx="585648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69" name="Rectangle 5"/>
          <p:cNvSpPr/>
          <p:nvPr/>
        </p:nvSpPr>
        <p:spPr>
          <a:xfrm>
            <a:off x="0" y="51487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La vitesse du mobile qui supporte l’émetteur à US dépend donc de la fréquence émise par le GB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457200" y="465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Relat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57200" y="1600200"/>
            <a:ext cx="822960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Ainsi, on peut en conclure la relation entre la fréquence du signal de commande du moteur pas à pas et l’axe motorisé 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Soit w : La pulsation de la force électromotrice (=la vitesse de rotation du moteur en rad/s)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 : Fréquence en Hz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V : vitesse de translation en m/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f(Hz)=  1/T(s)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w=2∏/T= 2∏f (Hz)                                                                         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or V=w*∏/30*pas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onc V=2∏f*∏/30*0.4*10-2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D’ou V=7.9*10-2*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800"/>
                            </p:stCondLst>
                            <p:childTnLst>
                              <p:par>
                                <p:cTn id="4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100"/>
                            </p:stCondLst>
                            <p:childTnLst>
                              <p:par>
                                <p:cTn id="4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2650"/>
                            </p:stCondLst>
                            <p:childTnLst>
                              <p:par>
                                <p:cTn id="4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3700"/>
                            </p:stCondLst>
                            <p:childTnLst>
                              <p:par>
                                <p:cTn id="4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4850"/>
                            </p:stCondLst>
                            <p:childTnLst>
                              <p:par>
                                <p:cTn id="4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6000"/>
                            </p:stCondLst>
                            <p:childTnLst>
                              <p:par>
                                <p:cTn id="5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7600"/>
                            </p:stCondLst>
                            <p:childTnLst>
                              <p:par>
                                <p:cTn id="5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389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68360" y="17388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Mesure de la vitesse avec un capteur infraroug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179280" y="1770840"/>
            <a:ext cx="468000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incipe de fonctionn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orsque le mobile est détecter la tension mesurer sur l’oscilloscope varie. En mesurant le temps pendant lequel on observe cette variation on peut connaître la vitesse du mobi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5" name="Group 1"/>
          <p:cNvGrpSpPr/>
          <p:nvPr/>
        </p:nvGrpSpPr>
        <p:grpSpPr>
          <a:xfrm>
            <a:off x="1258920" y="836640"/>
            <a:ext cx="6551640" cy="4822920"/>
            <a:chOff x="1258920" y="836640"/>
            <a:chExt cx="6551640" cy="4822920"/>
          </a:xfrm>
        </p:grpSpPr>
        <p:pic>
          <p:nvPicPr>
            <p:cNvPr id="376" name="Picture 2" descr=""/>
            <p:cNvPicPr/>
            <p:nvPr/>
          </p:nvPicPr>
          <p:blipFill>
            <a:blip r:embed="rId1"/>
            <a:stretch/>
          </p:blipFill>
          <p:spPr>
            <a:xfrm>
              <a:off x="1258920" y="836640"/>
              <a:ext cx="6551640" cy="482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Text Box 3"/>
            <p:cNvSpPr/>
            <p:nvPr/>
          </p:nvSpPr>
          <p:spPr>
            <a:xfrm>
              <a:off x="2199960" y="975960"/>
              <a:ext cx="18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4d4f45"/>
                  </a:solidFill>
                  <a:latin typeface="Verdana"/>
                </a:rPr>
                <a:t>R1=170 Ω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Text Box 4"/>
            <p:cNvSpPr/>
            <p:nvPr/>
          </p:nvSpPr>
          <p:spPr>
            <a:xfrm>
              <a:off x="5521680" y="975960"/>
              <a:ext cx="188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4d4f45"/>
                  </a:solidFill>
                  <a:latin typeface="Verdana"/>
                </a:rPr>
                <a:t>R2=620 Ω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457200" y="465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457200" y="1341360"/>
            <a:ext cx="82296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ous ne sommes pas arrivés à la fin du projet par manque de temps et donc nous n’avons pas eu de résultats sur notre système de calcul de vitesse d’un mobile grâce à l’effet doppler appliqué aux ultrason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Étant donné que nous n’avons pas aboutit à la production finale envisagé, nous ne pouvons pas nous exprimer sur les différences entre notre production et le produit attend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8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8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8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5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8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8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Développements futurs 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Approfondissement du système avec la création d’un radar à effet doppler portab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Travail sur de plus grandes vitesses et sur un plus grand mobil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Problématiqu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8000" y="2328480"/>
            <a:ext cx="82278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ettre en évidence l’effet doppler en mesurant un signal ultrasonore émis par un module déplacé a vitesse const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1"/>
          <p:cNvSpPr/>
          <p:nvPr/>
        </p:nvSpPr>
        <p:spPr>
          <a:xfrm>
            <a:off x="611280" y="704880"/>
            <a:ext cx="77724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5100" spc="-1" strike="noStrike">
                <a:solidFill>
                  <a:srgbClr val="ff0000"/>
                </a:solidFill>
                <a:latin typeface="Arial"/>
              </a:rPr>
              <a:t>Sommaire</a:t>
            </a:r>
            <a:endParaRPr b="0" lang="en-US" sz="5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Text Box 2"/>
          <p:cNvSpPr/>
          <p:nvPr/>
        </p:nvSpPr>
        <p:spPr>
          <a:xfrm>
            <a:off x="468360" y="2060640"/>
            <a:ext cx="828036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Qu’est-ce que l’effet dopp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Pourquoi utiliser l’effet Doppler?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Travail réalis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Comment mesure-t-on une vitesse avec l’effet doppl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L’axe moteu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  <a:ea typeface="Lucida Sans Unicode"/>
              </a:rPr>
              <a:t>Mesure de la vitesse avec un capteur infrarou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457200" y="191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Présentation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457200" y="1600200"/>
            <a:ext cx="8229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Qu’est-ce que l’effet dopp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Verdana"/>
              </a:rPr>
              <a:t>Pourquoi utiliser l’effet Doppl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374760" y="44784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Qu’est-ce que l’effet doppler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108000" y="1701720"/>
            <a:ext cx="680400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L’effet doppler est un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4800" spc="-1" strike="noStrike">
                <a:solidFill>
                  <a:srgbClr val="ffffff"/>
                </a:solidFill>
                <a:latin typeface="Verdana"/>
              </a:rPr>
              <a:t>phénomène physique qui produit une modification de la fréquence de l’onde.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7308720" y="2781360"/>
            <a:ext cx="16034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5364000" y="333360"/>
            <a:ext cx="3394080" cy="46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L’image à gauc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nous montre les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variations de 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réquence de l’ond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sonore émise e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fonction d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uvement du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récepteu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557600" cy="482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3" descr=""/>
          <p:cNvPicPr/>
          <p:nvPr/>
        </p:nvPicPr>
        <p:blipFill>
          <a:blip r:embed="rId2"/>
          <a:stretch/>
        </p:blipFill>
        <p:spPr>
          <a:xfrm>
            <a:off x="1835280" y="5084640"/>
            <a:ext cx="5688000" cy="158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465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Pourquoi </a:t>
            </a:r>
            <a:r>
              <a:rPr b="0" lang="fr-FR" sz="4400" spc="-1" strike="noStrike">
                <a:solidFill>
                  <a:srgbClr val="0000ff"/>
                </a:solidFill>
                <a:latin typeface="Arial"/>
              </a:rPr>
              <a:t>utiliser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l’effet Doppler?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108000" y="1628640"/>
            <a:ext cx="903600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’est un système de mesure non intrusi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ssez simple de mise en œuv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eu de moyens financiers ou techniques sont demandé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Écologique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apidité d’exécution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5" descr="http://www.quigif.com/images_gifs/nature/arbres/arbres%20(23).gif"/>
          <p:cNvPicPr/>
          <p:nvPr/>
        </p:nvPicPr>
        <p:blipFill>
          <a:blip r:embed="rId1"/>
          <a:stretch/>
        </p:blipFill>
        <p:spPr>
          <a:xfrm>
            <a:off x="6786720" y="4786200"/>
            <a:ext cx="1357200" cy="154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600"/>
                            </p:stCondLst>
                            <p:childTnLst>
                              <p:par>
                                <p:cTn id="1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250"/>
                            </p:stCondLst>
                            <p:childTnLst>
                              <p:par>
                                <p:cTn id="1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950"/>
                            </p:stCondLst>
                            <p:childTnLst>
                              <p:par>
                                <p:cTn id="1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90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457200" y="4654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Travail réalisé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428760" y="2857680"/>
            <a:ext cx="82296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Comment mesure-t-on une vitesse avec l’effet doppl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L’axe mote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Verdana"/>
              </a:rPr>
              <a:t>Mesure de la vitesse avec un capteur infrarou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457200" y="1915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Comment mesure-t-on une vitesse avec l’effet doppler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468360" y="1773360"/>
            <a:ext cx="8229600" cy="37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Pour pouvoir exploiter les résultats, nous avons utilisé un système où seul l'émetteur est en mouvement. La formule utilisé est donc:  frec=fem*c/(c-Vem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Avec frec : la fréquence reçue par le récepteu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fem: la fréquence émise par l'émetteu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c: la célérité des ultrasons dans l'air (on prendra c=340m/s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et Vem: la vitesse de l'émetteu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On a donc Vem=fem*c/frec -c=c*(fem-frec)/frec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4c3aa"/>
              </a:buClr>
              <a:buFont typeface="Wingdings" charset="2"/>
              <a:buChar char="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Il suffit de mettre cette formule dans un programme, pour afficher sur un afficheur lcd la vitesse du mobile transportant l'émetteur ultrasonor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1280" indent="-341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6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4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8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2" dur="5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5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3500"/>
                            </p:stCondLst>
                            <p:childTnLst>
                              <p:par>
                                <p:cTn id="2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0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8robert</cp:lastModifiedBy>
  <dcterms:modified xsi:type="dcterms:W3CDTF">2008-04-22T11:59:33Z</dcterms:modified>
  <cp:revision>8</cp:revision>
  <dc:subject/>
  <dc:title>Diapositive 1</dc:title>
</cp:coreProperties>
</file>