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940-2882-4E19-BFF0-CB0ADA56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724-B912-47E3-A34E-CC0454B2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C44-5F2D-4099-A29E-03F3A1EB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C9C-9BD9-4E63-806E-C96FDAB2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E79-2DDC-4A17-B905-0CFBE385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909-D4BC-40C6-8EDB-90492336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8A9-5F1C-41C5-B0A2-77F15CA3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83F-7AB5-4EDF-B9BA-D7486B40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659-0888-4AF4-A63D-29D8F22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E0F-3082-4453-9E93-95741036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747-07B0-43BC-A6D8-B052F0F9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E18-3D89-4ECC-934B-14A396AF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7D3D-DF0D-4F7C-AE77-3BE676215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33480" y="2135160"/>
            <a:ext cx="866880" cy="501840"/>
            <a:chOff x="1833480" y="2135160"/>
            <a:chExt cx="866880" cy="501840"/>
          </a:xfrm>
        </p:grpSpPr>
        <p:sp>
          <p:nvSpPr>
            <p:cNvPr id="42" name=""/>
            <p:cNvSpPr/>
            <p:nvPr/>
          </p:nvSpPr>
          <p:spPr>
            <a:xfrm flipV="1">
              <a:off x="2576520" y="227196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2451960" y="213516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2328840" y="227196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2205000" y="213516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2080800" y="2272320"/>
              <a:ext cx="0" cy="22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957680" y="213516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00360" y="2135160"/>
              <a:ext cx="0" cy="50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833480" y="227196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2700360" y="2347920"/>
            <a:ext cx="792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234936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933720"/>
            <a:ext cx="144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93372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349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70400" y="2155680"/>
            <a:ext cx="380880" cy="336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4221000"/>
            <a:ext cx="380880" cy="336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9640" y="3308400"/>
            <a:ext cx="381240" cy="336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2732040"/>
            <a:ext cx="381240" cy="33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740040"/>
            <a:ext cx="380880" cy="33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49840" y="3716280"/>
            <a:ext cx="1298520" cy="432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211640" y="3211560"/>
            <a:ext cx="216000" cy="288720"/>
            <a:chOff x="4211640" y="3211560"/>
            <a:chExt cx="216000" cy="288720"/>
          </a:xfrm>
        </p:grpSpPr>
        <p:sp>
          <p:nvSpPr>
            <p:cNvPr id="64" name=""/>
            <p:cNvSpPr/>
            <p:nvPr/>
          </p:nvSpPr>
          <p:spPr>
            <a:xfrm>
              <a:off x="4211640" y="321156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6200000">
              <a:off x="4180680" y="3247560"/>
              <a:ext cx="282960" cy="21096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 flipV="1">
            <a:off x="4068360" y="33555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8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924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0" y="3355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411280" y="407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71640" y="350028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5300640"/>
            <a:ext cx="2448000" cy="115272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nne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2781360"/>
            <a:ext cx="576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205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470 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5080" y="386064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400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2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3429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52:42Z</dcterms:created>
  <dc:creator>19vaullerin</dc:creator>
  <dc:description/>
  <dc:language>en-US</dc:language>
  <cp:lastModifiedBy>19vaullerin</cp:lastModifiedBy>
  <dcterms:modified xsi:type="dcterms:W3CDTF">2008-03-25T16:31:55Z</dcterms:modified>
  <cp:revision>4</cp:revision>
  <dc:subject/>
  <dc:title>Diapositive 1</dc:title>
</cp:coreProperties>
</file>