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722-81D6-401E-A57A-5C0B310F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0B9-51D3-4D04-940E-3BE6B2DC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100-7341-4D3A-A1C8-E6A625CE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1FB-8E3A-4004-BEF2-18012723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F03-C847-435A-B0BE-4EEEAF9D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8C4-A6B5-46AA-AE25-3A33D63A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9B2-AF5A-4901-9F3E-8AAD666A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935-5EAA-4080-82B9-939A9779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69D-9429-4D9D-9E67-A3BCAB0B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4D7-1135-445C-A6B3-C36549F9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C8F-494C-4151-9606-384CDB3C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3F5-0A9D-4993-939A-DD81D722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6482-57AC-42A8-8652-F9DCCAA2D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ORNE SOLAIRE AUTON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2349000"/>
            <a:ext cx="6588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) Présentation des bornes solair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 pour qu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 où et quan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 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) Principe de fonctionnemen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animation sur le foncti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) Modèle existant et commercialisatio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 animation modèle exi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 fiche commerc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) Projet P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animation modèle pré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RBOSA Pierr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ULLERIN Bapti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STRELIN Anto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1711080" cy="3359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pteur jour/n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mplacement du panneau solaire en tant que capteur jour/nuit par une photorésistanc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pplication au programme de deux seuils (lumjour et lumnuit) de luminos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ation de la carte capteur couplée avec une carte ATMEL SSI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rogramme ainsi réalisé peut être résumer par l’algorigrame suivan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STION DE L’ECLAI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estion de l’éclairage est effectué par la carte ATMEL SSI et le programme implanté dans son microcontrôl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rogramme a été réalisé a l’aide du logiciel « code vision AVR 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rogramme couplée avec le programme d’horloge interne doit permettre de gérer l’éclairage ou non suivant l’heure, la saison, la luminos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vons préparer les programmes sous « code vision AVR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de la borne solaire const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test d’intensité sur la borne n’on pas été terminé a cause d’un disfonctionnement de la bo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oints de mesure ont été ajouté a la bor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805280" cy="504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95640" y="54936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o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es bornes solai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ur qui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es particu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ù et Qua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n extérieur (cours, allées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our "éclairer"  la n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our délimiter un chemin, etc.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lles se charge la journée grâce au panneau solaire dont elles sont mu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43640" y="155736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MODELE EXIST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56320" y="27828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91240" y="27828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incipe de fonction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7600" y="2709720"/>
            <a:ext cx="2592360" cy="144720"/>
          </a:xfrm>
          <a:prstGeom prst="rect">
            <a:avLst/>
          </a:prstGeom>
          <a:solidFill>
            <a:srgbClr val="4839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3600" y="3214800"/>
            <a:ext cx="1440000" cy="165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ectro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51240" y="3790800"/>
            <a:ext cx="936720" cy="107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11600" y="3286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11600" y="32860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927600" y="3430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7600" y="343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34304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718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4680" y="3143160"/>
            <a:ext cx="1008000" cy="93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380960"/>
            <a:ext cx="259236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anneau solai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transforme les photons du soleil en énergie électrique et sert de capteur de luminosit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ircuit électroni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gère la charge de la batterie et la détection de la nuit avec le panneau s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Batteri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ile LR6 recharg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amp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emble de LEDs a haute luminos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3429000"/>
            <a:ext cx="1295640" cy="1871640"/>
          </a:xfrm>
          <a:prstGeom prst="ellipse">
            <a:avLst/>
          </a:prstGeom>
          <a:noFill/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8160" y="2421000"/>
            <a:ext cx="3887640" cy="620640"/>
          </a:xfrm>
          <a:prstGeom prst="ellipse">
            <a:avLst/>
          </a:prstGeom>
          <a:noFill/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2781360"/>
            <a:ext cx="2089080" cy="2519280"/>
          </a:xfrm>
          <a:prstGeom prst="ellipse">
            <a:avLst/>
          </a:prstGeom>
          <a:noFill/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2997360"/>
            <a:ext cx="1227240" cy="1225440"/>
          </a:xfrm>
          <a:prstGeom prst="ellipse">
            <a:avLst/>
          </a:prstGeom>
          <a:noFill/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6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6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2771280" y="2420280"/>
            <a:ext cx="3240360" cy="360360"/>
          </a:xfrm>
          <a:custGeom>
            <a:avLst/>
            <a:gdLst>
              <a:gd name="textAreaLeft" fmla="*/ 718920 w 3240360"/>
              <a:gd name="textAreaRight" fmla="*/ 2521440 w 3240360"/>
              <a:gd name="textAreaTop" fmla="*/ 79920 h 360360"/>
              <a:gd name="textAreaBottom" fmla="*/ 2804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24" y="21600"/>
                </a:lnTo>
                <a:lnTo>
                  <a:pt x="5476" y="21600"/>
                </a:lnTo>
                <a:close/>
              </a:path>
            </a:pathLst>
          </a:custGeom>
          <a:solidFill>
            <a:srgbClr val="7373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2781360"/>
            <a:ext cx="1655640" cy="165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4437000"/>
            <a:ext cx="502920" cy="2305080"/>
          </a:xfrm>
          <a:prstGeom prst="rect">
            <a:avLst/>
          </a:prstGeom>
          <a:solidFill>
            <a:srgbClr val="7373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393200">
            <a:off x="1547280" y="692280"/>
            <a:ext cx="5977080" cy="5184720"/>
          </a:xfrm>
          <a:prstGeom prst="irregularSeal2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740720" y="544500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nctionnement des systèmes actu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4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" dur="1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3" dur="1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4" dur="1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5" dur="1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7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0">
                                  <p:stCondLst>
                                    <p:cond delay="7300"/>
                                  </p:stCondLst>
                                  <p:childTnLst>
                                    <p:animClr clrSpc="hsl" dir="cw">
                                      <p:cBhvr>
                                        <p:cTn id="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blème constaté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La borne s’éteint avant le levée du j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Lors de certaines saisons, la nuit étant plus longue, la borne peut se retrouvée a court d’énergie pour éclairer l’usager le mati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NOTRE PROJ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d6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2771280" y="2420280"/>
            <a:ext cx="3240360" cy="360360"/>
          </a:xfrm>
          <a:custGeom>
            <a:avLst/>
            <a:gdLst>
              <a:gd name="textAreaLeft" fmla="*/ 718920 w 3240360"/>
              <a:gd name="textAreaRight" fmla="*/ 2521440 w 3240360"/>
              <a:gd name="textAreaTop" fmla="*/ 79920 h 360360"/>
              <a:gd name="textAreaBottom" fmla="*/ 2804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24" y="21600"/>
                </a:lnTo>
                <a:lnTo>
                  <a:pt x="5476" y="21600"/>
                </a:lnTo>
                <a:close/>
              </a:path>
            </a:pathLst>
          </a:custGeom>
          <a:solidFill>
            <a:srgbClr val="7373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2781360"/>
            <a:ext cx="1655640" cy="165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4437000"/>
            <a:ext cx="502920" cy="2305080"/>
          </a:xfrm>
          <a:prstGeom prst="rect">
            <a:avLst/>
          </a:prstGeom>
          <a:solidFill>
            <a:srgbClr val="7373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393200">
            <a:off x="1547280" y="692280"/>
            <a:ext cx="5977080" cy="5184720"/>
          </a:xfrm>
          <a:prstGeom prst="irregularSeal2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740720" y="544500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4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" dur="1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" dur="1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5" dur="1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6" dur="1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7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0">
                                  <p:stCondLst>
                                    <p:cond delay="7300"/>
                                  </p:stCondLst>
                                  <p:childTnLst>
                                    <p:animClr clrSpc="hsl" dir="cw">
                                      <p:cBhvr>
                                        <p:cTn id="1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17640" y="1870200"/>
            <a:ext cx="1714680" cy="1141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03440" y="198432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08240" y="1916280"/>
            <a:ext cx="23760" cy="13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60720" y="3241800"/>
            <a:ext cx="1028520" cy="799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46520" y="255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75120" y="28987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46160" y="2556000"/>
            <a:ext cx="148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975120" y="2898720"/>
            <a:ext cx="12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18120" y="2327400"/>
            <a:ext cx="799920" cy="799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431960" y="1641600"/>
            <a:ext cx="571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803920" y="2212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1413000"/>
            <a:ext cx="1600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ule photovoltaï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4720" y="1916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Ampoule 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eds à haute luminos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05200" y="3238560"/>
            <a:ext cx="12970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contrôl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4869000"/>
            <a:ext cx="576108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mment le fai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placer le simple circuit électronique par un microcontrôleur préalablement programmer pour optimiser le temps d’éclai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4:01:45Z</dcterms:created>
  <dc:creator>19vaullerin</dc:creator>
  <dc:description/>
  <dc:language>en-US</dc:language>
  <cp:lastModifiedBy>19vaullerin</cp:lastModifiedBy>
  <dcterms:modified xsi:type="dcterms:W3CDTF">2008-04-22T15:11:21Z</dcterms:modified>
  <cp:revision>24</cp:revision>
  <dc:subject/>
  <dc:title>Diapositive 1</dc:title>
</cp:coreProperties>
</file>