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wmf" ContentType="image/x-wmf"/>
  <Override PartName="/ppt/media/image9.jpeg" ContentType="image/jpeg"/>
  <Override PartName="/ppt/media/image12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834-47BA-49DD-A6C1-B48C4C89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688-7DBC-4427-A00A-B1EFEB5D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3EC-0477-4721-A465-2225519E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519-E412-4F26-A913-619A4967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BAE-D6C7-4080-808E-20C9DC62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158-B7E9-473C-9FCD-6A44C348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8CF-D087-497E-8E83-4D53AE2A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2B6-34EA-4CF6-BB87-EB876B1D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FFE-0CC2-454D-8026-3B69270D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251-BD0E-4332-BA53-098AA1F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F13-294B-4024-ACD8-77752A3A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186-963F-408E-9423-7565A38C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EF92-3E6C-41BE-8784-1913E2668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967" r="0" b="10895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La ser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25092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3049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) Pour la ventil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24152" t="0" r="18889" b="29000"/>
          <a:stretch/>
        </p:blipFill>
        <p:spPr>
          <a:xfrm>
            <a:off x="2971800" y="2057400"/>
            <a:ext cx="3505320" cy="3268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3200" y="624528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25092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048120" y="26668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380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au 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200" y="624528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1557360"/>
            <a:ext cx="5753160" cy="4178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éma électrique de la carte de com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773760"/>
            <a:chOff x="0" y="0"/>
            <a:chExt cx="9144000" cy="6773760"/>
          </a:xfrm>
        </p:grpSpPr>
        <p:pic>
          <p:nvPicPr>
            <p:cNvPr id="106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0" y="0"/>
              <a:ext cx="9144000" cy="67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0" y="0"/>
              <a:ext cx="9144000" cy="677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04840" y="1600200"/>
            <a:ext cx="70675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hile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P = Lire_BP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witch(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se INC: if (rcycl &lt; 90) rcycl = rcycl+10; else rcycl = 100; 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se DEC: if (rcycl &gt; 10) rcycl = rcycl-10; else rcycl = 0; break;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CR1A = alpha[rcycl/1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f (rcycl_1 != rcyc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printf(display_buffer_ligne0,"rap. cycl = %-u%%",rcyc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printf(display_buffer_ligne1,"INC&gt;+ DEC&gt;-    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ffiche_LCD(display_buffer_ligne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cycl_1 = rcyc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}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emple de programme pour le PW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mmande du moteur à courant contin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490320"/>
            <a:ext cx="868680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 gérer les grandeurs physiques dans une serre afin d’optimiser le développement des plant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066680"/>
            <a:ext cx="57150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- Général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2) Fonctionnement et type de s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- Procédés uti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1) Pour la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2) Pour l’arro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Pour la 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-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au 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V- La mini s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ription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25092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1676520"/>
          <a:ext cx="4647960" cy="2360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676520"/>
                    <a:ext cx="464796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8088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)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08560" y="4218120"/>
          <a:ext cx="3301920" cy="2030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08560" y="4218120"/>
                    <a:ext cx="330192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9600"/>
            <a:ext cx="9144000" cy="677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1494000" y="2070000"/>
            <a:ext cx="7345080" cy="440712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25092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9720" y="379440"/>
            <a:ext cx="5802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) Fonctionnemen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ffet de serr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5092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4111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ype de ser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419720" y="1981080"/>
            <a:ext cx="3319200" cy="3695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2057400"/>
            <a:ext cx="25146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rre Fro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200" y="624528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25092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66680" y="1050840"/>
            <a:ext cx="23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rre Chau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586728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rre Tempér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90920" y="2133720"/>
            <a:ext cx="3876480" cy="3240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3200" y="624528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25092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304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) Pour la cult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rcRect l="0" t="21440" r="0" b="0"/>
          <a:stretch/>
        </p:blipFill>
        <p:spPr>
          <a:xfrm>
            <a:off x="5486400" y="1066680"/>
            <a:ext cx="3062160" cy="2127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1600" y="2971800"/>
            <a:ext cx="2819520" cy="2492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200" y="624528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25092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3049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) Pour l ’arrosag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133720" y="2362320"/>
            <a:ext cx="5333760" cy="3571920"/>
            <a:chOff x="2133720" y="2362320"/>
            <a:chExt cx="5333760" cy="3571920"/>
          </a:xfrm>
        </p:grpSpPr>
        <p:graphicFrame>
          <p:nvGraphicFramePr>
            <p:cNvPr id="84" name=""/>
            <p:cNvGraphicFramePr/>
            <p:nvPr/>
          </p:nvGraphicFramePr>
          <p:xfrm>
            <a:off x="2133720" y="2362320"/>
            <a:ext cx="5333760" cy="35719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362320"/>
                      <a:ext cx="5333760" cy="357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962160" y="3733920"/>
              <a:ext cx="2057040" cy="19814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33520" y="137160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 goutte à goutt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200" y="624528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15:56Z</dcterms:created>
  <dc:creator>5debiesse</dc:creator>
  <dc:description/>
  <dc:language>en-US</dc:language>
  <cp:lastModifiedBy>6doucet</cp:lastModifiedBy>
  <dcterms:modified xsi:type="dcterms:W3CDTF">2008-04-22T12:26:31Z</dcterms:modified>
  <cp:revision>15</cp:revision>
  <dc:subject/>
  <dc:title> La serre</dc:title>
</cp:coreProperties>
</file>