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4F5-512D-4F3D-BE3A-4C342224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A4D-727D-406F-82BD-E0827094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A69-249F-42C8-B8E5-5C7728B5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7B7-6E1B-4544-8D3B-08F1C786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3E3-D33C-419E-9980-4C1655B5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256-92C9-4EC8-882D-F3196AAB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354-57E1-489C-AFE7-F1912ECD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5A8-4D63-4F0C-8284-841FFBD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2D-FE1A-417E-93F2-4C7D6D48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D45-20F9-40C1-9EB8-905C4ED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7F1-B6FF-4C52-B063-439B775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AC4-63A0-4DD6-8784-7EA2323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7663-E499-4990-B1D2-0EB81B686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ffets lumière et commande DM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4799" t="15785" r="14822" b="15785"/>
          <a:stretch/>
        </p:blipFill>
        <p:spPr>
          <a:xfrm>
            <a:off x="1908000" y="1413000"/>
            <a:ext cx="5473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II- Programme de la car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08120" y="1376280"/>
            <a:ext cx="7726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6280" y="262080"/>
            <a:ext cx="873288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20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xemple d’affichage en mode bargra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4880" y="2962440"/>
            <a:ext cx="30560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6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s complé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/ Constantes en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/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/ Caractères personnalisés placés dans la mémoire CGRAM du L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unsigned char Pulse_Barre_Graphe[8] = {0x00, 0x0E, 0x0A, 0x0A, 0x0A, 0x0A, 0x1B, 0x00}; // @0 C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1[8] = {0x00, 0x00, 0x00, 0x00, 0x00, 0x00, 0x00, 0x1F}; // @1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2[8] = {0x00, 0x00, 0x00, 0x00, 0x00, 0x00, 0x1F, 0x1F}; // @2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3[8] = {0x00, 0x00, 0x00, 0x00, 0x00, 0x1F, 0x1F, 0x1F}; // @3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4[8] = {0x00, 0x00, 0x00, 0x00, 0x1F, 0x1F, 0x1F, 0x1F}; // @4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5[8] = {0x00, 0x00, 0x00, 0x1F, 0x1F, 0x1F, 0x1F, 0x1F}; // @5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6[8] = {0x00, 0x00, 0x1F, 0x1F, 0x1F, 0x1F, 0x1F, 0x1F}; // @6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Barre_graphe_niveau7[8] = {0x00, 0x1F, 0x1F, 0x1F, 0x1F, 0x1F, 0x1F, 0x1F}; // @7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flecheHaut[8] = {0x04, 0x0E, 0x15, 0x04, 0x04, 0x04, 0x04, 0x04};    // @1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st unsigned char flecheBas[8] = {0x04, 0x04, 0x04, 0x04, 0x04, 0x15, 0x0E, 0x04};     // @2 CGRAM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moire C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/ Chargement initial de la mémoire CGRAM de l'afficheur avec 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/ caractères personal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i&lt;8;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Pulse_CGRAM + i, Pulse_Barre_Graphe[i]); // @0 Caractère 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FlecheH_CGRAM + i, flecheHaut[i]); // @1 Caractère flèche haut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FlecheB_CGRAM + i, flecheBas[i]); // @2 Caractère flèche ba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3barres_CGRAM + i, Barre_graphe_niveau3[i]);  // @3 Caractère 3 barre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4barres_CGRAM + i, Barre_graphe_niveau4[i]);  // @4 Caractère 4 barre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5barres_CGRAM + i, Barre_graphe_niveau5[i]); // @5 Caractère 5 barre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d_write_byte(Add_6barres_CGRAM + i, Barre_graphe_niveau6[i]); // @6 Caractère 6 barre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d_write_byte(Add_7barres_CGRAM + i, Barre_graphe_niveau7[i]);// @7 Caractère 7 barres à complé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9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- Réalisation d’un boît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- Réalisation d’un circuit imprim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II- Réalisation du programme de la c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76280"/>
            <a:ext cx="777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Problématique: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réer des effets de lumière par l’intermédiaire d’équipements reliés à un réseau DMX 512 commandé par le logiciel FreeSty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éaliser un « sniffer DMX 512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de perç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1471680"/>
            <a:ext cx="8190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II Réalisation d’un circuit impri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2356" t="16538" r="19728" b="13585"/>
          <a:stretch/>
        </p:blipFill>
        <p:spPr>
          <a:xfrm>
            <a:off x="1258920" y="907920"/>
            <a:ext cx="66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2:26:55Z</dcterms:created>
  <dc:creator>3chanthalangsy</dc:creator>
  <dc:description/>
  <dc:language>en-US</dc:language>
  <cp:lastModifiedBy>3chanthalangsy</cp:lastModifiedBy>
  <dcterms:modified xsi:type="dcterms:W3CDTF">2008-04-22T14:00:03Z</dcterms:modified>
  <cp:revision>3</cp:revision>
  <dc:subject/>
  <dc:title>Plan de perçage</dc:title>
</cp:coreProperties>
</file>