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360" y="-8534520"/>
            <a:ext cx="360" cy="184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-12301560" y="-8534520"/>
            <a:ext cx="24604560" cy="184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-12301560" y="-8534520"/>
            <a:ext cx="24604560" cy="184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-12301560" y="-8534520"/>
            <a:ext cx="24604560" cy="184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-12301560" y="-8534520"/>
            <a:ext cx="24604560" cy="184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-12301560" y="-8534520"/>
            <a:ext cx="24604560" cy="184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-12301560" y="-8534520"/>
            <a:ext cx="24604560" cy="184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0" y="-8534520"/>
            <a:ext cx="1440" cy="184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-12303000" y="-8534520"/>
            <a:ext cx="24607800" cy="184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-12301560" y="-8534520"/>
            <a:ext cx="24604560" cy="184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-12301560" y="-8534520"/>
            <a:ext cx="24604560" cy="184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-12303000" y="-8534520"/>
            <a:ext cx="24607800" cy="184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-12301560" y="-8534520"/>
            <a:ext cx="24604560" cy="184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-12303000" y="-8534520"/>
            <a:ext cx="24607800" cy="184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-12303000" y="-8534520"/>
            <a:ext cx="24607800" cy="184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-12301560" y="-8534520"/>
            <a:ext cx="24604560" cy="184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024D-5D24-431E-AE87-B5AB847CD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88240"/>
            <a:ext cx="776304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735B-D1C6-433A-BB83-D0573409A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88240"/>
            <a:ext cx="378828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800" y="4188240"/>
            <a:ext cx="378828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FDBD-4A33-4E94-88FF-5AB63CBA3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48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49948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5320" y="1980720"/>
            <a:ext cx="249948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88240"/>
            <a:ext cx="249948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88240"/>
            <a:ext cx="249948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5320" y="4188240"/>
            <a:ext cx="249948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5788-03C3-432C-8FEB-8D05820A26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304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6F0A-7D12-4E7E-AA03-2D601170EB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8929-6219-486E-89E6-7A1D60307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6A1E-11B8-41BA-A663-150B06E8B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8519-5136-41D0-8403-4D9ADA2BD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8749-E47B-4E60-8669-7AA81E3D7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88240"/>
            <a:ext cx="378828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BC87-D11E-431F-9DE4-8E9407B6C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800" y="4188240"/>
            <a:ext cx="378828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39BB-0120-454C-9161-0A6AFFB65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88240"/>
            <a:ext cx="776304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8C8D-B62E-4E99-B2F3-6575A5BA0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304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7612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18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2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F7A6B7-9DF8-4F28-A6ED-664A574B36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533520" y="235080"/>
            <a:ext cx="846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 u="sng">
                <a:solidFill>
                  <a:srgbClr val="ffffff"/>
                </a:solidFill>
                <a:uFillTx/>
                <a:latin typeface="Comic Sans MS"/>
              </a:rPr>
              <a:t>Le robot suiveur de lignes lanceur de ball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5943600" y="4648320"/>
            <a:ext cx="28195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ait par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ori Oliv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Garavillon Ré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orient Etie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Doisneau Nico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50" autoRev="1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50" autoRev="1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50" autoRev="1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50" autoRev="1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500120" y="2143080"/>
            <a:ext cx="7143840" cy="4219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428760" y="285840"/>
            <a:ext cx="7143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mparaison entre AIN1 et Vseu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Vseuil compris entre 0 et 4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IN0 permet de différencier le noir du blanc. Ainsi on a  Vnoir &lt; AIN0 &lt; Vblan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nversion de Vsignal analogique en signal logique A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285920" y="2786040"/>
            <a:ext cx="5641920" cy="3368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928800" y="500040"/>
            <a:ext cx="750096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e potentiel sur l’entrée AIN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st supérieur au potentiel s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’entrée AIN1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ors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C0 = « 1 » log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inon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C0 = « 0 » log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143000" y="3000240"/>
            <a:ext cx="6588000" cy="2452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785880" y="928800"/>
            <a:ext cx="7143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ycle effectué par le microcontrôleur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071800" y="2357280"/>
            <a:ext cx="4981320" cy="4181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214200" y="142920"/>
            <a:ext cx="8099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2) Commande des mot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14200" y="785880"/>
            <a:ext cx="8929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oues commandées séparémen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tesse des moteurs réglables suivant les vir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&gt; Signal « MLI 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1714680" y="214200"/>
            <a:ext cx="5448240" cy="2400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857160" y="3071880"/>
            <a:ext cx="635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vec H : signal périodique de fréquence F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 : valeur numérique variable (0≤M≤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1)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 : valeur numérique constan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A&lt;B  alors S=S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Comic Sans MS"/>
              </a:rPr>
              <a:t>max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A&gt;B   alors S=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85880" y="5357880"/>
            <a:ext cx="6929280" cy="8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e signal MLI sera généré avec notre microcontrôleur grâce au timer. Celui-ci intègre un compteur et des comparate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7750080" cy="3952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357120" y="4857840"/>
            <a:ext cx="8215560" cy="13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CNT1 génère le signal numérique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CR1A et OCR1B correspondent à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CR1C permet de régler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entre 0 et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1 (n=8)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C1A et OC1B correspondent à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785880" y="642960"/>
            <a:ext cx="75009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es valeurs obtenues de OC1A et OC1B sont les suivante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1680" y="1643040"/>
          <a:ext cx="6286320" cy="1285920"/>
        </p:xfrm>
        <a:graphic>
          <a:graphicData uri="http://schemas.openxmlformats.org/drawingml/2006/table">
            <a:tbl>
              <a:tblPr/>
              <a:tblGrid>
                <a:gridCol w="892080"/>
                <a:gridCol w="598320"/>
                <a:gridCol w="600120"/>
                <a:gridCol w="600120"/>
                <a:gridCol w="598320"/>
                <a:gridCol w="600120"/>
                <a:gridCol w="598680"/>
                <a:gridCol w="600120"/>
                <a:gridCol w="598320"/>
                <a:gridCol w="600120"/>
              </a:tblGrid>
              <a:tr h="642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642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R1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p:transition spd="med">
    <p:wipe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oneTexte 1"/>
          <p:cNvSpPr/>
          <p:nvPr/>
        </p:nvSpPr>
        <p:spPr>
          <a:xfrm>
            <a:off x="857160" y="142920"/>
            <a:ext cx="72867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 u="sng">
                <a:solidFill>
                  <a:srgbClr val="ffff99"/>
                </a:solidFill>
                <a:uFillTx/>
                <a:latin typeface="Comic Sans MS"/>
              </a:rPr>
              <a:t>III) La partie mécaniq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ZoneTexte 40"/>
          <p:cNvSpPr/>
          <p:nvPr/>
        </p:nvSpPr>
        <p:spPr>
          <a:xfrm>
            <a:off x="714240" y="857160"/>
            <a:ext cx="66438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ffffff"/>
                </a:solidFill>
                <a:uFillTx/>
                <a:latin typeface="Comic Sans MS"/>
              </a:rPr>
              <a:t>1) Le châs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55" descr=""/>
          <p:cNvPicPr/>
          <p:nvPr/>
        </p:nvPicPr>
        <p:blipFill>
          <a:blip r:embed="rId1"/>
          <a:stretch/>
        </p:blipFill>
        <p:spPr>
          <a:xfrm>
            <a:off x="1928880" y="1285920"/>
            <a:ext cx="5405400" cy="4044960"/>
          </a:xfrm>
          <a:prstGeom prst="rect">
            <a:avLst/>
          </a:prstGeom>
          <a:ln w="0">
            <a:noFill/>
          </a:ln>
        </p:spPr>
      </p:pic>
      <p:sp>
        <p:nvSpPr>
          <p:cNvPr id="100" name="ZoneTexte 43"/>
          <p:cNvSpPr/>
          <p:nvPr/>
        </p:nvSpPr>
        <p:spPr>
          <a:xfrm>
            <a:off x="3286080" y="5429160"/>
            <a:ext cx="30718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La partie rouge est le suppor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ZoneTexte 44"/>
          <p:cNvSpPr/>
          <p:nvPr/>
        </p:nvSpPr>
        <p:spPr>
          <a:xfrm>
            <a:off x="285840" y="5786280"/>
            <a:ext cx="37148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Matériau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buClr>
                <a:srgbClr val="000000"/>
              </a:buClr>
              <a:buFont typeface="Comic Sans MS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Carte principale, capte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buClr>
                <a:srgbClr val="000000"/>
              </a:buClr>
              <a:buFont typeface="Comic Sans MS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Bi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428840" y="357120"/>
            <a:ext cx="6429240" cy="473076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2"/>
          <p:cNvSpPr/>
          <p:nvPr/>
        </p:nvSpPr>
        <p:spPr>
          <a:xfrm>
            <a:off x="3214800" y="5286240"/>
            <a:ext cx="30718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La partie rouge est le suppor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ZoneTexte 3"/>
          <p:cNvSpPr/>
          <p:nvPr/>
        </p:nvSpPr>
        <p:spPr>
          <a:xfrm>
            <a:off x="214200" y="5643720"/>
            <a:ext cx="36435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Mote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buClr>
                <a:srgbClr val="000000"/>
              </a:buClr>
              <a:buFont typeface="Comic Sans MS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c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285920" y="357120"/>
            <a:ext cx="6572160" cy="5008680"/>
          </a:xfrm>
          <a:prstGeom prst="rect">
            <a:avLst/>
          </a:prstGeom>
          <a:ln w="0">
            <a:noFill/>
          </a:ln>
        </p:spPr>
      </p:pic>
      <p:sp>
        <p:nvSpPr>
          <p:cNvPr id="106" name="ZoneTexte 2"/>
          <p:cNvSpPr/>
          <p:nvPr/>
        </p:nvSpPr>
        <p:spPr>
          <a:xfrm>
            <a:off x="3143160" y="5500800"/>
            <a:ext cx="30718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La partie rouge est le suppor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ZoneTexte 3"/>
          <p:cNvSpPr/>
          <p:nvPr/>
        </p:nvSpPr>
        <p:spPr>
          <a:xfrm>
            <a:off x="285840" y="5857920"/>
            <a:ext cx="36432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Partie lan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 u="sng">
                <a:solidFill>
                  <a:srgbClr val="ffff99"/>
                </a:solidFill>
                <a:uFillTx/>
                <a:latin typeface="Comic Sans MS"/>
              </a:rPr>
              <a:t>Problématiq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571680" y="2643120"/>
            <a:ext cx="8137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e problème consiste à concevoir un robot autonome capable de suivre une ligne noire et capable de lancer une balle de tennis de table dans un panier de bask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3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125" autoRev="1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125" autoRev="1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ZoneTexte 1"/>
          <p:cNvSpPr/>
          <p:nvPr/>
        </p:nvSpPr>
        <p:spPr>
          <a:xfrm>
            <a:off x="571680" y="500040"/>
            <a:ext cx="75722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ffffff"/>
                </a:solidFill>
                <a:uFillTx/>
                <a:latin typeface="Comic Sans MS"/>
              </a:rPr>
              <a:t>2) La partie lanc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ZoneTexte 2"/>
          <p:cNvSpPr/>
          <p:nvPr/>
        </p:nvSpPr>
        <p:spPr>
          <a:xfrm>
            <a:off x="571680" y="1143000"/>
            <a:ext cx="73580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Comic Sans MS"/>
              </a:rPr>
              <a:t>a. Les solutions ayant retenu notre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14240" y="2428920"/>
            <a:ext cx="6429600" cy="4192560"/>
          </a:xfrm>
          <a:prstGeom prst="rect">
            <a:avLst/>
          </a:prstGeom>
          <a:ln w="0">
            <a:noFill/>
          </a:ln>
        </p:spPr>
      </p:pic>
      <p:sp>
        <p:nvSpPr>
          <p:cNvPr id="111" name="ZoneTexte 4"/>
          <p:cNvSpPr/>
          <p:nvPr/>
        </p:nvSpPr>
        <p:spPr>
          <a:xfrm>
            <a:off x="642960" y="1785960"/>
            <a:ext cx="6286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Propulsion de la balle par un solénoï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ZoneTexte 1"/>
          <p:cNvSpPr/>
          <p:nvPr/>
        </p:nvSpPr>
        <p:spPr>
          <a:xfrm>
            <a:off x="428760" y="357120"/>
            <a:ext cx="81439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Solution utilisant un excentrique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7643520" cy="4145040"/>
          </a:xfrm>
          <a:prstGeom prst="rect">
            <a:avLst/>
          </a:prstGeom>
          <a:ln w="0">
            <a:noFill/>
          </a:ln>
        </p:spPr>
      </p:pic>
      <p:sp>
        <p:nvSpPr>
          <p:cNvPr id="114" name="ZoneTexte 3"/>
          <p:cNvSpPr/>
          <p:nvPr/>
        </p:nvSpPr>
        <p:spPr>
          <a:xfrm>
            <a:off x="571680" y="5286240"/>
            <a:ext cx="800100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vantage majeur : lancer de plusieurs bal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Inconvénient : mise en œuvre complex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4618080" cy="237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57120" y="4643280"/>
            <a:ext cx="5746680" cy="1816200"/>
          </a:xfrm>
          <a:prstGeom prst="rect">
            <a:avLst/>
          </a:prstGeom>
          <a:ln w="0">
            <a:noFill/>
          </a:ln>
        </p:spPr>
      </p:pic>
      <p:sp>
        <p:nvSpPr>
          <p:cNvPr id="117" name="ZoneTexte 3"/>
          <p:cNvSpPr/>
          <p:nvPr/>
        </p:nvSpPr>
        <p:spPr>
          <a:xfrm>
            <a:off x="357120" y="1000080"/>
            <a:ext cx="6786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Solution utilisant un électroaimant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ZoneTexte 4"/>
          <p:cNvSpPr/>
          <p:nvPr/>
        </p:nvSpPr>
        <p:spPr>
          <a:xfrm>
            <a:off x="357120" y="4143240"/>
            <a:ext cx="5500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Solution destructric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ZoneTexte 5"/>
          <p:cNvSpPr/>
          <p:nvPr/>
        </p:nvSpPr>
        <p:spPr>
          <a:xfrm>
            <a:off x="1928880" y="357120"/>
            <a:ext cx="5786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Envoyer la balle grâce à un ress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Fast"/>
          <p:cNvPicPr/>
          <p:nvPr/>
        </p:nvPicPr>
        <p:blipFill>
          <a:blip r:embed="rId1"/>
          <a:stretch/>
        </p:blipFill>
        <p:spPr>
          <a:xfrm>
            <a:off x="285840" y="1071720"/>
            <a:ext cx="8497800" cy="4500360"/>
          </a:xfrm>
          <a:prstGeom prst="rect">
            <a:avLst/>
          </a:prstGeom>
          <a:ln w="0">
            <a:noFill/>
          </a:ln>
        </p:spPr>
      </p:pic>
      <p:sp>
        <p:nvSpPr>
          <p:cNvPr id="121" name="ZoneTexte 1"/>
          <p:cNvSpPr/>
          <p:nvPr/>
        </p:nvSpPr>
        <p:spPr>
          <a:xfrm>
            <a:off x="428760" y="428760"/>
            <a:ext cx="8143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Comic Sans MS"/>
              </a:rPr>
              <a:t>b) La solution retenue et sa mise en œuv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ZoneTexte 1"/>
          <p:cNvSpPr/>
          <p:nvPr/>
        </p:nvSpPr>
        <p:spPr>
          <a:xfrm>
            <a:off x="357120" y="428760"/>
            <a:ext cx="82868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Comic Sans MS"/>
              </a:rPr>
              <a:t>Comment garder le ressort comprimé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Object 1"/>
          <p:cNvGraphicFramePr/>
          <p:nvPr/>
        </p:nvGraphicFramePr>
        <p:xfrm>
          <a:off x="428760" y="1000080"/>
          <a:ext cx="7715160" cy="54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000080"/>
                    <a:ext cx="7715160" cy="54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ZoneTexte 1"/>
          <p:cNvSpPr/>
          <p:nvPr/>
        </p:nvSpPr>
        <p:spPr>
          <a:xfrm>
            <a:off x="428760" y="428760"/>
            <a:ext cx="8072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Comic Sans MS"/>
              </a:rPr>
              <a:t>Comment relâcher le ressor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" descr="vue Loquets"/>
          <p:cNvPicPr/>
          <p:nvPr/>
        </p:nvPicPr>
        <p:blipFill>
          <a:blip r:embed="rId1"/>
          <a:stretch/>
        </p:blipFill>
        <p:spPr>
          <a:xfrm>
            <a:off x="285840" y="1000080"/>
            <a:ext cx="8326440" cy="4643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oneTexte 1"/>
          <p:cNvSpPr/>
          <p:nvPr/>
        </p:nvSpPr>
        <p:spPr>
          <a:xfrm>
            <a:off x="285840" y="285840"/>
            <a:ext cx="82152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Le canon occupe une grande partie de la larg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" descr="robot vue de desus"/>
          <p:cNvPicPr/>
          <p:nvPr/>
        </p:nvPicPr>
        <p:blipFill>
          <a:blip r:embed="rId1"/>
          <a:stretch/>
        </p:blipFill>
        <p:spPr>
          <a:xfrm>
            <a:off x="311040" y="857160"/>
            <a:ext cx="8332920" cy="5373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oneTexte 1"/>
          <p:cNvSpPr/>
          <p:nvPr/>
        </p:nvSpPr>
        <p:spPr>
          <a:xfrm>
            <a:off x="500040" y="428760"/>
            <a:ext cx="64292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Comic Sans MS"/>
              </a:rPr>
              <a:t>Comment gagner en largeu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Poulie"/>
          <p:cNvPicPr/>
          <p:nvPr/>
        </p:nvPicPr>
        <p:blipFill>
          <a:blip r:embed="rId1"/>
          <a:stretch/>
        </p:blipFill>
        <p:spPr>
          <a:xfrm>
            <a:off x="1071720" y="928800"/>
            <a:ext cx="7064280" cy="4857480"/>
          </a:xfrm>
          <a:prstGeom prst="rect">
            <a:avLst/>
          </a:prstGeom>
          <a:ln w="0">
            <a:noFill/>
          </a:ln>
        </p:spPr>
      </p:pic>
      <p:sp>
        <p:nvSpPr>
          <p:cNvPr id="132" name="ZoneTexte 3"/>
          <p:cNvSpPr/>
          <p:nvPr/>
        </p:nvSpPr>
        <p:spPr>
          <a:xfrm>
            <a:off x="500040" y="6072120"/>
            <a:ext cx="84297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Réponse : en changeant la direction de la ficelle de 90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ZoneTexte 1"/>
          <p:cNvSpPr/>
          <p:nvPr/>
        </p:nvSpPr>
        <p:spPr>
          <a:xfrm>
            <a:off x="357120" y="357120"/>
            <a:ext cx="82868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L’effort est très important sur la tige filetée qui soutient la pouli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" descr="I:\Documents\Downloads\PPE\Images Robots\Poulie sans flèches.bmp"/>
          <p:cNvPicPr/>
          <p:nvPr/>
        </p:nvPicPr>
        <p:blipFill>
          <a:blip r:embed="rId1"/>
          <a:stretch/>
        </p:blipFill>
        <p:spPr>
          <a:xfrm>
            <a:off x="1714680" y="785880"/>
            <a:ext cx="5833800" cy="4714920"/>
          </a:xfrm>
          <a:prstGeom prst="rect">
            <a:avLst/>
          </a:prstGeom>
          <a:ln w="0">
            <a:noFill/>
          </a:ln>
        </p:spPr>
      </p:pic>
      <p:cxnSp>
        <p:nvCxnSpPr>
          <p:cNvPr id="135" name="Connecteur droit avec flèche 4"/>
          <p:cNvCxnSpPr/>
          <p:nvPr/>
        </p:nvCxnSpPr>
        <p:spPr>
          <a:xfrm>
            <a:off x="5929200" y="2214720"/>
            <a:ext cx="28584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6" name="Connecteur droit avec flèche 6"/>
          <p:cNvCxnSpPr/>
          <p:nvPr/>
        </p:nvCxnSpPr>
        <p:spPr>
          <a:xfrm flipH="1" flipV="1">
            <a:off x="-360" y="2214360"/>
            <a:ext cx="28584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7" name="ZoneTexte 10"/>
          <p:cNvSpPr/>
          <p:nvPr/>
        </p:nvSpPr>
        <p:spPr>
          <a:xfrm>
            <a:off x="500040" y="5715000"/>
            <a:ext cx="76438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Comment contrer cet effor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0" y="179280"/>
            <a:ext cx="9144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 u="sng">
                <a:solidFill>
                  <a:srgbClr val="ffff99"/>
                </a:solidFill>
                <a:uFillTx/>
                <a:latin typeface="Comic Sans MS"/>
              </a:rPr>
              <a:t>IV) Notre p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3" descr="G:\données\ppe\screen nv.bmp"/>
          <p:cNvPicPr/>
          <p:nvPr/>
        </p:nvPicPr>
        <p:blipFill>
          <a:blip r:embed="rId1"/>
          <a:stretch/>
        </p:blipFill>
        <p:spPr>
          <a:xfrm>
            <a:off x="571680" y="1714680"/>
            <a:ext cx="8026200" cy="2619360"/>
          </a:xfrm>
          <a:prstGeom prst="rect">
            <a:avLst/>
          </a:prstGeom>
          <a:ln w="0">
            <a:noFill/>
          </a:ln>
        </p:spPr>
      </p:pic>
      <p:cxnSp>
        <p:nvCxnSpPr>
          <p:cNvPr id="140" name="Connecteur droit avec flèche 8"/>
          <p:cNvCxnSpPr/>
          <p:nvPr/>
        </p:nvCxnSpPr>
        <p:spPr>
          <a:xfrm flipH="1" flipV="1">
            <a:off x="5357520" y="2356920"/>
            <a:ext cx="1286640" cy="121536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141" name="ZoneTexte 9"/>
          <p:cNvSpPr/>
          <p:nvPr/>
        </p:nvSpPr>
        <p:spPr>
          <a:xfrm>
            <a:off x="6000840" y="2428920"/>
            <a:ext cx="10000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7030a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2" name="Connecteur droit avec flèche 11"/>
          <p:cNvCxnSpPr/>
          <p:nvPr/>
        </p:nvCxnSpPr>
        <p:spPr>
          <a:xfrm>
            <a:off x="6071760" y="2428920"/>
            <a:ext cx="429480" cy="2160"/>
          </a:xfrm>
          <a:prstGeom prst="straightConnector1">
            <a:avLst/>
          </a:prstGeom>
          <a:ln w="1584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43" name="ZoneTexte 12"/>
          <p:cNvSpPr/>
          <p:nvPr/>
        </p:nvSpPr>
        <p:spPr>
          <a:xfrm>
            <a:off x="2143080" y="4643280"/>
            <a:ext cx="45007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x-d                   g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Vo =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s(a)      2(x-d).tg(a)+2h-2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ZoneTexte 13"/>
          <p:cNvSpPr/>
          <p:nvPr/>
        </p:nvSpPr>
        <p:spPr>
          <a:xfrm>
            <a:off x="2214720" y="6000840"/>
            <a:ext cx="2286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Vo = 4,2  m.s</a:t>
            </a:r>
            <a:r>
              <a:rPr b="0" lang="fr-FR" sz="24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Connecteur droit 20"/>
          <p:cNvSpPr/>
          <p:nvPr/>
        </p:nvSpPr>
        <p:spPr>
          <a:xfrm>
            <a:off x="2928960" y="5072040"/>
            <a:ext cx="857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Connecteur droit 22"/>
          <p:cNvSpPr/>
          <p:nvPr/>
        </p:nvSpPr>
        <p:spPr>
          <a:xfrm>
            <a:off x="4143240" y="5072040"/>
            <a:ext cx="2357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Connecteur droit 24"/>
          <p:cNvSpPr/>
          <p:nvPr/>
        </p:nvSpPr>
        <p:spPr>
          <a:xfrm flipV="1">
            <a:off x="3928320" y="4572000"/>
            <a:ext cx="142920" cy="9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Connecteur droit 26"/>
          <p:cNvSpPr/>
          <p:nvPr/>
        </p:nvSpPr>
        <p:spPr>
          <a:xfrm>
            <a:off x="4071960" y="4572000"/>
            <a:ext cx="27860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Connecteur droit 28"/>
          <p:cNvSpPr/>
          <p:nvPr/>
        </p:nvSpPr>
        <p:spPr>
          <a:xfrm flipH="1" flipV="1">
            <a:off x="3857760" y="4785840"/>
            <a:ext cx="71280" cy="7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685800" y="150840"/>
            <a:ext cx="7772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 u="sng">
                <a:solidFill>
                  <a:srgbClr val="ffff99"/>
                </a:solidFill>
                <a:uFillTx/>
                <a:latin typeface="Comic Sans MS"/>
              </a:rPr>
              <a:t>Sommaire du PP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380880" y="20574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ZoneTexte 3"/>
          <p:cNvSpPr/>
          <p:nvPr/>
        </p:nvSpPr>
        <p:spPr>
          <a:xfrm>
            <a:off x="857160" y="1500120"/>
            <a:ext cx="76438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 u="sng">
                <a:solidFill>
                  <a:srgbClr val="ffff99"/>
                </a:solidFill>
                <a:uFillTx/>
                <a:latin typeface="Comic Sans MS"/>
              </a:rPr>
              <a:t>I)  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 u="sng">
                <a:solidFill>
                  <a:srgbClr val="ffff99"/>
                </a:solidFill>
                <a:uFillTx/>
                <a:latin typeface="Comic Sans MS"/>
              </a:rPr>
              <a:t>II) La partie électr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 u="sng">
                <a:solidFill>
                  <a:srgbClr val="ffff99"/>
                </a:solidFill>
                <a:uFillTx/>
                <a:latin typeface="Comic Sans MS"/>
              </a:rPr>
              <a:t>III) La partie méca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 u="sng">
                <a:solidFill>
                  <a:srgbClr val="ffff99"/>
                </a:solidFill>
                <a:uFillTx/>
                <a:latin typeface="Comic Sans MS"/>
              </a:rPr>
              <a:t>IV) Notre 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3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125" autoRev="1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125" autoRev="1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video SW 2.wmv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92" dur="indefinite" restart="never" nodeType="tmRoot">
          <p:childTnLst>
            <p:seq>
              <p:cTn id="69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7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687240" y="360360"/>
            <a:ext cx="77724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 u="sng">
                <a:solidFill>
                  <a:srgbClr val="ffff99"/>
                </a:solidFill>
                <a:uFillTx/>
                <a:latin typeface="Comic Sans MS"/>
              </a:rPr>
              <a:t>1) Les robots suiveurs de lignes et leur utilis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720720" y="2125800"/>
            <a:ext cx="73803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es robots suiveurs de lignes sont assez peu utilisés dans l'industrie. Il n'en existe que quelques applications comme ces jou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079640" y="3600360"/>
            <a:ext cx="1904760" cy="197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4859280" y="3586320"/>
            <a:ext cx="2879640" cy="19936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3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125" autoRev="1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125" autoRev="1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539640" y="539640"/>
            <a:ext cx="7920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n trouve toutefois des applications dérivées du robot suiveur de lignes dans l'industri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e robot filoguidé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69880" y="2340000"/>
            <a:ext cx="3751200" cy="2700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4859280" y="2340000"/>
            <a:ext cx="395928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onctionnement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- Un courant sinusoïdal de fréquence fixe parcourt le fi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- Ce courant engendre un champ magnétique détecté par les deux capteur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- Les informations ainsi captées sont représentatives de la position du chario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60360" y="5219640"/>
            <a:ext cx="8459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e robot présente des avantages et des inconvéni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60360" y="5759280"/>
            <a:ext cx="8099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e type de robot est utilisé dans divers hopitaux et par le groupe P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1523880" y="1143000"/>
            <a:ext cx="609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1523880" y="1143000"/>
            <a:ext cx="6096240" cy="457200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00040" y="214200"/>
            <a:ext cx="80010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Les robots suiveur de lignes de l’hôpital de Bourge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CLIP0008.AVI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539640" y="31680"/>
            <a:ext cx="774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 u="sng">
                <a:solidFill>
                  <a:srgbClr val="ffff99"/>
                </a:solidFill>
                <a:uFillTx/>
                <a:latin typeface="Comic Sans MS"/>
              </a:rPr>
              <a:t>2) Le challenge robotiq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39640" y="900000"/>
            <a:ext cx="774072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Le cahier des char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- Dimension maximales : 300 mm de longueur, 200 mm de largeur et 200 mm de hauteu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- Les robots doivent être autonom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- Ils doivent avoir un interrupteur marche/arrê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780000" y="3060720"/>
            <a:ext cx="5219640" cy="3600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539640" y="2806560"/>
            <a:ext cx="27003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Le conco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9280" y="4940280"/>
            <a:ext cx="270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parcours à suivre (ci-contre)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79280" y="3419640"/>
            <a:ext cx="34196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robot devra passer sous les portiques de départ et d'arrivée d'une largeur de 250 mm et de 200 mm de hauteu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3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125" autoRev="1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125" autoRev="1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3654360" y="1979640"/>
            <a:ext cx="2104920" cy="3681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179280" y="179280"/>
            <a:ext cx="84600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rivé au niveau de la zone de tir, signalée par un aimant de 8 mm de diamètre et de 15 mm de hauteur, le robot devra lancer une balle dans un panier de basket situé à 1m60 de lu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60360" y="2160720"/>
            <a:ext cx="28796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nneau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Rayon de 91 m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Hauteur de 441 m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428760" y="142920"/>
            <a:ext cx="8429400" cy="6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 u="sng">
                <a:solidFill>
                  <a:srgbClr val="ffff66"/>
                </a:solidFill>
                <a:uFillTx/>
                <a:latin typeface="Comic Sans MS"/>
              </a:rPr>
              <a:t>II)La partie « électrique 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428760" y="1000080"/>
            <a:ext cx="80010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1) Détection de la lig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57120" y="2000160"/>
            <a:ext cx="80010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Détection de la position grâce à 5 capteurs I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pteur composé d’un émetteur et d’un récepteur 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es 5 émetteurs sont multiplexées 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mmandées séparé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haque émetteur nécessite un signal de 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ignaux reçus transmis sur un seul signal connecté à AIN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as Doisneau</cp:lastModifiedBy>
  <dcterms:modified xsi:type="dcterms:W3CDTF">2008-04-29T13:53:29Z</dcterms:modified>
  <cp:revision>60</cp:revision>
  <dc:subject/>
  <dc:title>Le robot suiveur de ligne lanceur de balles</dc:title>
</cp:coreProperties>
</file>