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8.jpeg" ContentType="image/jpeg"/>
  <Override PartName="/ppt/media/image27.gif" ContentType="image/gif"/>
  <Override PartName="/ppt/media/image26.jpeg" ContentType="image/jpeg"/>
  <Override PartName="/ppt/media/image22.jpeg" ContentType="image/jpeg"/>
  <Override PartName="/ppt/media/image21.gif" ContentType="image/gif"/>
  <Override PartName="/ppt/media/image19.jpeg" ContentType="image/jpeg"/>
  <Override PartName="/ppt/media/image32.gif" ContentType="image/gif"/>
  <Override PartName="/ppt/media/image18.jpeg" ContentType="image/jpeg"/>
  <Override PartName="/ppt/media/image23.gif" ContentType="image/gif"/>
  <Override PartName="/ppt/media/image17.jpeg" ContentType="image/jpeg"/>
  <Override PartName="/ppt/media/image8.png" ContentType="image/png"/>
  <Override PartName="/ppt/media/image11.gif" ContentType="image/gif"/>
  <Override PartName="/ppt/media/image34.wmf" ContentType="image/x-wmf"/>
  <Override PartName="/ppt/media/image20.jpeg" ContentType="image/jpeg"/>
  <Override PartName="/ppt/media/image12.png" ContentType="image/png"/>
  <Override PartName="/ppt/media/image9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7.png" ContentType="image/png"/>
  <Override PartName="/ppt/media/image39.wmf" ContentType="image/x-wmf"/>
  <Override PartName="/ppt/media/image5.gif" ContentType="image/gif"/>
  <Override PartName="/ppt/media/image31.wmf" ContentType="image/x-wmf"/>
  <Override PartName="/ppt/media/image41.jpeg" ContentType="image/jpeg"/>
  <Override PartName="/ppt/media/image36.png" ContentType="image/png"/>
  <Override PartName="/ppt/media/image6.png" ContentType="image/png"/>
  <Override PartName="/ppt/media/image13.gif" ContentType="image/gif"/>
  <Override PartName="/ppt/media/image35.wmf" ContentType="image/x-wmf"/>
  <Override PartName="/ppt/media/image16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.jpeg" ContentType="image/jpeg"/>
  <Override PartName="/ppt/media/image10.png" ContentType="image/png"/>
  <Override PartName="/ppt/media/image1.gif" ContentType="image/gif"/>
  <Override PartName="/ppt/media/image14.gif" ContentType="image/gi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D51-7F6D-4AE1-A95F-67A48F9C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055-DC97-4ECA-8F51-88BBD94D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28D-FC12-4B07-BE9E-A4F0A033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8E8-54AE-4FBD-AE79-C15A4E13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379-69A2-4866-93BB-D7600247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A08-756D-4585-97EA-CFA660A8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A8B-1B40-423A-ADC0-CF7BF788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EA3-97B8-4DD3-BBCF-EB3E31D3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443-D6C5-405C-9034-78FB9773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531-BB2C-42BC-B9CC-854CB7D2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E16-533B-4B0D-BE21-6311A020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29E-A998-41A5-93AF-A6901989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A1A1-039C-4089-AE43-63D4D3770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4560" y="2141640"/>
            <a:ext cx="711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E ROBOT SUIVEUR DE LIGNE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63560" y="3733920"/>
            <a:ext cx="573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ET LANCEUR DE BALLE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1160" y="3701880"/>
            <a:ext cx="478080" cy="478080"/>
          </a:xfrm>
          <a:prstGeom prst="ellipse">
            <a:avLst/>
          </a:prstGeom>
          <a:solidFill>
            <a:srgbClr val="fd7403"/>
          </a:solidFill>
          <a:ln w="9360">
            <a:solidFill>
              <a:srgbClr val="fd74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01800" y="422280"/>
            <a:ext cx="56768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E LANCER DE LA BALLE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DE PING-PONG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68280" y="3600720"/>
            <a:ext cx="1938240" cy="1674720"/>
            <a:chOff x="368280" y="3600720"/>
            <a:chExt cx="1938240" cy="1674720"/>
          </a:xfrm>
        </p:grpSpPr>
        <p:sp>
          <p:nvSpPr>
            <p:cNvPr id="178" name=""/>
            <p:cNvSpPr/>
            <p:nvPr/>
          </p:nvSpPr>
          <p:spPr>
            <a:xfrm>
              <a:off x="368280" y="4094280"/>
              <a:ext cx="1938240" cy="955440"/>
            </a:xfrm>
            <a:prstGeom prst="roundRect">
              <a:avLst>
                <a:gd name="adj" fmla="val 16667"/>
              </a:avLst>
            </a:prstGeom>
            <a:solidFill>
              <a:srgbClr val="3333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9880" y="4859280"/>
              <a:ext cx="355680" cy="40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06400" y="4867200"/>
              <a:ext cx="355680" cy="40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297400">
              <a:off x="720360" y="3870000"/>
              <a:ext cx="1521000" cy="331920"/>
            </a:xfrm>
            <a:prstGeom prst="roundRect">
              <a:avLst>
                <a:gd name="adj" fmla="val 16667"/>
              </a:avLst>
            </a:prstGeom>
            <a:solidFill>
              <a:srgbClr val="3333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905520" y="2716200"/>
            <a:ext cx="1338480" cy="2550960"/>
            <a:chOff x="6905520" y="2716200"/>
            <a:chExt cx="1338480" cy="2550960"/>
          </a:xfrm>
        </p:grpSpPr>
        <p:sp>
          <p:nvSpPr>
            <p:cNvPr id="183" name=""/>
            <p:cNvSpPr/>
            <p:nvPr/>
          </p:nvSpPr>
          <p:spPr>
            <a:xfrm flipV="1">
              <a:off x="8215200" y="3305160"/>
              <a:ext cx="0" cy="196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788240" y="3333600"/>
              <a:ext cx="455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905520" y="3494160"/>
              <a:ext cx="571680" cy="531720"/>
              <a:chOff x="6905520" y="3494160"/>
              <a:chExt cx="571680" cy="531720"/>
            </a:xfrm>
          </p:grpSpPr>
          <p:sp>
            <p:nvSpPr>
              <p:cNvPr id="186" name=""/>
              <p:cNvSpPr/>
              <p:nvPr/>
            </p:nvSpPr>
            <p:spPr>
              <a:xfrm>
                <a:off x="6905520" y="3494160"/>
                <a:ext cx="571680" cy="520560"/>
              </a:xfrm>
              <a:custGeom>
                <a:avLst/>
                <a:gdLst>
                  <a:gd name="textAreaLeft" fmla="*/ 125640 w 571680"/>
                  <a:gd name="textAreaRight" fmla="*/ 446040 w 571680"/>
                  <a:gd name="textAreaTop" fmla="*/ 114480 h 520560"/>
                  <a:gd name="textAreaBottom" fmla="*/ 406080 h 52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83360" y="3506760"/>
                <a:ext cx="190440" cy="519120"/>
              </a:xfrm>
              <a:custGeom>
                <a:avLst/>
                <a:gdLst/>
                <a:ahLst/>
                <a:rect l="l" t="t" r="r" b="b"/>
                <a:pathLst>
                  <a:path w="120" h="327">
                    <a:moveTo>
                      <a:pt x="0" y="0"/>
                    </a:moveTo>
                    <a:lnTo>
                      <a:pt x="26" y="327"/>
                    </a:lnTo>
                    <a:lnTo>
                      <a:pt x="94" y="327"/>
                    </a:ln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46920" y="3616200"/>
                <a:ext cx="504720" cy="382680"/>
              </a:xfrm>
              <a:custGeom>
                <a:avLst/>
                <a:gdLst/>
                <a:ahLst/>
                <a:rect l="l" t="t" r="r" b="b"/>
                <a:pathLst>
                  <a:path w="318" h="241">
                    <a:moveTo>
                      <a:pt x="0" y="0"/>
                    </a:moveTo>
                    <a:lnTo>
                      <a:pt x="318" y="0"/>
                    </a:lnTo>
                    <a:lnTo>
                      <a:pt x="26" y="60"/>
                    </a:lnTo>
                    <a:lnTo>
                      <a:pt x="275" y="112"/>
                    </a:lnTo>
                    <a:lnTo>
                      <a:pt x="60" y="164"/>
                    </a:lnTo>
                    <a:lnTo>
                      <a:pt x="232" y="2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905520" y="3494160"/>
              <a:ext cx="882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88240" y="2716200"/>
              <a:ext cx="0" cy="129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4.44958E-006 C 0.00417 -0.00232 0.28143 -0.18502 0.40296 -0.19496 C 0.46268 -0.19427 0.52223 -0.19427 0.58195 -0.19288 C 0.59792 -0.19242 0.61823 -0.1797 0.63108 -0.16837 C 0.63577 -0.1642 0.65209 -0.15657 0.65782 -0.15449 C 0.67275 -0.14894 0.68247 -0.13414 0.69688 -0.1272 C 0.704 -0.11841 0.70434 -0.11749 0.71337 -0.11333 C 0.71528 -0.10939 0.7158 -0.10269 0.71928 -0.10153 C 0.72136 -0.10084 0.72744 -0.09945 0.72535 -0.09945 C 0.72014 -0.09945 0.71372 -0.10315 0.70886 -0.10546 C 0.68681 -0.10384 0.68039 -0.10847 0.66702 -0.09159 C 0.66459 -0.08095 0.66164 -0.07054 0.65955 -0.05967 C 0.66025 0.01063 0.65504 0.10175 0.67153 0.17298 C 0.67101 0.17761 0.67188 0.18293 0.67014 0.18686 C 0.66945 0.18848 0.66771 0.18455 0.66702 0.18293 C 0.66615 0.18108 0.66632 0.17877 0.66563 0.17692 C 0.66494 0.17483 0.66372 0.17298 0.66268 0.1709 C 0.66025 0.15864 0.65886 0.14847 0.6507 0.14107 C 0.64584 0.13159 0.63941 0.12904 0.63282 0.12326 C 0.6316 0.1221 0.63091 0.12025 0.62969 0.11933 C 0.62309 0.11494 0.61893 0.1147 0.61337 0.1073 C 0.59306 0.10869 0.56875 0.10753 0.5507 0.12326 C 0.54497 0.13482 0.53837 0.145 0.53125 0.15518 C 0.52969 0.16119 0.5283 0.16697 0.52674 0.17298 C 0.52483 0.16905 0.52171 0.16558 0.52084 0.16096 C 0.5191 0.15194 0.51928 0.14824 0.51337 0.14315 C 0.50556 0.12719 0.5158 0.14639 0.50591 0.13321 C 0.49601 0.12002 0.51042 0.13367 0.49844 0.12326 C 0.49323 0.11262 0.48837 0.10823 0.479 0.10545 C 0.475 0.09967 0.47136 0.09944 0.46563 0.09736 C 0.44514 0.09898 0.44723 0.0962 0.43577 0.10129 C 0.43282 0.10268 0.42969 0.10407 0.42674 0.10545 C 0.42535 0.10615 0.4224 0.1073 0.4224 0.10753 C 0.41476 0.11401 0.40608 0.12534 0.40296 0.13714 C 0.40122 0.14384 0.4007 0.14824 0.39688 0.15309 C 0.39584 0.15564 0.39532 0.15864 0.39393 0.16096 C 0.38664 0.17252 0.39132 0.15679 0.38803 0.1709 C 0.37813 0.1679 0.38195 0.16859 0.37761 0.15911 C 0.37518 0.15402 0.37032 0.15078 0.36702 0.14708 C 0.36355 0.14315 0.36268 0.13922 0.35816 0.13714 C 0.35573 0.13598 0.35313 0.13598 0.3507 0.13529 C 0.34046 0.1258 0.33455 0.12974 0.32084 0.13112 C 0.31059 0.14037 0.31528 0.13783 0.30747 0.14107 C 0.30087 0.14731 0.3033 0.14963 0.29844 0.15703 C 0.29566 0.16119 0.28941 0.16905 0.28941 0.16928 C 0.28473 0.16674 0.2823 0.16327 0.27761 0.16096 C 0.27709 0.15911 0.27726 0.15633 0.27605 0.15518 C 0.27344 0.15263 0.26702 0.15101 0.26702 0.15124 C 0.26459 0.15171 0.26198 0.15194 0.25955 0.15309 C 0.25157 0.15703 0.24844 0.16905 0.24028 0.17298 C 0.22084 0.16396 0.21424 0.17599 0.19688 0.17692 C 0.18646 0.17738 0.17605 0.17692 0.16563 0.17692 E">
                                      <p:cBhvr>
                                        <p:cTn id="473" dur="3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801800" y="422280"/>
            <a:ext cx="567684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A STRUCTURE CHOISIE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25520" y="2259000"/>
            <a:ext cx="4824720" cy="360036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442080" y="1389240"/>
            <a:ext cx="22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re tub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6560" y="2298600"/>
            <a:ext cx="8998920" cy="4376160"/>
            <a:chOff x="16560" y="2298600"/>
            <a:chExt cx="8998920" cy="4376160"/>
          </a:xfrm>
        </p:grpSpPr>
        <p:sp>
          <p:nvSpPr>
            <p:cNvPr id="195" name=""/>
            <p:cNvSpPr/>
            <p:nvPr/>
          </p:nvSpPr>
          <p:spPr>
            <a:xfrm flipH="1" flipV="1">
              <a:off x="6210000" y="4565520"/>
              <a:ext cx="1461960" cy="790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20800" y="4073400"/>
              <a:ext cx="1922400" cy="49212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0800" y="2641680"/>
              <a:ext cx="2646360" cy="1923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203720" y="4565160"/>
              <a:ext cx="0" cy="1677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720800" y="4919400"/>
              <a:ext cx="1144800" cy="6015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35840" y="621504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00"/>
                  </a:solidFill>
                  <a:uFillTx/>
                  <a:latin typeface="Arial"/>
                </a:rPr>
                <a:t>Le pis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8640" y="5356080"/>
              <a:ext cx="153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00"/>
                  </a:solidFill>
                  <a:uFillTx/>
                  <a:latin typeface="Arial"/>
                </a:rPr>
                <a:t>Le tu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00"/>
                  </a:solidFill>
                  <a:uFillTx/>
                  <a:latin typeface="Arial"/>
                </a:rPr>
                <a:t>ouve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4920" y="2298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00"/>
                  </a:solidFill>
                  <a:uFillTx/>
                  <a:latin typeface="Arial"/>
                </a:rPr>
                <a:t>Le liè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560" y="375912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00"/>
                  </a:solidFill>
                  <a:uFillTx/>
                  <a:latin typeface="Arial"/>
                </a:rPr>
                <a:t>Le ress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80" y="5535720"/>
              <a:ext cx="201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00"/>
                  </a:solidFill>
                  <a:uFillTx/>
                  <a:latin typeface="Arial"/>
                </a:rPr>
                <a:t>Le cran 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00"/>
                  </a:solidFill>
                  <a:uFillTx/>
                  <a:latin typeface="Arial"/>
                </a:rPr>
                <a:t>verrouill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478640" y="2259000"/>
            <a:ext cx="1333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4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40"/>
                            </p:stCondLst>
                            <p:childTnLst>
                              <p:par>
                                <p:cTn id="498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801800" y="422280"/>
            <a:ext cx="567684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'IMPORTANCE DU TUBE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457920" y="1389240"/>
            <a:ext cx="47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re 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E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ube : le tube ferm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741840" y="2622600"/>
            <a:ext cx="3848040" cy="2886120"/>
            <a:chOff x="3741840" y="2622600"/>
            <a:chExt cx="3848040" cy="288612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741840" y="2622600"/>
              <a:ext cx="3848040" cy="288612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  <p:sp>
          <p:nvSpPr>
            <p:cNvPr id="210" name=""/>
            <p:cNvSpPr/>
            <p:nvPr/>
          </p:nvSpPr>
          <p:spPr>
            <a:xfrm>
              <a:off x="5965920" y="4216320"/>
              <a:ext cx="2239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88320" y="4129200"/>
              <a:ext cx="223560" cy="14904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752400" y="3222720"/>
            <a:ext cx="18637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801800" y="422280"/>
            <a:ext cx="567684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'IMPORTANCE DU TUBE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469080" y="1389240"/>
            <a:ext cx="64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re 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EM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ube : le tube fermé avec t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36720" y="3033720"/>
            <a:ext cx="2803320" cy="2101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52297" t="22693" r="12094" b="27575"/>
          <a:stretch/>
        </p:blipFill>
        <p:spPr>
          <a:xfrm>
            <a:off x="5022720" y="2630520"/>
            <a:ext cx="2784600" cy="29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3576600" y="3895560"/>
            <a:ext cx="1814400" cy="682920"/>
          </a:xfrm>
          <a:custGeom>
            <a:avLst/>
            <a:gdLst>
              <a:gd name="textAreaLeft" fmla="*/ 283320 w 1814400"/>
              <a:gd name="textAreaRight" fmla="*/ 1572480 w 1814400"/>
              <a:gd name="textAreaTop" fmla="*/ 171360 h 682920"/>
              <a:gd name="textAreaBottom" fmla="*/ 511560 h 682920"/>
            </a:gdLst>
            <a:ahLst/>
            <a:rect l="textAreaLeft" t="textAreaTop" r="textAreaRight" b="textAreaBottom"/>
            <a:pathLst>
              <a:path w="21600" h="21600">
                <a:moveTo>
                  <a:pt x="3375" y="5425"/>
                </a:moveTo>
                <a:lnTo>
                  <a:pt x="15811" y="5425"/>
                </a:lnTo>
                <a:lnTo>
                  <a:pt x="15811" y="0"/>
                </a:lnTo>
                <a:lnTo>
                  <a:pt x="21600" y="10800"/>
                </a:lnTo>
                <a:lnTo>
                  <a:pt x="15811" y="21600"/>
                </a:lnTo>
                <a:lnTo>
                  <a:pt x="15811" y="16175"/>
                </a:lnTo>
                <a:lnTo>
                  <a:pt x="3375" y="16175"/>
                </a:lnTo>
                <a:close/>
              </a:path>
              <a:path w="21600" h="21600">
                <a:moveTo>
                  <a:pt x="0" y="5425"/>
                </a:moveTo>
                <a:lnTo>
                  <a:pt x="675" y="5425"/>
                </a:lnTo>
                <a:lnTo>
                  <a:pt x="675" y="16175"/>
                </a:lnTo>
                <a:lnTo>
                  <a:pt x="0" y="16175"/>
                </a:lnTo>
                <a:close/>
              </a:path>
              <a:path w="21600" h="21600">
                <a:moveTo>
                  <a:pt x="1350" y="5425"/>
                </a:moveTo>
                <a:lnTo>
                  <a:pt x="2700" y="5425"/>
                </a:lnTo>
                <a:lnTo>
                  <a:pt x="2700" y="16175"/>
                </a:lnTo>
                <a:lnTo>
                  <a:pt x="1350" y="16175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bf6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4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9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400"/>
                            </p:stCondLst>
                            <p:childTnLst>
                              <p:par>
                                <p:cTn id="552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801800" y="422280"/>
            <a:ext cx="567684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'IMPORTANCE DU TUBE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438480" y="1389240"/>
            <a:ext cx="50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re tube final : le tube ou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379520" y="2482920"/>
            <a:ext cx="4332240" cy="32497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96160" y="3098880"/>
            <a:ext cx="131436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12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801800" y="422280"/>
            <a:ext cx="567684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'IMPORTANCE DU RESSORT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658080" y="1986120"/>
            <a:ext cx="685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ressort est un organe ou pièce mécanique qui util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propriétés élastiques de certains matériaux p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r de l'énergie mécanique, produire un mouveme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exercer un effort ou un cou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200" y="1389240"/>
            <a:ext cx="39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éfinition d’un ressor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360" y="3297240"/>
            <a:ext cx="37479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lvl="1" marL="5943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ongueur : 47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amètre : 27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amètre fil : 2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b de spires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898880" y="3638520"/>
            <a:ext cx="3240360" cy="280836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920"/>
                            </p:stCondLst>
                            <p:childTnLst>
                              <p:par>
                                <p:cTn id="59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39560" y="1389240"/>
            <a:ext cx="57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lusion sur le choix du ressor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801800" y="422280"/>
            <a:ext cx="567684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'IMPORTANCE DU RESSORT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641520" y="282744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tit ressort et tube ou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67028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nd ressort et tube fer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12, 1, Ressort contact elec ( grand ..."/>
          <p:cNvPicPr/>
          <p:nvPr/>
        </p:nvPicPr>
        <p:blipFill>
          <a:blip r:embed="rId1"/>
          <a:stretch/>
        </p:blipFill>
        <p:spPr>
          <a:xfrm>
            <a:off x="6108840" y="2224080"/>
            <a:ext cx="2098440" cy="20080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232" name="" descr="32, 1, Petit ressort. 33 ..."/>
          <p:cNvPicPr/>
          <p:nvPr/>
        </p:nvPicPr>
        <p:blipFill>
          <a:blip r:embed="rId2"/>
          <a:stretch/>
        </p:blipFill>
        <p:spPr>
          <a:xfrm>
            <a:off x="5894280" y="4402080"/>
            <a:ext cx="2463840" cy="22114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685080" y="544824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nd ressort et tube ou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960"/>
                            </p:stCondLst>
                            <p:childTnLst>
                              <p:par>
                                <p:cTn id="65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55680" y="1324080"/>
            <a:ext cx="6810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BUT DE CETTE PARTIE EST D’ETUDIER UN ROBOT COMPORTANT 3 CAPTEURS AFIN DE REPRODUIRE LE FONCTIONNEMENT AVEC UN ROBOT QUI EN POSSEDE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3080" y="325440"/>
            <a:ext cx="21412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G.E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371600" y="285840"/>
            <a:ext cx="63864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A FONCTION ACQUERIR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40640" y="1389240"/>
            <a:ext cx="66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ncipe de fonctionnement des capteu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47800" y="2228760"/>
            <a:ext cx="7494480" cy="237816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367320" y="4844880"/>
            <a:ext cx="1781280" cy="1781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168560" y="4838760"/>
            <a:ext cx="11030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480"/>
                            </p:stCondLst>
                            <p:childTnLst>
                              <p:par>
                                <p:cTn id="7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371600" y="285840"/>
            <a:ext cx="63864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A FONCTION ACQUERIR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2" name=""/>
          <p:cNvSpPr/>
          <p:nvPr/>
        </p:nvSpPr>
        <p:spPr>
          <a:xfrm>
            <a:off x="439200" y="1389240"/>
            <a:ext cx="39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s positions du robo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751280" y="865080"/>
            <a:ext cx="4007880" cy="5653440"/>
            <a:chOff x="4751280" y="865080"/>
            <a:chExt cx="4007880" cy="5653440"/>
          </a:xfrm>
        </p:grpSpPr>
        <p:sp>
          <p:nvSpPr>
            <p:cNvPr id="244" name=""/>
            <p:cNvSpPr/>
            <p:nvPr/>
          </p:nvSpPr>
          <p:spPr>
            <a:xfrm>
              <a:off x="5645880" y="1046880"/>
              <a:ext cx="802080" cy="537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5533200" y="1464120"/>
              <a:ext cx="1011600" cy="348480"/>
              <a:chOff x="5533200" y="1464120"/>
              <a:chExt cx="1011600" cy="348480"/>
            </a:xfrm>
          </p:grpSpPr>
          <p:sp>
            <p:nvSpPr>
              <p:cNvPr id="246" name=""/>
              <p:cNvSpPr/>
              <p:nvPr/>
            </p:nvSpPr>
            <p:spPr>
              <a:xfrm>
                <a:off x="5533200" y="1464120"/>
                <a:ext cx="1011600" cy="34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17960" y="158508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50920" y="158508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985000" y="158508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62120" y="158508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329160" y="158508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202720" y="2238840"/>
              <a:ext cx="1012680" cy="348480"/>
              <a:chOff x="5202720" y="2238840"/>
              <a:chExt cx="1012680" cy="348480"/>
            </a:xfrm>
          </p:grpSpPr>
          <p:sp>
            <p:nvSpPr>
              <p:cNvPr id="253" name=""/>
              <p:cNvSpPr/>
              <p:nvPr/>
            </p:nvSpPr>
            <p:spPr>
              <a:xfrm>
                <a:off x="5202720" y="2238840"/>
                <a:ext cx="1012680" cy="34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88200" y="2359080"/>
                <a:ext cx="87840" cy="108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20800" y="2359080"/>
                <a:ext cx="87840" cy="108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55600" y="2359080"/>
                <a:ext cx="8784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31640" y="2359080"/>
                <a:ext cx="8892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99040" y="2359080"/>
                <a:ext cx="8892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5365800" y="1847520"/>
              <a:ext cx="1011600" cy="349920"/>
              <a:chOff x="5365800" y="1847520"/>
              <a:chExt cx="1011600" cy="349920"/>
            </a:xfrm>
          </p:grpSpPr>
          <p:sp>
            <p:nvSpPr>
              <p:cNvPr id="260" name=""/>
              <p:cNvSpPr/>
              <p:nvPr/>
            </p:nvSpPr>
            <p:spPr>
              <a:xfrm>
                <a:off x="5365800" y="1847520"/>
                <a:ext cx="1011600" cy="34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649840" y="1969200"/>
                <a:ext cx="8892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82800" y="1969200"/>
                <a:ext cx="88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16880" y="1969200"/>
                <a:ext cx="8892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94000" y="1969200"/>
                <a:ext cx="8784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61400" y="1969200"/>
                <a:ext cx="8784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031000" y="2630160"/>
              <a:ext cx="1011600" cy="348480"/>
              <a:chOff x="5031000" y="2630160"/>
              <a:chExt cx="1011600" cy="348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031000" y="2630160"/>
                <a:ext cx="1011600" cy="34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15760" y="2751120"/>
                <a:ext cx="87840" cy="10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48720" y="2751120"/>
                <a:ext cx="88920" cy="10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82800" y="2751120"/>
                <a:ext cx="87840" cy="10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59920" y="275112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26960" y="275112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863600" y="3027600"/>
              <a:ext cx="1011600" cy="348480"/>
              <a:chOff x="4863600" y="3027600"/>
              <a:chExt cx="1011600" cy="348480"/>
            </a:xfrm>
          </p:grpSpPr>
          <p:sp>
            <p:nvSpPr>
              <p:cNvPr id="274" name=""/>
              <p:cNvSpPr/>
              <p:nvPr/>
            </p:nvSpPr>
            <p:spPr>
              <a:xfrm>
                <a:off x="4863600" y="3027600"/>
                <a:ext cx="1011600" cy="34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8720" y="3147840"/>
                <a:ext cx="87840" cy="108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81680" y="3147840"/>
                <a:ext cx="87840" cy="108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15760" y="3147840"/>
                <a:ext cx="87840" cy="108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91800" y="3147840"/>
                <a:ext cx="88920" cy="108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659200" y="3147840"/>
                <a:ext cx="8892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7027920" y="1059120"/>
              <a:ext cx="802080" cy="5366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6935400" y="1464120"/>
              <a:ext cx="1011600" cy="348480"/>
              <a:chOff x="6935400" y="1464120"/>
              <a:chExt cx="1011600" cy="348480"/>
            </a:xfrm>
          </p:grpSpPr>
          <p:sp>
            <p:nvSpPr>
              <p:cNvPr id="282" name=""/>
              <p:cNvSpPr/>
              <p:nvPr/>
            </p:nvSpPr>
            <p:spPr>
              <a:xfrm>
                <a:off x="6935400" y="1464120"/>
                <a:ext cx="1011600" cy="34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20160" y="158508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53120" y="158508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87200" y="158508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64320" y="158508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31360" y="158508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284600" y="2238840"/>
              <a:ext cx="1011600" cy="348480"/>
              <a:chOff x="7284600" y="2238840"/>
              <a:chExt cx="1011600" cy="348480"/>
            </a:xfrm>
          </p:grpSpPr>
          <p:sp>
            <p:nvSpPr>
              <p:cNvPr id="289" name=""/>
              <p:cNvSpPr/>
              <p:nvPr/>
            </p:nvSpPr>
            <p:spPr>
              <a:xfrm>
                <a:off x="7284600" y="2238840"/>
                <a:ext cx="1011600" cy="34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69720" y="235980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02680" y="235980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736760" y="2359800"/>
                <a:ext cx="8784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12800" y="2359800"/>
                <a:ext cx="88920" cy="10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80200" y="2359800"/>
                <a:ext cx="88920" cy="10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623720" y="3027600"/>
              <a:ext cx="1011600" cy="348480"/>
              <a:chOff x="7623720" y="3027600"/>
              <a:chExt cx="1011600" cy="348480"/>
            </a:xfrm>
          </p:grpSpPr>
          <p:sp>
            <p:nvSpPr>
              <p:cNvPr id="296" name=""/>
              <p:cNvSpPr/>
              <p:nvPr/>
            </p:nvSpPr>
            <p:spPr>
              <a:xfrm>
                <a:off x="7623720" y="3027600"/>
                <a:ext cx="1011600" cy="34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08480" y="3149280"/>
                <a:ext cx="8784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741440" y="3149280"/>
                <a:ext cx="8784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075520" y="3149280"/>
                <a:ext cx="8784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252640" y="3149280"/>
                <a:ext cx="8784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418240" y="3149280"/>
                <a:ext cx="88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101720" y="1847520"/>
              <a:ext cx="1012680" cy="349920"/>
              <a:chOff x="7101720" y="1847520"/>
              <a:chExt cx="1012680" cy="349920"/>
            </a:xfrm>
          </p:grpSpPr>
          <p:sp>
            <p:nvSpPr>
              <p:cNvPr id="303" name=""/>
              <p:cNvSpPr/>
              <p:nvPr/>
            </p:nvSpPr>
            <p:spPr>
              <a:xfrm>
                <a:off x="7101720" y="1847520"/>
                <a:ext cx="1012680" cy="34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86120" y="1969200"/>
                <a:ext cx="8892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19800" y="1969200"/>
                <a:ext cx="8784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553520" y="1969200"/>
                <a:ext cx="8892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730640" y="1969200"/>
                <a:ext cx="87840" cy="106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98040" y="1969200"/>
                <a:ext cx="8784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456320" y="2630160"/>
              <a:ext cx="1011600" cy="348480"/>
              <a:chOff x="7456320" y="2630160"/>
              <a:chExt cx="1011600" cy="348480"/>
            </a:xfrm>
          </p:grpSpPr>
          <p:sp>
            <p:nvSpPr>
              <p:cNvPr id="310" name=""/>
              <p:cNvSpPr/>
              <p:nvPr/>
            </p:nvSpPr>
            <p:spPr>
              <a:xfrm>
                <a:off x="7456320" y="2630160"/>
                <a:ext cx="1011600" cy="34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741080" y="2750400"/>
                <a:ext cx="8784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574040" y="2750400"/>
                <a:ext cx="8784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908120" y="2750400"/>
                <a:ext cx="87840" cy="108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085240" y="2750400"/>
                <a:ext cx="87840" cy="108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52280" y="2750400"/>
                <a:ext cx="87840" cy="108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746480" y="3432600"/>
              <a:ext cx="1012680" cy="348480"/>
              <a:chOff x="7746480" y="3432600"/>
              <a:chExt cx="1012680" cy="348480"/>
            </a:xfrm>
          </p:grpSpPr>
          <p:sp>
            <p:nvSpPr>
              <p:cNvPr id="317" name=""/>
              <p:cNvSpPr/>
              <p:nvPr/>
            </p:nvSpPr>
            <p:spPr>
              <a:xfrm>
                <a:off x="7746480" y="3432600"/>
                <a:ext cx="1012680" cy="34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031960" y="3554280"/>
                <a:ext cx="8784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864560" y="3554280"/>
                <a:ext cx="8784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199360" y="3554280"/>
                <a:ext cx="8784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375400" y="3554280"/>
                <a:ext cx="88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42800" y="3554280"/>
                <a:ext cx="88920" cy="106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751280" y="3425040"/>
              <a:ext cx="1011600" cy="349920"/>
              <a:chOff x="4751280" y="3425040"/>
              <a:chExt cx="1011600" cy="349920"/>
            </a:xfrm>
          </p:grpSpPr>
          <p:sp>
            <p:nvSpPr>
              <p:cNvPr id="324" name=""/>
              <p:cNvSpPr/>
              <p:nvPr/>
            </p:nvSpPr>
            <p:spPr>
              <a:xfrm>
                <a:off x="4751280" y="3425040"/>
                <a:ext cx="1011600" cy="34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36400" y="3547080"/>
                <a:ext cx="87840" cy="106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69360" y="3547080"/>
                <a:ext cx="87840" cy="106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03440" y="3547080"/>
                <a:ext cx="87840" cy="106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79480" y="3547080"/>
                <a:ext cx="88920" cy="106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546880" y="3547080"/>
                <a:ext cx="88920" cy="106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0" name="" descr=""/>
            <p:cNvPicPr/>
            <p:nvPr/>
          </p:nvPicPr>
          <p:blipFill>
            <a:blip r:embed="rId1"/>
            <a:srcRect l="18588" t="10562" r="28068" b="8500"/>
            <a:stretch/>
          </p:blipFill>
          <p:spPr>
            <a:xfrm>
              <a:off x="6782400" y="4422960"/>
              <a:ext cx="1269360" cy="18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825680" y="870840"/>
              <a:ext cx="34560" cy="54867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2"/>
            <a:srcRect l="18588" t="11149" r="28068" b="8500"/>
            <a:stretch/>
          </p:blipFill>
          <p:spPr>
            <a:xfrm>
              <a:off x="5419440" y="4409280"/>
              <a:ext cx="12693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631120" y="865080"/>
              <a:ext cx="24480" cy="56534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441360" y="2365200"/>
            <a:ext cx="370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 positions possibles pour plus de pré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047600" y="4321080"/>
            <a:ext cx="2784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84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84600" y="422280"/>
            <a:ext cx="3157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SOMMAIRE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38840" y="1617840"/>
            <a:ext cx="55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ro aux robots suiveurs de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9360" y="2301840"/>
            <a:ext cx="53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s équipements de notre robo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480" y="2973240"/>
            <a:ext cx="56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 lancer de la balle de ping-po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00" y="3654360"/>
            <a:ext cx="36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fonction acquéri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3240" y="4316400"/>
            <a:ext cx="45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rrection de la trajectoi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20" y="4967280"/>
            <a:ext cx="23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lus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26240" y="4216320"/>
            <a:ext cx="176364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40640" y="932040"/>
            <a:ext cx="44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Étude du microcontrôle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371600" y="285840"/>
            <a:ext cx="63864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A FONCTION ACQUERIR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262040" y="1415520"/>
            <a:ext cx="4662360" cy="2470680"/>
            <a:chOff x="4262040" y="1415520"/>
            <a:chExt cx="4662360" cy="24706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7138080" y="1549800"/>
              <a:ext cx="1681200" cy="189108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  <p:pic>
          <p:nvPicPr>
            <p:cNvPr id="340" name="" descr=""/>
            <p:cNvPicPr/>
            <p:nvPr/>
          </p:nvPicPr>
          <p:blipFill>
            <a:blip r:embed="rId2"/>
            <a:srcRect l="0" t="0" r="15668" b="0"/>
            <a:stretch/>
          </p:blipFill>
          <p:spPr>
            <a:xfrm rot="16200000">
              <a:off x="5002560" y="1423800"/>
              <a:ext cx="2020680" cy="200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"/>
            <p:cNvGrpSpPr/>
            <p:nvPr/>
          </p:nvGrpSpPr>
          <p:grpSpPr>
            <a:xfrm>
              <a:off x="4262040" y="1770120"/>
              <a:ext cx="3693600" cy="2116080"/>
              <a:chOff x="4262040" y="1770120"/>
              <a:chExt cx="3693600" cy="2116080"/>
            </a:xfrm>
          </p:grpSpPr>
          <p:sp>
            <p:nvSpPr>
              <p:cNvPr id="342" name=""/>
              <p:cNvSpPr/>
              <p:nvPr/>
            </p:nvSpPr>
            <p:spPr>
              <a:xfrm flipH="1">
                <a:off x="4590000" y="2867400"/>
                <a:ext cx="656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4590000" y="2318760"/>
                <a:ext cx="656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590000" y="1770120"/>
                <a:ext cx="656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590000" y="2632320"/>
                <a:ext cx="656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590000" y="2083680"/>
                <a:ext cx="656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590360" y="2867760"/>
                <a:ext cx="0" cy="705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590360" y="3572640"/>
                <a:ext cx="2626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16920" y="3337920"/>
                <a:ext cx="0" cy="235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4508280" y="2632320"/>
                <a:ext cx="82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08280" y="2632680"/>
                <a:ext cx="0" cy="101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08280" y="3650760"/>
                <a:ext cx="2872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81080" y="3337560"/>
                <a:ext cx="0" cy="313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425840" y="2318760"/>
                <a:ext cx="163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26200" y="2319480"/>
                <a:ext cx="0" cy="1410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26200" y="3729240"/>
                <a:ext cx="3200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627320" y="3337560"/>
                <a:ext cx="0" cy="391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4343760" y="2083680"/>
                <a:ext cx="3279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44120" y="2083680"/>
                <a:ext cx="0" cy="172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44120" y="3807360"/>
                <a:ext cx="344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91480" y="3337920"/>
                <a:ext cx="0" cy="46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262040" y="1770120"/>
                <a:ext cx="410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262400" y="1770480"/>
                <a:ext cx="0" cy="2115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62400" y="3885840"/>
                <a:ext cx="3693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955640" y="3337200"/>
                <a:ext cx="0" cy="548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 flipH="1">
            <a:off x="1414440" y="1841400"/>
            <a:ext cx="1781280" cy="17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"/>
          <p:cNvGraphicFramePr/>
          <p:nvPr/>
        </p:nvGraphicFramePr>
        <p:xfrm>
          <a:off x="258840" y="4245120"/>
          <a:ext cx="4003560" cy="2547720"/>
        </p:xfrm>
        <a:graphic>
          <a:graphicData uri="http://schemas.openxmlformats.org/drawingml/2006/table">
            <a:tbl>
              <a:tblPr/>
              <a:tblGrid>
                <a:gridCol w="1116000"/>
                <a:gridCol w="1771560"/>
                <a:gridCol w="111600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e_Del_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etteur IR command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c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etteur IR gauche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etteur IR gau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etteur IR cen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etteur IR dro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etteur IR droite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0" y="512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340160" y="4245120"/>
          <a:ext cx="4454640" cy="2547360"/>
        </p:xfrm>
        <a:graphic>
          <a:graphicData uri="http://schemas.openxmlformats.org/drawingml/2006/table">
            <a:tbl>
              <a:tblPr/>
              <a:tblGrid>
                <a:gridCol w="908280"/>
                <a:gridCol w="709560"/>
                <a:gridCol w="708840"/>
                <a:gridCol w="709200"/>
                <a:gridCol w="709200"/>
                <a:gridCol w="709560"/>
              </a:tblGrid>
              <a:tr h="562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e_Del_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_G+_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_G_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_C_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_D_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_D+_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8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60"/>
                            </p:stCondLst>
                            <p:childTnLst>
                              <p:par>
                                <p:cTn id="76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8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96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96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371600" y="285840"/>
            <a:ext cx="63864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A FONCTION ACQUERIR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440640" y="1389240"/>
            <a:ext cx="25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’algorith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62040" y="1965240"/>
            <a:ext cx="8324640" cy="4791240"/>
            <a:chOff x="662040" y="1965240"/>
            <a:chExt cx="8324640" cy="479124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rcRect l="31803" t="13457" r="39082" b="45223"/>
            <a:stretch/>
          </p:blipFill>
          <p:spPr>
            <a:xfrm>
              <a:off x="662040" y="1994040"/>
              <a:ext cx="3925800" cy="439236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  <p:pic>
          <p:nvPicPr>
            <p:cNvPr id="374" name="" descr=""/>
            <p:cNvPicPr/>
            <p:nvPr/>
          </p:nvPicPr>
          <p:blipFill>
            <a:blip r:embed="rId2"/>
            <a:srcRect l="31803" t="55515" r="39082" b="13304"/>
            <a:stretch/>
          </p:blipFill>
          <p:spPr>
            <a:xfrm>
              <a:off x="5100480" y="2587680"/>
              <a:ext cx="3886200" cy="312084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  <p:sp>
          <p:nvSpPr>
            <p:cNvPr id="375" name=""/>
            <p:cNvSpPr/>
            <p:nvPr/>
          </p:nvSpPr>
          <p:spPr>
            <a:xfrm>
              <a:off x="2496960" y="1965240"/>
              <a:ext cx="4415040" cy="4626000"/>
            </a:xfrm>
            <a:custGeom>
              <a:avLst/>
              <a:gdLst/>
              <a:ahLst/>
              <a:rect l="l" t="t" r="r" b="b"/>
              <a:pathLst>
                <a:path w="2781" h="2914">
                  <a:moveTo>
                    <a:pt x="1" y="2756"/>
                  </a:moveTo>
                  <a:cubicBezTo>
                    <a:pt x="1" y="2790"/>
                    <a:pt x="0" y="2880"/>
                    <a:pt x="0" y="2914"/>
                  </a:cubicBezTo>
                  <a:lnTo>
                    <a:pt x="1410" y="2914"/>
                  </a:lnTo>
                  <a:lnTo>
                    <a:pt x="1410" y="0"/>
                  </a:lnTo>
                  <a:lnTo>
                    <a:pt x="2781" y="0"/>
                  </a:lnTo>
                  <a:lnTo>
                    <a:pt x="2781" y="43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93760" y="2362320"/>
              <a:ext cx="4444920" cy="4394160"/>
            </a:xfrm>
            <a:custGeom>
              <a:avLst/>
              <a:gdLst/>
              <a:ahLst/>
              <a:rect l="l" t="t" r="r" b="b"/>
              <a:pathLst>
                <a:path w="2800" h="2768">
                  <a:moveTo>
                    <a:pt x="0" y="2480"/>
                  </a:moveTo>
                  <a:lnTo>
                    <a:pt x="0" y="2768"/>
                  </a:lnTo>
                  <a:lnTo>
                    <a:pt x="2344" y="2768"/>
                  </a:lnTo>
                  <a:lnTo>
                    <a:pt x="2344" y="0"/>
                  </a:lnTo>
                  <a:lnTo>
                    <a:pt x="2792" y="0"/>
                  </a:lnTo>
                  <a:lnTo>
                    <a:pt x="2800" y="25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986520" y="1011240"/>
            <a:ext cx="18306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6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371600" y="285840"/>
            <a:ext cx="63864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A FONCTION ACQUERIR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441360" y="801720"/>
            <a:ext cx="45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nalyse de l’algorigram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41360" y="1528920"/>
            <a:ext cx="8310600" cy="49687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254240" y="1677960"/>
            <a:ext cx="659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CORRECTION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271680" y="2841480"/>
            <a:ext cx="264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DE LA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00320" y="4054320"/>
            <a:ext cx="6597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TRAJECTOIRE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812880" y="907920"/>
            <a:ext cx="7522920" cy="56959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385" name=""/>
          <p:cNvSpPr txBox="1"/>
          <p:nvPr/>
        </p:nvSpPr>
        <p:spPr>
          <a:xfrm>
            <a:off x="1371600" y="157320"/>
            <a:ext cx="63864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POSITION DES CAPTEURS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8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371600" y="157320"/>
            <a:ext cx="63864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GRAPHE DES TRANSITIONS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71360" y="5273640"/>
            <a:ext cx="797040" cy="11955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 flipH="1">
            <a:off x="8189640" y="5259240"/>
            <a:ext cx="796680" cy="11955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1371600" y="866880"/>
            <a:ext cx="6591240" cy="56563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646360" y="422280"/>
            <a:ext cx="411480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CONCLUSION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91" name=""/>
          <p:cNvSpPr/>
          <p:nvPr/>
        </p:nvSpPr>
        <p:spPr>
          <a:xfrm>
            <a:off x="384120" y="4300560"/>
            <a:ext cx="74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’amélioration de ces programmes grâce à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éri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4840" y="3436920"/>
            <a:ext cx="64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’écriture en langage C des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2520" y="2496960"/>
            <a:ext cx="57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mise en place du lanceur de b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96760" y="155880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’avenir du proje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4280" y="422280"/>
            <a:ext cx="659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ES ROBOTS SUIVEURS DE LIGNE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4280" y="2279520"/>
            <a:ext cx="1471680" cy="179244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40640" y="161784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ns l’industr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2960" y="2836800"/>
            <a:ext cx="1474560" cy="682560"/>
          </a:xfrm>
          <a:custGeom>
            <a:avLst/>
            <a:gdLst>
              <a:gd name="textAreaLeft" fmla="*/ 230400 w 1474560"/>
              <a:gd name="textAreaRight" fmla="*/ 1278000 w 1474560"/>
              <a:gd name="textAreaTop" fmla="*/ 171360 h 682560"/>
              <a:gd name="textAreaBottom" fmla="*/ 511200 h 682560"/>
            </a:gdLst>
            <a:ahLst/>
            <a:rect l="textAreaLeft" t="textAreaTop" r="textAreaRight" b="textAreaBottom"/>
            <a:pathLst>
              <a:path w="21600" h="21600">
                <a:moveTo>
                  <a:pt x="3375" y="5425"/>
                </a:moveTo>
                <a:lnTo>
                  <a:pt x="15811" y="5425"/>
                </a:lnTo>
                <a:lnTo>
                  <a:pt x="15811" y="0"/>
                </a:lnTo>
                <a:lnTo>
                  <a:pt x="21600" y="10800"/>
                </a:lnTo>
                <a:lnTo>
                  <a:pt x="15811" y="21600"/>
                </a:lnTo>
                <a:lnTo>
                  <a:pt x="15811" y="16175"/>
                </a:lnTo>
                <a:lnTo>
                  <a:pt x="3375" y="16175"/>
                </a:lnTo>
                <a:close/>
              </a:path>
              <a:path w="21600" h="21600">
                <a:moveTo>
                  <a:pt x="0" y="5425"/>
                </a:moveTo>
                <a:lnTo>
                  <a:pt x="675" y="5425"/>
                </a:lnTo>
                <a:lnTo>
                  <a:pt x="675" y="16175"/>
                </a:lnTo>
                <a:lnTo>
                  <a:pt x="0" y="16175"/>
                </a:lnTo>
                <a:close/>
              </a:path>
              <a:path w="21600" h="21600">
                <a:moveTo>
                  <a:pt x="1350" y="5425"/>
                </a:moveTo>
                <a:lnTo>
                  <a:pt x="2700" y="5425"/>
                </a:lnTo>
                <a:lnTo>
                  <a:pt x="2700" y="16175"/>
                </a:lnTo>
                <a:lnTo>
                  <a:pt x="1350" y="16175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bf6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800" y="4484520"/>
            <a:ext cx="30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ns les étud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749760" y="4484520"/>
            <a:ext cx="2290680" cy="202104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321600" y="4484520"/>
            <a:ext cx="2550960" cy="202104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214280" y="5172120"/>
            <a:ext cx="1744920" cy="1073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025960" y="161784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588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757600" y="422280"/>
            <a:ext cx="345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NOTRE ROBOT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-1051" r="33810" b="9263"/>
          <a:stretch/>
        </p:blipFill>
        <p:spPr>
          <a:xfrm>
            <a:off x="272880" y="1447920"/>
            <a:ext cx="3643560" cy="33382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6509" t="28400" r="14360" b="27711"/>
          <a:stretch/>
        </p:blipFill>
        <p:spPr>
          <a:xfrm>
            <a:off x="4735440" y="3522600"/>
            <a:ext cx="4048200" cy="28735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380840" y="1447920"/>
            <a:ext cx="35272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l doi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être auto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éder un arrêt d’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éder un bouton on/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640" y="4979880"/>
            <a:ext cx="43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l ne doit pas dépasser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mensions de cette boî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41520" y="5902200"/>
            <a:ext cx="1474920" cy="682920"/>
          </a:xfrm>
          <a:custGeom>
            <a:avLst/>
            <a:gdLst>
              <a:gd name="textAreaLeft" fmla="*/ 230400 w 1474920"/>
              <a:gd name="textAreaRight" fmla="*/ 1278360 w 1474920"/>
              <a:gd name="textAreaTop" fmla="*/ 171360 h 682920"/>
              <a:gd name="textAreaBottom" fmla="*/ 511560 h 682920"/>
            </a:gdLst>
            <a:ahLst/>
            <a:rect l="textAreaLeft" t="textAreaTop" r="textAreaRight" b="textAreaBottom"/>
            <a:pathLst>
              <a:path w="21600" h="21600">
                <a:moveTo>
                  <a:pt x="3375" y="5425"/>
                </a:moveTo>
                <a:lnTo>
                  <a:pt x="15811" y="5425"/>
                </a:lnTo>
                <a:lnTo>
                  <a:pt x="15811" y="0"/>
                </a:lnTo>
                <a:lnTo>
                  <a:pt x="21600" y="10800"/>
                </a:lnTo>
                <a:lnTo>
                  <a:pt x="15811" y="21600"/>
                </a:lnTo>
                <a:lnTo>
                  <a:pt x="15811" y="16175"/>
                </a:lnTo>
                <a:lnTo>
                  <a:pt x="3375" y="16175"/>
                </a:lnTo>
                <a:close/>
              </a:path>
              <a:path w="21600" h="21600">
                <a:moveTo>
                  <a:pt x="0" y="5425"/>
                </a:moveTo>
                <a:lnTo>
                  <a:pt x="675" y="5425"/>
                </a:lnTo>
                <a:lnTo>
                  <a:pt x="675" y="16175"/>
                </a:lnTo>
                <a:lnTo>
                  <a:pt x="0" y="16175"/>
                </a:lnTo>
                <a:close/>
              </a:path>
              <a:path w="21600" h="21600">
                <a:moveTo>
                  <a:pt x="1350" y="5425"/>
                </a:moveTo>
                <a:lnTo>
                  <a:pt x="2700" y="5425"/>
                </a:lnTo>
                <a:lnTo>
                  <a:pt x="2700" y="16175"/>
                </a:lnTo>
                <a:lnTo>
                  <a:pt x="1350" y="16175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bf6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03720" y="3534120"/>
            <a:ext cx="2197080" cy="558360"/>
            <a:chOff x="5103720" y="3534120"/>
            <a:chExt cx="2197080" cy="558360"/>
          </a:xfrm>
        </p:grpSpPr>
        <p:sp>
          <p:nvSpPr>
            <p:cNvPr id="67" name=""/>
            <p:cNvSpPr/>
            <p:nvPr/>
          </p:nvSpPr>
          <p:spPr>
            <a:xfrm>
              <a:off x="5103720" y="3794040"/>
              <a:ext cx="2197080" cy="29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477000">
              <a:off x="5807520" y="36032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00 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02400" y="4247640"/>
            <a:ext cx="368280" cy="1838520"/>
            <a:chOff x="7502400" y="4247640"/>
            <a:chExt cx="368280" cy="1838520"/>
          </a:xfrm>
        </p:grpSpPr>
        <p:sp>
          <p:nvSpPr>
            <p:cNvPr id="70" name=""/>
            <p:cNvSpPr/>
            <p:nvPr/>
          </p:nvSpPr>
          <p:spPr>
            <a:xfrm flipV="1">
              <a:off x="7523280" y="4247640"/>
              <a:ext cx="0" cy="1838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7171560" y="495108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0 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300800" y="3500280"/>
            <a:ext cx="1216080" cy="591840"/>
            <a:chOff x="7300800" y="3500280"/>
            <a:chExt cx="1216080" cy="591840"/>
          </a:xfrm>
        </p:grpSpPr>
        <p:sp>
          <p:nvSpPr>
            <p:cNvPr id="73" name=""/>
            <p:cNvSpPr/>
            <p:nvPr/>
          </p:nvSpPr>
          <p:spPr>
            <a:xfrm flipV="1">
              <a:off x="7300800" y="3793680"/>
              <a:ext cx="1216080" cy="29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0832000">
              <a:off x="7355880" y="360972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0 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8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214280" y="422280"/>
            <a:ext cx="659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ES MOTEURS A COURANT CONTINU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19560" y="1600200"/>
            <a:ext cx="2749680" cy="25099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rcRect l="28303" t="59290" r="33903" b="24674"/>
          <a:stretch/>
        </p:blipFill>
        <p:spPr>
          <a:xfrm>
            <a:off x="2392200" y="4532400"/>
            <a:ext cx="6040440" cy="192240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87520" y="1600200"/>
            <a:ext cx="429876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vantages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é d’ut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esse et couple importan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à l’échelle du rob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87520" y="4575240"/>
            <a:ext cx="11635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518080" y="1274760"/>
            <a:ext cx="2989440" cy="2813040"/>
            <a:chOff x="5518080" y="1274760"/>
            <a:chExt cx="2989440" cy="2813040"/>
          </a:xfrm>
        </p:grpSpPr>
        <p:sp>
          <p:nvSpPr>
            <p:cNvPr id="81" name=""/>
            <p:cNvSpPr/>
            <p:nvPr/>
          </p:nvSpPr>
          <p:spPr>
            <a:xfrm>
              <a:off x="5580000" y="1274760"/>
              <a:ext cx="2927520" cy="281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37320" y="1417680"/>
              <a:ext cx="2627280" cy="2519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37320" y="2743200"/>
              <a:ext cx="262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18080" y="2597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729400" y="1746360"/>
            <a:ext cx="2628360" cy="1004760"/>
            <a:chOff x="5729400" y="1746360"/>
            <a:chExt cx="2628360" cy="1004760"/>
          </a:xfrm>
        </p:grpSpPr>
        <p:sp>
          <p:nvSpPr>
            <p:cNvPr id="86" name=""/>
            <p:cNvSpPr/>
            <p:nvPr/>
          </p:nvSpPr>
          <p:spPr>
            <a:xfrm>
              <a:off x="5729400" y="1746360"/>
              <a:ext cx="1531440" cy="1004760"/>
            </a:xfrm>
            <a:custGeom>
              <a:avLst/>
              <a:gdLst/>
              <a:ahLst/>
              <a:rect l="l" t="t" r="r" b="b"/>
              <a:pathLst>
                <a:path w="965" h="633">
                  <a:moveTo>
                    <a:pt x="0" y="0"/>
                  </a:moveTo>
                  <a:lnTo>
                    <a:pt x="130" y="0"/>
                  </a:lnTo>
                  <a:lnTo>
                    <a:pt x="130" y="633"/>
                  </a:lnTo>
                  <a:lnTo>
                    <a:pt x="466" y="633"/>
                  </a:lnTo>
                  <a:lnTo>
                    <a:pt x="466" y="4"/>
                  </a:lnTo>
                  <a:lnTo>
                    <a:pt x="624" y="4"/>
                  </a:lnTo>
                  <a:lnTo>
                    <a:pt x="621" y="628"/>
                  </a:lnTo>
                  <a:lnTo>
                    <a:pt x="965" y="628"/>
                  </a:lnTo>
                  <a:lnTo>
                    <a:pt x="965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60840" y="1746360"/>
              <a:ext cx="1096920" cy="996840"/>
            </a:xfrm>
            <a:custGeom>
              <a:avLst/>
              <a:gdLst/>
              <a:ahLst/>
              <a:rect l="l" t="t" r="r" b="b"/>
              <a:pathLst>
                <a:path w="691" h="628">
                  <a:moveTo>
                    <a:pt x="0" y="0"/>
                  </a:moveTo>
                  <a:lnTo>
                    <a:pt x="154" y="4"/>
                  </a:lnTo>
                  <a:lnTo>
                    <a:pt x="154" y="624"/>
                  </a:lnTo>
                  <a:lnTo>
                    <a:pt x="499" y="624"/>
                  </a:lnTo>
                  <a:lnTo>
                    <a:pt x="499" y="0"/>
                  </a:lnTo>
                  <a:lnTo>
                    <a:pt x="653" y="4"/>
                  </a:lnTo>
                  <a:lnTo>
                    <a:pt x="653" y="628"/>
                  </a:lnTo>
                  <a:lnTo>
                    <a:pt x="691" y="6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900000" y="2022480"/>
            <a:ext cx="3598920" cy="3598920"/>
          </a:xfrm>
          <a:prstGeom prst="sun">
            <a:avLst>
              <a:gd name="adj" fmla="val 12500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00320" y="4346640"/>
            <a:ext cx="2890440" cy="2347920"/>
            <a:chOff x="400320" y="4346640"/>
            <a:chExt cx="2890440" cy="2347920"/>
          </a:xfrm>
        </p:grpSpPr>
        <p:sp>
          <p:nvSpPr>
            <p:cNvPr id="90" name=""/>
            <p:cNvSpPr/>
            <p:nvPr/>
          </p:nvSpPr>
          <p:spPr>
            <a:xfrm rot="10800000">
              <a:off x="700200" y="4346640"/>
              <a:ext cx="1598400" cy="1598400"/>
            </a:xfrm>
            <a:custGeom>
              <a:avLst/>
              <a:gdLst>
                <a:gd name="textAreaLeft" fmla="*/ 0 w 1598400"/>
                <a:gd name="textAreaRight" fmla="*/ 1598760 w 159840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11" y="10640"/>
                  </a:moveTo>
                  <a:arcTo wR="-7991" hR="-7991" stAng="-10731169" swAng="-5520900"/>
                  <a:lnTo>
                    <a:pt x="10636" y="1"/>
                  </a:lnTo>
                  <a:arcTo wR="10800" hR="10800" stAng="-5452069" swAng="5520900"/>
                  <a:lnTo>
                    <a:pt x="24297" y="11070"/>
                  </a:lnTo>
                  <a:lnTo>
                    <a:pt x="20111" y="15092"/>
                  </a:lnTo>
                  <a:lnTo>
                    <a:pt x="16090" y="1090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bf6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0320" y="586908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bf6605"/>
                  </a:solidFill>
                  <a:uFillTx/>
                  <a:latin typeface="Arial"/>
                </a:rPr>
                <a:t>For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bf6605"/>
                  </a:solidFill>
                  <a:uFillTx/>
                  <a:latin typeface="Arial"/>
                </a:rPr>
                <a:t>électromagnét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986200" y="4246560"/>
            <a:ext cx="2200680" cy="2082240"/>
            <a:chOff x="2986200" y="4246560"/>
            <a:chExt cx="2200680" cy="2082240"/>
          </a:xfrm>
        </p:grpSpPr>
        <p:sp>
          <p:nvSpPr>
            <p:cNvPr id="93" name=""/>
            <p:cNvSpPr/>
            <p:nvPr/>
          </p:nvSpPr>
          <p:spPr>
            <a:xfrm rot="5400000">
              <a:off x="2985840" y="4246560"/>
              <a:ext cx="1598760" cy="1598400"/>
            </a:xfrm>
            <a:custGeom>
              <a:avLst/>
              <a:gdLst>
                <a:gd name="textAreaLeft" fmla="*/ 0 w 1598760"/>
                <a:gd name="textAreaRight" fmla="*/ 1599120 w 159876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11" y="10640"/>
                  </a:moveTo>
                  <a:arcTo wR="-7991" hR="-7991" stAng="-10731169" swAng="-5520900"/>
                  <a:lnTo>
                    <a:pt x="10636" y="1"/>
                  </a:lnTo>
                  <a:arcTo wR="10800" hR="10800" stAng="-5452069" swAng="5520900"/>
                  <a:lnTo>
                    <a:pt x="24297" y="11070"/>
                  </a:lnTo>
                  <a:lnTo>
                    <a:pt x="20111" y="15092"/>
                  </a:lnTo>
                  <a:lnTo>
                    <a:pt x="16090" y="10906"/>
                  </a:lnTo>
                  <a:close/>
                </a:path>
              </a:pathLst>
            </a:custGeom>
            <a:solidFill>
              <a:srgbClr val="009900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90320" y="58690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00"/>
                  </a:solidFill>
                  <a:uFillTx/>
                  <a:latin typeface="Arial"/>
                </a:rPr>
                <a:t>Inert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41000" y="1389240"/>
            <a:ext cx="46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ande par impuls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08240" y="4354560"/>
            <a:ext cx="2890440" cy="2347920"/>
            <a:chOff x="408240" y="4354560"/>
            <a:chExt cx="2890440" cy="2347920"/>
          </a:xfrm>
        </p:grpSpPr>
        <p:sp>
          <p:nvSpPr>
            <p:cNvPr id="97" name=""/>
            <p:cNvSpPr/>
            <p:nvPr/>
          </p:nvSpPr>
          <p:spPr>
            <a:xfrm rot="10800000">
              <a:off x="708120" y="4354560"/>
              <a:ext cx="1598400" cy="1598400"/>
            </a:xfrm>
            <a:custGeom>
              <a:avLst/>
              <a:gdLst>
                <a:gd name="textAreaLeft" fmla="*/ 0 w 1598400"/>
                <a:gd name="textAreaRight" fmla="*/ 1598760 w 159840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11" y="10640"/>
                  </a:moveTo>
                  <a:arcTo wR="-7991" hR="-7991" stAng="-10731169" swAng="-5520900"/>
                  <a:lnTo>
                    <a:pt x="10636" y="1"/>
                  </a:lnTo>
                  <a:arcTo wR="10800" hR="10800" stAng="-5452069" swAng="5520900"/>
                  <a:lnTo>
                    <a:pt x="24297" y="11070"/>
                  </a:lnTo>
                  <a:lnTo>
                    <a:pt x="20111" y="15092"/>
                  </a:lnTo>
                  <a:lnTo>
                    <a:pt x="16090" y="1090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bf6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8240" y="587700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bf6605"/>
                  </a:solidFill>
                  <a:uFillTx/>
                  <a:latin typeface="Arial"/>
                </a:rPr>
                <a:t>For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bf6605"/>
                  </a:solidFill>
                  <a:uFillTx/>
                  <a:latin typeface="Arial"/>
                </a:rPr>
                <a:t>électromagnét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986200" y="4260960"/>
            <a:ext cx="2200680" cy="2081880"/>
            <a:chOff x="2986200" y="4260960"/>
            <a:chExt cx="2200680" cy="2081880"/>
          </a:xfrm>
        </p:grpSpPr>
        <p:sp>
          <p:nvSpPr>
            <p:cNvPr id="100" name=""/>
            <p:cNvSpPr/>
            <p:nvPr/>
          </p:nvSpPr>
          <p:spPr>
            <a:xfrm rot="5400000">
              <a:off x="2986200" y="4260960"/>
              <a:ext cx="1598400" cy="1598400"/>
            </a:xfrm>
            <a:custGeom>
              <a:avLst/>
              <a:gdLst>
                <a:gd name="textAreaLeft" fmla="*/ 0 w 1598400"/>
                <a:gd name="textAreaRight" fmla="*/ 1598760 w 159840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11" y="10640"/>
                  </a:moveTo>
                  <a:arcTo wR="-7991" hR="-7991" stAng="-10731169" swAng="-5520900"/>
                  <a:lnTo>
                    <a:pt x="10636" y="1"/>
                  </a:lnTo>
                  <a:arcTo wR="10800" hR="10800" stAng="-5452069" swAng="5520900"/>
                  <a:lnTo>
                    <a:pt x="24297" y="11070"/>
                  </a:lnTo>
                  <a:lnTo>
                    <a:pt x="20111" y="15092"/>
                  </a:lnTo>
                  <a:lnTo>
                    <a:pt x="16090" y="10906"/>
                  </a:lnTo>
                  <a:close/>
                </a:path>
              </a:pathLst>
            </a:custGeom>
            <a:solidFill>
              <a:srgbClr val="009900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0320" y="58831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00"/>
                  </a:solidFill>
                  <a:uFillTx/>
                  <a:latin typeface="Arial"/>
                </a:rPr>
                <a:t>Inert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987640" y="4246560"/>
            <a:ext cx="2200680" cy="2082240"/>
            <a:chOff x="2987640" y="4246560"/>
            <a:chExt cx="2200680" cy="2082240"/>
          </a:xfrm>
        </p:grpSpPr>
        <p:sp>
          <p:nvSpPr>
            <p:cNvPr id="103" name=""/>
            <p:cNvSpPr/>
            <p:nvPr/>
          </p:nvSpPr>
          <p:spPr>
            <a:xfrm rot="5400000">
              <a:off x="2987280" y="4246560"/>
              <a:ext cx="1598760" cy="1598400"/>
            </a:xfrm>
            <a:custGeom>
              <a:avLst/>
              <a:gdLst>
                <a:gd name="textAreaLeft" fmla="*/ 0 w 1598760"/>
                <a:gd name="textAreaRight" fmla="*/ 1599120 w 159876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11" y="10640"/>
                  </a:moveTo>
                  <a:arcTo wR="-7991" hR="-7991" stAng="-10731169" swAng="-5520900"/>
                  <a:lnTo>
                    <a:pt x="10636" y="1"/>
                  </a:lnTo>
                  <a:arcTo wR="10800" hR="10800" stAng="-5452069" swAng="5520900"/>
                  <a:lnTo>
                    <a:pt x="24297" y="11070"/>
                  </a:lnTo>
                  <a:lnTo>
                    <a:pt x="20111" y="15092"/>
                  </a:lnTo>
                  <a:lnTo>
                    <a:pt x="16090" y="10906"/>
                  </a:lnTo>
                  <a:close/>
                </a:path>
              </a:pathLst>
            </a:custGeom>
            <a:solidFill>
              <a:srgbClr val="009900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91760" y="58690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00"/>
                  </a:solidFill>
                  <a:uFillTx/>
                  <a:latin typeface="Arial"/>
                </a:rPr>
                <a:t>Inert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86200" y="4246560"/>
            <a:ext cx="2200680" cy="2082240"/>
            <a:chOff x="2986200" y="4246560"/>
            <a:chExt cx="2200680" cy="2082240"/>
          </a:xfrm>
        </p:grpSpPr>
        <p:sp>
          <p:nvSpPr>
            <p:cNvPr id="106" name=""/>
            <p:cNvSpPr/>
            <p:nvPr/>
          </p:nvSpPr>
          <p:spPr>
            <a:xfrm rot="5400000">
              <a:off x="2985840" y="4246560"/>
              <a:ext cx="1598760" cy="1598400"/>
            </a:xfrm>
            <a:custGeom>
              <a:avLst/>
              <a:gdLst>
                <a:gd name="textAreaLeft" fmla="*/ 0 w 1598760"/>
                <a:gd name="textAreaRight" fmla="*/ 1599120 w 159876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11" y="10640"/>
                  </a:moveTo>
                  <a:arcTo wR="-7991" hR="-7991" stAng="-10731169" swAng="-5520900"/>
                  <a:lnTo>
                    <a:pt x="10636" y="1"/>
                  </a:lnTo>
                  <a:arcTo wR="10800" hR="10800" stAng="-5452069" swAng="5520900"/>
                  <a:lnTo>
                    <a:pt x="24297" y="11070"/>
                  </a:lnTo>
                  <a:lnTo>
                    <a:pt x="20111" y="15092"/>
                  </a:lnTo>
                  <a:lnTo>
                    <a:pt x="16090" y="10906"/>
                  </a:lnTo>
                  <a:close/>
                </a:path>
              </a:pathLst>
            </a:custGeom>
            <a:solidFill>
              <a:srgbClr val="009900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90320" y="58690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00"/>
                  </a:solidFill>
                  <a:uFillTx/>
                  <a:latin typeface="Arial"/>
                </a:rPr>
                <a:t>Inert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00320" y="4346640"/>
            <a:ext cx="2890440" cy="2347920"/>
            <a:chOff x="400320" y="4346640"/>
            <a:chExt cx="2890440" cy="2347920"/>
          </a:xfrm>
        </p:grpSpPr>
        <p:sp>
          <p:nvSpPr>
            <p:cNvPr id="109" name=""/>
            <p:cNvSpPr/>
            <p:nvPr/>
          </p:nvSpPr>
          <p:spPr>
            <a:xfrm rot="10800000">
              <a:off x="700200" y="4346640"/>
              <a:ext cx="1598400" cy="1598400"/>
            </a:xfrm>
            <a:custGeom>
              <a:avLst/>
              <a:gdLst>
                <a:gd name="textAreaLeft" fmla="*/ 0 w 1598400"/>
                <a:gd name="textAreaRight" fmla="*/ 1598760 w 159840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11" y="10640"/>
                  </a:moveTo>
                  <a:arcTo wR="-7991" hR="-7991" stAng="-10731169" swAng="-5520900"/>
                  <a:lnTo>
                    <a:pt x="10636" y="1"/>
                  </a:lnTo>
                  <a:arcTo wR="10800" hR="10800" stAng="-5452069" swAng="5520900"/>
                  <a:lnTo>
                    <a:pt x="24297" y="11070"/>
                  </a:lnTo>
                  <a:lnTo>
                    <a:pt x="20111" y="15092"/>
                  </a:lnTo>
                  <a:lnTo>
                    <a:pt x="16090" y="1090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bf6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320" y="586908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bf6605"/>
                  </a:solidFill>
                  <a:uFillTx/>
                  <a:latin typeface="Arial"/>
                </a:rPr>
                <a:t>For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bf6605"/>
                  </a:solidFill>
                  <a:uFillTx/>
                  <a:latin typeface="Arial"/>
                </a:rPr>
                <a:t>électromagnét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00320" y="4346640"/>
            <a:ext cx="2890440" cy="2347920"/>
            <a:chOff x="400320" y="4346640"/>
            <a:chExt cx="2890440" cy="2347920"/>
          </a:xfrm>
        </p:grpSpPr>
        <p:sp>
          <p:nvSpPr>
            <p:cNvPr id="112" name=""/>
            <p:cNvSpPr/>
            <p:nvPr/>
          </p:nvSpPr>
          <p:spPr>
            <a:xfrm rot="10800000">
              <a:off x="700200" y="4346640"/>
              <a:ext cx="1598400" cy="1598400"/>
            </a:xfrm>
            <a:custGeom>
              <a:avLst/>
              <a:gdLst>
                <a:gd name="textAreaLeft" fmla="*/ 0 w 1598400"/>
                <a:gd name="textAreaRight" fmla="*/ 1598760 w 159840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11" y="10640"/>
                  </a:moveTo>
                  <a:arcTo wR="-7991" hR="-7991" stAng="-10731169" swAng="-5520900"/>
                  <a:lnTo>
                    <a:pt x="10636" y="1"/>
                  </a:lnTo>
                  <a:arcTo wR="10800" hR="10800" stAng="-5452069" swAng="5520900"/>
                  <a:lnTo>
                    <a:pt x="24297" y="11070"/>
                  </a:lnTo>
                  <a:lnTo>
                    <a:pt x="20111" y="15092"/>
                  </a:lnTo>
                  <a:lnTo>
                    <a:pt x="16090" y="1090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bf6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0320" y="586908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bf6605"/>
                  </a:solidFill>
                  <a:uFillTx/>
                  <a:latin typeface="Arial"/>
                </a:rPr>
                <a:t>For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bf6605"/>
                  </a:solidFill>
                  <a:uFillTx/>
                  <a:latin typeface="Arial"/>
                </a:rPr>
                <a:t>électromagnét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375160" y="4130640"/>
            <a:ext cx="3260520" cy="2598840"/>
            <a:chOff x="5375160" y="4130640"/>
            <a:chExt cx="3260520" cy="2598840"/>
          </a:xfrm>
        </p:grpSpPr>
        <p:grpSp>
          <p:nvGrpSpPr>
            <p:cNvPr id="115" name=""/>
            <p:cNvGrpSpPr/>
            <p:nvPr/>
          </p:nvGrpSpPr>
          <p:grpSpPr>
            <a:xfrm>
              <a:off x="5904000" y="4890960"/>
              <a:ext cx="2303280" cy="1838520"/>
              <a:chOff x="5904000" y="4890960"/>
              <a:chExt cx="2303280" cy="1838520"/>
            </a:xfrm>
          </p:grpSpPr>
          <p:pic>
            <p:nvPicPr>
              <p:cNvPr id="1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0" y="4890960"/>
                <a:ext cx="2303280" cy="183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5904000" y="4890960"/>
                <a:ext cx="2303280" cy="1838520"/>
              </a:xfrm>
              <a:prstGeom prst="rect">
                <a:avLst/>
              </a:prstGeom>
              <a:noFill/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375160" y="4130640"/>
              <a:ext cx="326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réation d’une vitesse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otation constant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1214280" y="422280"/>
            <a:ext cx="659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ES MOTEURS A COURANT CONTINU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2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92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92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2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2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3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2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6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4280" y="2187720"/>
            <a:ext cx="3176640" cy="109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fr-FR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fr-FR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fr-FR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fr-FR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6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4280" y="4079880"/>
            <a:ext cx="760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V = 0.024 m x 175 tr/min x 2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/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70640" y="4888080"/>
            <a:ext cx="1635120" cy="1563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9920" y="1389240"/>
            <a:ext cx="60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tesse maximale théorique du robo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Roue en mousse, poids grammes "/>
          <p:cNvPicPr/>
          <p:nvPr/>
        </p:nvPicPr>
        <p:blipFill>
          <a:blip r:embed="rId2"/>
          <a:stretch/>
        </p:blipFill>
        <p:spPr>
          <a:xfrm>
            <a:off x="5907240" y="2112840"/>
            <a:ext cx="1904760" cy="179100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8105760" y="2187720"/>
            <a:ext cx="1038240" cy="1523880"/>
            <a:chOff x="8105760" y="2187720"/>
            <a:chExt cx="1038240" cy="1523880"/>
          </a:xfrm>
        </p:grpSpPr>
        <p:sp>
          <p:nvSpPr>
            <p:cNvPr id="126" name=""/>
            <p:cNvSpPr/>
            <p:nvPr/>
          </p:nvSpPr>
          <p:spPr>
            <a:xfrm>
              <a:off x="8105760" y="21877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05760" y="2852640"/>
              <a:ext cx="103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= 48 m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1214280" y="422280"/>
            <a:ext cx="659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ES MOTEURS A COURANT CONTINU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1185840" y="5005440"/>
            <a:ext cx="40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V = 0.44 m.s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32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43080" y="422280"/>
            <a:ext cx="659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UTILISATION DES INFRAROUGES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74800" y="1600200"/>
            <a:ext cx="1374840" cy="17827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132" name="" descr="Cliquez pour agrandir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18240" y="5303880"/>
            <a:ext cx="1905120" cy="138096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133" name="" descr="Barrières infrarouges"/>
          <p:cNvPicPr/>
          <p:nvPr/>
        </p:nvPicPr>
        <p:blipFill>
          <a:blip r:embed="rId4"/>
          <a:srcRect l="21791" t="50518" r="14457" b="0"/>
          <a:stretch/>
        </p:blipFill>
        <p:spPr>
          <a:xfrm>
            <a:off x="6388200" y="1743120"/>
            <a:ext cx="2135160" cy="15145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134" name="" descr="Kit de transmission radio et infrarouge"/>
          <p:cNvPicPr/>
          <p:nvPr/>
        </p:nvPicPr>
        <p:blipFill>
          <a:blip r:embed="rId5"/>
          <a:stretch/>
        </p:blipFill>
        <p:spPr>
          <a:xfrm>
            <a:off x="673200" y="3747960"/>
            <a:ext cx="1576440" cy="144000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2560680" y="1728720"/>
            <a:ext cx="33548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ns la protec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tection de mou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rière infraro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8680" y="3705120"/>
            <a:ext cx="6668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mission d’inform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signaux IR sont émis et convertis en signal ra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s l'émetteur et le récepteur les transforme en sign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 et les transmet ensuite à l'appareil à command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8360" y="5460840"/>
            <a:ext cx="5571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méra à infrarou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e voir dans le noir avec un éclai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rou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4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56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72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43080" y="422280"/>
            <a:ext cx="659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d7403"/>
                    </a:gs>
                    <a:gs pos="50000">
                      <a:srgbClr val="ffff00"/>
                    </a:gs>
                    <a:gs pos="100000">
                      <a:srgbClr val="fd7403"/>
                    </a:gs>
                  </a:gsLst>
                  <a:lin ang="5400000"/>
                </a:gradFill>
                <a:latin typeface="Arial Black"/>
              </a:rPr>
              <a:t>LES CAPTEURS A INFRAROUGES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d7403"/>
                  </a:gs>
                  <a:gs pos="50000">
                    <a:srgbClr val="ffff00"/>
                  </a:gs>
                  <a:gs pos="100000">
                    <a:srgbClr val="fd7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441360" y="1389240"/>
            <a:ext cx="25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osi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9000" y="2025720"/>
            <a:ext cx="2961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 LED infraro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photo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792400" y="1389240"/>
            <a:ext cx="2044800" cy="2092320"/>
            <a:chOff x="5792400" y="1389240"/>
            <a:chExt cx="2044800" cy="2092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796000" y="1925640"/>
              <a:ext cx="1939680" cy="155592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  <p:sp>
          <p:nvSpPr>
            <p:cNvPr id="143" name=""/>
            <p:cNvSpPr/>
            <p:nvPr/>
          </p:nvSpPr>
          <p:spPr>
            <a:xfrm>
              <a:off x="5792400" y="138924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 HOA0708-00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2360" y="302256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deux sont montés presque face à fa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manière à ce que le faisceau de la 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isse arriver sur le phototransistor que s'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 réfléchi par une surface adéquate placée à une distance conven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8120" y="4160880"/>
            <a:ext cx="54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re robot possède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capteu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962600" y="4984920"/>
            <a:ext cx="3751200" cy="1403280"/>
            <a:chOff x="4962600" y="4984920"/>
            <a:chExt cx="3751200" cy="1403280"/>
          </a:xfrm>
        </p:grpSpPr>
        <p:sp>
          <p:nvSpPr>
            <p:cNvPr id="147" name=""/>
            <p:cNvSpPr/>
            <p:nvPr/>
          </p:nvSpPr>
          <p:spPr>
            <a:xfrm>
              <a:off x="5497560" y="5937120"/>
              <a:ext cx="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89520" y="4984920"/>
              <a:ext cx="2924280" cy="960120"/>
            </a:xfrm>
            <a:prstGeom prst="wedgeRoundRectCallout">
              <a:avLst>
                <a:gd name="adj1" fmla="val -52930"/>
                <a:gd name="adj2" fmla="val 75125"/>
                <a:gd name="adj3" fmla="val 16667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81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int de réflexion optimum situé à 3.81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62600" y="638820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62600" y="594504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664000" y="5218200"/>
            <a:ext cx="1925640" cy="1162080"/>
            <a:chOff x="2664000" y="5218200"/>
            <a:chExt cx="1925640" cy="1162080"/>
          </a:xfrm>
        </p:grpSpPr>
        <p:sp>
          <p:nvSpPr>
            <p:cNvPr id="152" name=""/>
            <p:cNvSpPr/>
            <p:nvPr/>
          </p:nvSpPr>
          <p:spPr>
            <a:xfrm>
              <a:off x="3179880" y="5218200"/>
              <a:ext cx="179280" cy="71892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7720" y="5218200"/>
              <a:ext cx="179280" cy="71892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2760" y="5218200"/>
              <a:ext cx="179280" cy="71892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35200" y="5218200"/>
              <a:ext cx="179640" cy="71892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00600" y="5218200"/>
              <a:ext cx="179280" cy="71892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78040" y="5218200"/>
              <a:ext cx="191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4000" y="6380280"/>
              <a:ext cx="191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265560" y="5937120"/>
            <a:ext cx="717480" cy="451080"/>
            <a:chOff x="3265560" y="5937120"/>
            <a:chExt cx="717480" cy="451080"/>
          </a:xfrm>
        </p:grpSpPr>
        <p:sp>
          <p:nvSpPr>
            <p:cNvPr id="160" name=""/>
            <p:cNvSpPr/>
            <p:nvPr/>
          </p:nvSpPr>
          <p:spPr>
            <a:xfrm>
              <a:off x="3265560" y="59371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44840" y="594504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2040" y="594504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11680" y="59371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83040" y="59371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259080" y="5932800"/>
            <a:ext cx="717480" cy="450360"/>
            <a:chOff x="3259080" y="5932800"/>
            <a:chExt cx="717480" cy="450360"/>
          </a:xfrm>
        </p:grpSpPr>
        <p:sp>
          <p:nvSpPr>
            <p:cNvPr id="166" name=""/>
            <p:cNvSpPr/>
            <p:nvPr/>
          </p:nvSpPr>
          <p:spPr>
            <a:xfrm flipV="1">
              <a:off x="3259080" y="5940360"/>
              <a:ext cx="0" cy="442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438360" y="5932800"/>
              <a:ext cx="0" cy="442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625560" y="5932800"/>
              <a:ext cx="0" cy="442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05200" y="5940360"/>
              <a:ext cx="0" cy="442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976560" y="5940360"/>
              <a:ext cx="0" cy="442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5040" y="5226120"/>
            <a:ext cx="1125360" cy="1019160"/>
            <a:chOff x="365040" y="5226120"/>
            <a:chExt cx="1125360" cy="101916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365040" y="5226120"/>
              <a:ext cx="9064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83920" y="5226120"/>
              <a:ext cx="90648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3206880" y="6384960"/>
            <a:ext cx="803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2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880"/>
                            </p:stCondLst>
                            <p:childTnLst>
                              <p:par>
                                <p:cTn id="396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120"/>
                            </p:stCondLst>
                            <p:childTnLst>
                              <p:par>
                                <p:cTn id="418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2:07:14Z</dcterms:created>
  <dc:creator>FAMILLE</dc:creator>
  <dc:description/>
  <dc:language>en-US</dc:language>
  <cp:lastModifiedBy>16pinson</cp:lastModifiedBy>
  <dcterms:modified xsi:type="dcterms:W3CDTF">2008-04-22T13:01:31Z</dcterms:modified>
  <cp:revision>45</cp:revision>
  <dc:subject/>
  <dc:title>Diapositive 1</dc:title>
</cp:coreProperties>
</file>