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B6F-1653-4DC3-9F80-61359A80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767-3A32-40A3-A3C8-E1E2959F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3A1-BFED-4C9B-9A86-44DD9AC4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0C2-4DE8-45DE-8AF7-C8BB58BF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C6F-11D5-4AA0-BF63-7369C9DC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B67-0A97-4025-B376-6C961192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1E3-B953-4B92-89A5-5DC4CAD2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C45-FF49-4D9C-A221-E03610D5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204-E227-4E5D-87FC-C7371F89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597-2F8E-4322-8730-51F3892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CFB-1B91-4BB5-A9F5-583005CD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8BB-8D77-407E-A236-37A464D2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A3D0-80B0-45E3-9190-BF477664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068640"/>
            <a:ext cx="723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 robot suiveur de ligne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masseur de bal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135000"/>
            <a:ext cx="878544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II. Notre PPE.</a:t>
            </a:r>
            <a:br>
              <a:rPr sz="3600"/>
            </a:b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1) Cahier des charg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voir un robot capable  de ramasser une balle sur un parcours impos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écificité de la pist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s des portiques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ur : 250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uteur : 200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5575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00000" y="15840"/>
            <a:ext cx="784872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écificité du robo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s maximales du robot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ueur : 300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ur : 200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uteur : 200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bot doi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être auton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voir un arrêt d’urgence acce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osséder un interrupteur marche arrê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52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4049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écificité du support de bal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de 200mm x 200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 de 30mm x 30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uteur du support : 100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ètre de la balle : 40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4537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2) Étude de la conception du rob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dimensions du robot doivent lui permettent de passer sous les portiques de départ et d’arriv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herche des éléments composants le robot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bot devant récupérer la balle à partir de sa position d’arrêt, il devra obligatoirement être muni d’un bras qui sera placé sur le châs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221000"/>
            <a:ext cx="33624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3) Recherche de solutions pour le bras.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herche de solutions pour faire parvenir le bras au niveau de la ball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érents mouvements possibles à partir d’un moteur électrique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otation 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 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ransl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s sans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non - crémaillè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hoisit à partir du moteur électrique un système de rotation pour sa simplici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8736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6840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du 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ance entre le milieu du robot et l’extérieur du mat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+100+20=270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ras devra avoir une longueur d’environ 270 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devra être placé à l’horizontale sur le robot (respect de la haute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plus l’axe de rotation du bras devra être déporté au maximum en arrière du robot (respect de la longue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our du bras à sa position d’ori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bot devant repasser par un portique à la fin de son parcours il faut que le bras revienne à sa position d’origine après avoir récupérer la ba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deux solutions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 bras fait demi-t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 moteur continue de tourner dans le même sens. Le bras fait ainsi un tour comp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hoix dépendra du type de main que l’on mettra en bout de br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4) Recherche de solutions pour la prise de la bal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s envisagées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llage (adhésif double fa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pi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ire tomber la balle en la ramassant dans un pan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ône rotatif (emprisonnant la balle lors de l’a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olution qui sera retenue est un système appelé « main » située en bout de bras pour récupérer la ba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071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. La robotiq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Défin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Robots, leurs différentes utilis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Les concours de robot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I. Le robot suiveur de lig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Origine et b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La motoris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Les capte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Le microcontrôle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II. Notre P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Cahier des char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Étude de la conception du rob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Recherche de solutions pour le b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Recherche de solutions pour la prise de la bal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a main nous avons choisi une forme femelle de la balle que nous avons découpé dans un tuyau de PV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VC étant très légèrement déformable, la main s’apparente à une pi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6707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ion de la 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24000" y="3141720"/>
            <a:ext cx="50641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âce au poids du bras, la main se déformera très légèrement pour laisser entrer la ba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la main repartira, la balle sera ainsi emprisonnée dans la main qui se sera rétract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618920" y="-360"/>
            <a:ext cx="591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ème de prise de la ba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869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 système ne fait appel qu’à une pression : il n’y a donc pas besoin d’un moteur supplément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tre cela nécessite une montée et une descente du 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40000" y="2565360"/>
            <a:ext cx="43164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que le bras puisse effectuer à la fois une rotation et un mouvement de montée et descente grâce au même moteur, nous avons choisi de placer une came sur l’axe du mot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suffira ainsi de positionner le creux de la came dans l’alignement de la balle pour que le bras descende la récupérer sur son sup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476360" y="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ion de la c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00360" y="4005360"/>
            <a:ext cx="34732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que le bras revienne dans sa position de départ, il faut créer une légère pente sur la c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moteur tourne ainsi toujours dans le même s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00360" y="260280"/>
            <a:ext cx="35290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nous reste à présent à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tre en place le troisième mot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olution le problème de descente du 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cevoir la liaison glissiè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. La robotique.</a:t>
            </a:r>
            <a:br>
              <a:rPr sz="3600"/>
            </a:b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1) Définitio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bo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Système automatique mécanisé capable d'effectuer une ou plusieurs tâches, dans un environnement donné, de manière autonome, par l'exécution d'un programme  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4048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2) Robots, leurs différentes utilisation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obots sont très utilisés dans l’industrie, surtout dans les chaînes de mon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2924280"/>
            <a:ext cx="442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effectuent des tach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épéti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é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angere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einture, soudage, emboutissage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3443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3) Les concours de robotiq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b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pa Grand Challe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b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e de France de robot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étition GE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 robotique académ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39592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I. Le robot suiveur de ligne.</a:t>
            </a:r>
            <a:br>
              <a:rPr sz="3600"/>
            </a:b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1) Origine et bu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bot suiveur de ligne est utilisé pour le transport de marchand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 robots sont autonomes et suivent une ligne directrice tracée au sol qui les amènent dans un lieu don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3807000"/>
            <a:ext cx="338436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86200" y="4076640"/>
            <a:ext cx="52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bot suiveur de ligne ayant besoin de se déplacer, il a fallu choisir des composants permettant de réaliser cette fon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551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2) La motoris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moteur permet de réaliser un mouvement de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peut être ensuite transformé en mouvement de translation à l'aide de différentes solutions techn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existe trois principaux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moteurs électr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à courant conti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à courant alternat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as à 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3996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3) Les capteur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apteur est un organe de prélèvement d'information qui élabore à partir d'une grandeur physique, une autre grandeur physique de nature diffé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apteurs résistifs sont souvent utilisés de deux faço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149720"/>
            <a:ext cx="46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limentés à courant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lacés dans un pont de ja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80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4) Le microcontrôl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microcontrôleur est un circuit intégré qui rassemble les éléments essentiels d'un ordinat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microcontrôleurs sont fréquemment utilisés dans les systèmes embarqués comm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s rob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s télécomman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s appareils de bu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'électromé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s jou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5290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9:51:10Z</dcterms:created>
  <dc:creator>Morel</dc:creator>
  <dc:description/>
  <dc:language>en-US</dc:language>
  <cp:lastModifiedBy>14morel</cp:lastModifiedBy>
  <dcterms:modified xsi:type="dcterms:W3CDTF">2008-04-22T13:12:54Z</dcterms:modified>
  <cp:revision>41</cp:revision>
  <dc:subject/>
  <dc:title>PPE</dc:title>
</cp:coreProperties>
</file>