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4F5B-1DC9-4A9B-A156-840FDCC9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73E5-7B66-4A92-9BAC-0F816E28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4ECC-877A-4811-AC3F-994F0F90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EDDD-97B8-4BC3-A19F-18EF42A3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9046-C1E9-4F36-A8E1-5716BF88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D9F6-D564-4DC5-8E56-C2997D55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20A6-245E-4873-BA93-3B5DC902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22FF-62AC-434D-907E-F3ED54C2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B562-5A19-4DF1-9A9D-C165D956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3854-5735-4CF7-878C-D221BEDC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A672-2C5C-498F-978C-C3B89305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105B-067C-42B3-8EC9-E56F3669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D099-D4B0-4C53-9C8E-0D9B5763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2AAD-A90C-428F-A28E-CCD091D9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1EF2-91F8-4289-B272-C1BE0D7B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F1C4-3C41-467E-81A3-2EA6B70B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C256-A153-429F-BCBB-5683CF77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788-28BA-4596-B23D-60774E37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503-5331-4414-B05F-61FA83A0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5CB4-F74F-4134-A0AE-5F126069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2B4A-C2BB-488D-8A20-F5FAA61D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A24-527E-49E4-BD2F-8B3DD809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FD3-1656-4CD0-96BA-3A4E04F4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86AF-251C-485A-A683-A5A6D084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2e2d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2e2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50000">
                  <a:srgbClr val="9ce157"/>
                </a:gs>
                <a:gs pos="100000">
                  <a:srgbClr val="002e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817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CFA9-62A2-4AFF-AB25-E795D6C2C5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2e2d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2e2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50000">
                  <a:srgbClr val="9ce157"/>
                </a:gs>
                <a:gs pos="100000">
                  <a:srgbClr val="002e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5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2A7D-E5F1-41E6-9A61-64B8DC2229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17e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27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676520" y="3581280"/>
            <a:ext cx="72388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Voiture Solaire</a:t>
            </a:r>
            <a:endParaRPr b="0" lang="en-US" sz="80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2590920" cy="1434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15000" y="990720"/>
            <a:ext cx="220968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1998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 dopé 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1998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1998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 dopé 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36450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59280" y="397836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421240" y="372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715920" y="31766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944520" y="31766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173120" y="31766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3528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ot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3280" y="4762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Le principe du photovoltaï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15328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a82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Carte d’ensoleillemen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1" name="solarexInsolationMAP" descr=""/>
          <p:cNvPicPr/>
          <p:nvPr/>
        </p:nvPicPr>
        <p:blipFill>
          <a:blip r:embed="rId1"/>
          <a:stretch/>
        </p:blipFill>
        <p:spPr>
          <a:xfrm>
            <a:off x="1405080" y="1981080"/>
            <a:ext cx="6333840" cy="4114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15328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a82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25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(W1)"/>
              </a:rPr>
              <a:t>Problématique :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mment utiliser l’énergie solaire pour faire fonctionner une voitur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762120" y="75240"/>
            <a:ext cx="5486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47a00"/>
                </a:solidFill>
                <a:latin typeface="Times New Roman"/>
              </a:rPr>
              <a:t>Sommaire :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63e1ff"/>
                </a:solidFill>
                <a:latin typeface="Arial"/>
                <a:ea typeface="Times New Roman"/>
              </a:rPr>
              <a:t>  </a:t>
            </a:r>
            <a:r>
              <a:rPr b="1" lang="fr-FR" sz="2600" spc="-1" strike="noStrike">
                <a:solidFill>
                  <a:srgbClr val="63e1ff"/>
                </a:solidFill>
                <a:latin typeface="Times New Roman"/>
                <a:ea typeface="Times New Roman"/>
              </a:rPr>
              <a:t> </a:t>
            </a:r>
            <a:r>
              <a:rPr b="0" lang="fr-FR" sz="2600" spc="-1" strike="noStrike">
                <a:solidFill>
                  <a:srgbClr val="63e1ff"/>
                </a:solidFill>
                <a:latin typeface="Arial"/>
                <a:ea typeface="Times New Roman"/>
              </a:rPr>
              <a:t>Partie 1 : Étude préa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  <a:hlinkClick r:id="rId1" action="ppaction://hlinksldjump"/>
              </a:rPr>
              <a:t>1) Qu’est ce que l’énergie solaire 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  <a:hlinkClick r:id="rId2" action="ppaction://hlinksldjump"/>
              </a:rPr>
              <a:t>2) Historiqu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  <a:hlinkClick r:id="rId3" action="ppaction://hlinksldjump"/>
              </a:rPr>
              <a:t>3) Différentes applications ; Avantages et inconvéni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33ccff"/>
                </a:solidFill>
                <a:latin typeface="Arial"/>
                <a:ea typeface="Times New Roman"/>
              </a:rPr>
              <a:t>   </a:t>
            </a:r>
            <a:r>
              <a:rPr b="0" lang="fr-FR" sz="2600" spc="-1" strike="noStrike">
                <a:solidFill>
                  <a:srgbClr val="63e1ff"/>
                </a:solidFill>
                <a:latin typeface="Arial"/>
                <a:ea typeface="Times New Roman"/>
              </a:rPr>
              <a:t>Partie 2 : La voiture solai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3e1ff"/>
                </a:solidFill>
                <a:latin typeface="Arial"/>
              </a:rPr>
              <a:t>            </a:t>
            </a:r>
            <a:r>
              <a:rPr b="0" lang="fr-FR" sz="2600" spc="-1" strike="noStrike">
                <a:solidFill>
                  <a:srgbClr val="63e1ff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63e1ff"/>
                </a:solidFill>
                <a:latin typeface="Arial"/>
              </a:rPr>
              <a:t>1) Le photovoltaïq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3e1ff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63e1ff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63e1ff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63e1ff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63e1ff"/>
                </a:solidFill>
                <a:latin typeface="Arial"/>
              </a:rPr>
              <a:t>a) Tablea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3e1ff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63e1ff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63e1ff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63e1ff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63e1ff"/>
                </a:solidFill>
                <a:latin typeface="Arial"/>
              </a:rPr>
              <a:t>b) Le principe du photovoltaique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3e1ff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63e1ff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63e1ff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63e1ff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63e1ff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63e1ff"/>
                </a:solidFill>
                <a:latin typeface="Arial"/>
              </a:rPr>
              <a:t>c) Fonctionnement du photovoltaiq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63e1ff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63e1ff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63e1ff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63e1ff"/>
                </a:solidFill>
                <a:latin typeface="Arial"/>
              </a:rPr>
              <a:t>2) Schéma fonctionn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19320" y="1214280"/>
            <a:ext cx="6705360" cy="4451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33520" y="0"/>
            <a:ext cx="5333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287280"/>
            <a:ext cx="6019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) Qu’est ce que l’énergie solaire 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815328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a82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6224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ea0b566acc66f529a1ef8e2c28be08e2" descr=""/>
          <p:cNvPicPr/>
          <p:nvPr/>
        </p:nvPicPr>
        <p:blipFill>
          <a:blip r:embed="rId1"/>
          <a:srcRect l="0" t="0" r="15685" b="0"/>
          <a:stretch/>
        </p:blipFill>
        <p:spPr>
          <a:xfrm>
            <a:off x="152280" y="1828800"/>
            <a:ext cx="8839440" cy="3809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3049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) Histor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815328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a82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48320" y="3657600"/>
            <a:ext cx="3352680" cy="2232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133720" y="2057400"/>
            <a:ext cx="1906560" cy="1981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57200" y="4648320"/>
            <a:ext cx="2895480" cy="1790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5334120" y="457200"/>
            <a:ext cx="3371760" cy="2541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22860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) Différentes applications ; Avantages et inconvén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>
            <a:hlinkClick r:id="rId5" action="ppaction://hlinksldjump"/>
          </p:cNvPr>
          <p:cNvSpPr/>
          <p:nvPr/>
        </p:nvSpPr>
        <p:spPr>
          <a:xfrm>
            <a:off x="815328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a82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563840"/>
            <a:ext cx="9144000" cy="26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379600"/>
            <a:ext cx="9144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379600"/>
            <a:ext cx="9144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379600"/>
            <a:ext cx="9144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3796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480" y="2379600"/>
            <a:ext cx="9144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62120" y="1905120"/>
            <a:ext cx="7340400" cy="3192480"/>
            <a:chOff x="762120" y="1905120"/>
            <a:chExt cx="7340400" cy="3192480"/>
          </a:xfrm>
        </p:grpSpPr>
        <p:sp>
          <p:nvSpPr>
            <p:cNvPr id="181" name=""/>
            <p:cNvSpPr/>
            <p:nvPr/>
          </p:nvSpPr>
          <p:spPr>
            <a:xfrm>
              <a:off x="4855680" y="1905120"/>
              <a:ext cx="1270080" cy="1276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MOTEU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à C.C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26360" y="4458960"/>
              <a:ext cx="84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73200" y="1905120"/>
              <a:ext cx="1129320" cy="1276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ar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26120" y="2543400"/>
              <a:ext cx="84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2120" y="3820680"/>
              <a:ext cx="1411560" cy="1276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Panneaux solair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3440" y="3820680"/>
              <a:ext cx="1693800" cy="1276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Accumulateu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161880" y="2543040"/>
              <a:ext cx="0" cy="127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61880" y="2543400"/>
              <a:ext cx="169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97040" y="3820680"/>
              <a:ext cx="1129320" cy="1276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ystème de contrô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73680" y="4458960"/>
              <a:ext cx="42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219320" y="13716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2286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chéma foncti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815328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a82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Production d’un courant électrique en fonction de l’éclairement et de la températur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815328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a82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698508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Naissance d’un courant électrique dans une cellule photovoltaïqu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9640" y="1744560"/>
            <a:ext cx="7920000" cy="5113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15328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a82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2:54:28Z</dcterms:created>
  <dc:creator>11dubourg</dc:creator>
  <dc:description/>
  <dc:language>en-US</dc:language>
  <cp:lastModifiedBy>11dubourg</cp:lastModifiedBy>
  <dcterms:modified xsi:type="dcterms:W3CDTF">2007-01-22T13:34:53Z</dcterms:modified>
  <cp:revision>22</cp:revision>
  <dc:subject/>
  <dc:title>Voiture Solaire</dc:title>
</cp:coreProperties>
</file>