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744-B3F6-46A2-A5E9-B70888BC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9B9-F782-4FA7-9D01-0A214B61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182-02FC-450F-BD6B-E2BACB5E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C66-7F0A-4125-8E72-03E15FC8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06D2-ADFF-426D-A79E-18E0EBE7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6CE2-8D5B-417B-B6E5-8B22218C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C320-A1F8-4857-A543-A74F1054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3CDB-8483-4FDA-A8DA-B8A67A91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C6DE-87ED-4708-8969-9E4D449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1086-C2D6-4B0C-B6B9-B4899838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694D-3E3B-4EE1-BD8D-EFDFC03C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A9E-2787-4B8E-9782-EF9A612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BE9A-4799-440F-8D7B-081D8F59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11B5-D69F-4E5D-8718-94558AA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5ECC-54A0-44BA-A0FE-ED6142B0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5798-7625-44CF-9039-22845372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0BF4-E079-4A0A-A1EE-E81D558E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FF6-17EE-4519-95D7-8E0F7889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CD1-93C4-4395-8AF1-C594701D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D7E-FACE-4AED-A96F-3334B45F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B84-B36F-44FA-B737-EA7F098D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543-8A3A-4F21-B387-E6209B5A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C6A-9A20-4820-BA3C-EB1206FB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F24-342D-4491-ACB1-45B49C6A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800B-6184-41C7-ACDE-7DA35FD1946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6E63-AFBC-44DB-AD3E-03670E771A7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algorigramme.doc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54f1b"/>
                </a:solidFill>
                <a:latin typeface="Tahoma"/>
              </a:rPr>
              <a:t>La gestion d’une ser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5300280"/>
            <a:ext cx="77724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Problématiqu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: Comment gérer la lumière et l’humidité dans un milieu clos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78944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a ventil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Est un apport en CO2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Renforce la structure de la plant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Est un composant de la photosynthè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a lumiè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5960" y="2781000"/>
            <a:ext cx="777240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Dioxyde de carbone + eau +lumière =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matière végéta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7772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4f1b"/>
                </a:solidFill>
                <a:latin typeface="Tahoma"/>
              </a:rPr>
              <a:t>II. Caractéristiques du matériel utilisé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arte ATM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Pompe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Moteur lucarn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Ventilateu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 CARTE ATM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apteur de températur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19040" y="2203920"/>
            <a:ext cx="8311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Il permet de mesurer la température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à l’aide d’un comptage du nombre d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ycles d’horloge d’un oscillateur à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oefficient de température faible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Le registre de température est incrémenté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lorsque la valeur 0 est atteinte par le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ompteur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pteur d’humid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IH4000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limentation entre 4V et 5.8V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Utilisation entre -40°C et 85°C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pteur de lumiè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632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OM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Elle peut être immergée dans l’eau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limenter entre 1.5V et 1.8V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62360" y="2708280"/>
            <a:ext cx="25016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TEUR LUCAR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Engrenag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Pignon - crémaillèr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684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ENTILAT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limentation 12 V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Extrait l’air chau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700360" y="2565360"/>
            <a:ext cx="36320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54f1b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54f1b"/>
                </a:solidFill>
                <a:uFillTx/>
                <a:latin typeface="Tahoma"/>
              </a:rPr>
              <a:t>I Présentation d’une serr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Définition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Différentes sortes de culture en serr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vantages &amp; inconvénien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Les facteurs climatique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Description de la serre existante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4f1b"/>
                </a:solidFill>
                <a:latin typeface="Tahoma"/>
              </a:rPr>
              <a:t>III Réalis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ahoma"/>
              </a:rPr>
              <a:t>L’algorith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ahoma"/>
              </a:rPr>
              <a:t>L’algorigram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LGORITH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Début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Lire T&amp;H&amp;L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i H&lt;0x66 &amp; L&lt;0xD8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Alors Pompe=1 &amp; Attendre 15s ;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inon  si H&gt;0x8A 1 L&lt;0xD8 Alors Pompe=0 ;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inon rien ;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Fin si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Fin si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i T&gt;0x 186A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Alors Ventilateur=1 ;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inon  si T&lt;0x1676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Alors Ventilateur=1 ;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inon Ventilateur=0 ;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Fin si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Fin si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i T&gt;0x1388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Alors Lucarne=1 ;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inon  si T&lt;0x1194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Alors Lucarne=0 ;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inon rien ;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Fin si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Fin si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Fin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incipe de fonctionn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&lt;40% : on arrose à condition que la lumière ne soit pas trop forte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&gt;60% : on ouvre les lucarn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&gt;20°C : ouverture lucarn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&gt;25°C : actionner le ventilateu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&lt;23°C: arrêt du ventilateu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&lt;18°C: fermeture lucarn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ALGORIGRAMME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Défini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7558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tructure fermée permettant de reprodui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es conditions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avorables au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éveloppement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’une plante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électionné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76720" y="2276640"/>
            <a:ext cx="54007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Les différentes cultures en ser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196640"/>
            <a:ext cx="75582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a culture hors sol (hydroponique)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’ écosystème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3375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32360" y="2708280"/>
            <a:ext cx="7776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6000" y="611280"/>
            <a:ext cx="6840720" cy="4762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55166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L’ aéroponi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84720" y="5589360"/>
            <a:ext cx="698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e système à mèches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0581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76360" y="2420640"/>
            <a:ext cx="15876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558972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a table à marré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730080"/>
            <a:ext cx="698508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Avanta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ultiver partout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es plantes saines et vigoureus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30% plus effic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conomiqu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lus d’insectes et de maladi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Jusqu’à 95% de réussi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Absence d’herbicide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lus de désherbag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eu d’entretie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Meilleur engrais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Les facteurs climatiqu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L’ humidit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doit être comprise entre 40% et 60%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- si inférieure à 40% : développement de champignon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- si supérieure à 60% :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pparition d’insect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52:51Z</dcterms:created>
  <dc:creator>blanche</dc:creator>
  <dc:description/>
  <dc:language>en-US</dc:language>
  <cp:lastModifiedBy>4blanche</cp:lastModifiedBy>
  <dcterms:modified xsi:type="dcterms:W3CDTF">2007-05-14T13:52:34Z</dcterms:modified>
  <cp:revision>23</cp:revision>
  <dc:subject/>
  <dc:title>La gestion d’une serre</dc:title>
</cp:coreProperties>
</file>