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6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807-B125-4C6B-AD00-4E668DB9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ADA-B7E2-4157-97FC-0DA579CA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F066-F8ED-4873-80AB-F4CE025C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76A-AAA1-477C-AD85-489EF3B7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5EF0-9443-42AB-B231-84DE2570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B4B-8EAD-48A0-9383-B793033D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293-0FF5-450D-8DC6-FB04F5D0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EEC-F580-472B-BE5A-A58AFC56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4138-13DA-498D-B97A-D090B286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E744-6F38-4919-842D-12CA1C97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3FC-0BE0-4357-AB0D-75C6BC3F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09FD-B4BF-4988-BEDD-25C25651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2D6E-CFFC-47E8-9453-9E3F27C46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javascript:%20window.close()" TargetMode="External"/><Relationship Id="rId2" Type="http://schemas.openxmlformats.org/officeDocument/2006/relationships/image" Target="../media/image24.jpeg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01net.com/telecharger/windows/Loisirs/musique/fiches/31423.html" TargetMode="External"/><Relationship Id="rId2" Type="http://schemas.openxmlformats.org/officeDocument/2006/relationships/image" Target="../media/image25.jpeg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IE MECA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ux de lumiè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16436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vier Max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64360" y="6237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apet Br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78920" y="260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ue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09080" y="260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636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 pla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80360" cy="5216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064360" y="260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fe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ff0000"/>
                </a:solidFill>
                <a:uFillTx/>
                <a:latin typeface="Arial"/>
              </a:rPr>
              <a:t>D- le perç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) la plaqu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perçag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pla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néces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tait l’utilisation de la fraiseuse didacti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voir phot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ci-d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us),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nous avons donc eu besoin de l’aide d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tre profes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u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scienc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l’ingénieur car nous ne savions pas fair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nctionner la machi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our cela le pl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plaque dessiné sur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« solidworks » a été nécessai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) le boît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boîtier étant trop souple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utilisation de la frais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se était impossible, par conséquent nou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vons percé l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boîtier à l’aide d’une perceuse à m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3789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hoto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101080" y="630864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i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aiseuse didac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95640" y="1557360"/>
            <a:ext cx="4865400" cy="499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136000" y="1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fe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II- les logiciels utilisables avec l’interface k806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7993080" cy="3989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57440" y="1699560"/>
            <a:ext cx="19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face k806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28000" y="630864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i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Voici quelques copies d’écran de logiciels, fonctionnant avec l’interface k8062 mise à notre disposition, qui permet de créer des shows lumineux et de les synchroniser avec de la mus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freestyler dm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tl dm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dmx light 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player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( Dmx light player est le logi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e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vré avec l’interfac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k8062 et avec lequel nous avons créé notr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jeu de lumièr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 Nous avons utilisé ce logiciel car c’est le plus ac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ble de tou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tout en permettant de contrôler tous les spots et la lyre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styler dm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413000"/>
            <a:ext cx="7272360" cy="5048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028000" y="18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fe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l dm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Cliquez pour revenir à la fiche du logici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268280"/>
            <a:ext cx="7272360" cy="5232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028000" y="18900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fe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ff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dmx light player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459640" cy="3976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101080" y="18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fe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clusion – Élargiss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6440" y="2470320"/>
            <a:ext cx="71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uppression de la multitude de 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2560" y="309420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ilité de contrôler les récepteurs a distance grâce au protocole DM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778040"/>
            <a:ext cx="73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1) Co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4657680"/>
            <a:ext cx="73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2) Élargiss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8120" y="391788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isation de la trame des canaux utili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0200" y="580536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 aliment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526428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s PC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I- les différentes étapes de la fabrication du boîtier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-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oix d’un boî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s un premier temps, nous avons dû choisir entre plusieurs boîtiers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 natures différentes (plastique, aluminium, acier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 tailles différentes (pouvant accueillir notre circuit imprim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 prix différents (le prix augmente selon la taille et la nature du boît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ement nous avons opté pour un boîtier standard en plastique comprenant une plaque d’aluminium disponible au magasin du lycée  (159*94*64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51640" y="566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h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28000" y="630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i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915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PE 2006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mx 512 :effets de lumiè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ésenté par :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  Clair Beno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ouvelle Yo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lavier Max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apet Br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us remercions tous les professeurs qui nous ont aidés lors de notre proj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33336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5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5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5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5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5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5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5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848360" cy="5457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028000" y="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Fe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-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a connec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200320" cy="99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67280" y="126828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fficheur lcd qui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rmet d’afficher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les informations sur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jeux de lumièr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588000" y="2492280"/>
            <a:ext cx="1486080" cy="1514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42920" y="2924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met de varier l’intensité 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ière 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’affich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71640" y="4581360"/>
            <a:ext cx="1496880" cy="1689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067280" y="494172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se mâle / prise femelle permettant de relier le boîtier à l’interface et au bloc de puiss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28000" y="6491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i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- problém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voir le boîtier, en partant d’un boîtier du commerce à choisir, en mettant en oeuvre la fraiseuse didactique du laboratoire afin de réaliser les différentes découpes (afficheur, bloc bouton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28000" y="630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i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72360" y="333360"/>
            <a:ext cx="1914480" cy="1333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42920" y="2421000"/>
            <a:ext cx="212400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227640" y="4941720"/>
            <a:ext cx="2019600" cy="112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43280" y="2781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eurs ali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620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met de relier le boîtier à un clavier d’ordin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479736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ecteur qui per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transfe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 informations (programme) venant de l’ordinateur sur le circuit imprim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56720" y="630864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i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C- </a:t>
            </a:r>
            <a:r>
              <a:rPr b="0" lang="fr-FR" sz="2400" spc="-1" strike="noStrike" u="sng">
                <a:solidFill>
                  <a:srgbClr val="ff0000"/>
                </a:solidFill>
                <a:uFillTx/>
                <a:latin typeface="Arial"/>
              </a:rPr>
              <a:t>Plan du boîtier et de la plaque d’alumi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près avoir trouvé le boîtier adéquat, nous avons dessin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boî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er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la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laque d’aluminium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grâc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u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ogicie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« solidworks »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oîtier     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-vue 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laqu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-vue 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85080" y="6308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i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îtier vue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496000" cy="5346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207280" y="18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fe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 boî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5254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136000" y="1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fe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09:29:46Z</dcterms:created>
  <dc:creator>OEM</dc:creator>
  <dc:description/>
  <dc:language>en-US</dc:language>
  <cp:lastModifiedBy>User name placeholder</cp:lastModifiedBy>
  <dcterms:modified xsi:type="dcterms:W3CDTF">2007-05-08T19:50:30Z</dcterms:modified>
  <cp:revision>13</cp:revision>
  <dc:subject/>
  <dc:title>GENIE MECANIQUE</dc:title>
</cp:coreProperties>
</file>