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76438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2560" y="4921560"/>
            <a:ext cx="76438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5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93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27000" y="285228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11440" y="285228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2560" y="492156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27000" y="492156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11440" y="492156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560" y="2852280"/>
            <a:ext cx="764388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76438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2560" y="191592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25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2560" y="2852280"/>
            <a:ext cx="764388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93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2560" y="4921560"/>
            <a:ext cx="76438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76438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2560" y="4921560"/>
            <a:ext cx="76438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593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7000" y="285228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1440" y="285228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2560" y="492156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7000" y="492156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1440" y="4921560"/>
            <a:ext cx="2460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76438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560" y="191592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25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9360" y="492156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9360" y="2852280"/>
            <a:ext cx="3729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4921560"/>
            <a:ext cx="76438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126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2852280"/>
            <a:ext cx="76438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32000" y="4797360"/>
            <a:ext cx="6624720" cy="720720"/>
          </a:xfrm>
          <a:prstGeom prst="rect">
            <a:avLst/>
          </a:prstGeom>
          <a:solidFill>
            <a:srgbClr val="101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11280" y="4076640"/>
            <a:ext cx="7921440" cy="720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17204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26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98304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101267"/>
                </a:solidFill>
                <a:latin typeface="Trebuchet MS"/>
                <a:ea typeface="Arial"/>
              </a:rPr>
              <a:t>PPE 2007 – TS1</a:t>
            </a:r>
            <a:endParaRPr b="1" lang="en-US" sz="37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32000" y="489276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eaeaea"/>
                </a:solidFill>
                <a:latin typeface="Trebuchet MS"/>
              </a:rPr>
              <a:t>Robot Suiveur de Ligne</a:t>
            </a:r>
            <a:endParaRPr b="1" lang="en-US" sz="25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Description du travail réalisé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637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La base du bras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03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M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28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Par mesure de solidité, des rondelles ont été placé sur chaque vi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8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Description du travail réalisé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637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L’armature du bras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M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28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Afin de respecter le cahier des charges, le bras a été divisé en 2 parti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48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48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30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Description du travail réalisé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637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L’armature du bras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803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M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28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Le bras large de 35mm est déplié à l’aide de 2 servomoteur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84360" y="371628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4003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Description du travail réalisé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2637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Système de Largage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803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M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357720"/>
            <a:ext cx="763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Le système de largage est constitué d’un cylindre accueillant la balle de ping-pong, d’une goupille et d’un guide pour guider celle-ci.</a:t>
            </a:r>
            <a:r>
              <a:rPr b="0" lang="fr-FR" sz="23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4797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A l’ouverture du bras, la ficelle se tend, éjectant la goupil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57340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Provoquant la chute de la balle dans la cib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200"/>
                            </p:stCondLst>
                            <p:childTnLst>
                              <p:par>
                                <p:cTn id="3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Description du travail réalisé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2637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Assemblage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M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335772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Le système de largage est fixé à l’aide d’un ruban adhésif à l’extrémité du bras</a:t>
            </a:r>
            <a:r>
              <a:rPr b="0" lang="fr-FR" sz="2300" spc="-1" strike="noStrike">
                <a:solidFill>
                  <a:srgbClr val="eaeaea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999999"/>
                </a:solidFill>
                <a:latin typeface="Trebuchet MS"/>
              </a:rPr>
              <a:t>: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4653000"/>
            <a:ext cx="45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808080"/>
                </a:solidFill>
                <a:uFillTx/>
                <a:latin typeface="Arial"/>
              </a:rPr>
              <a:t>Par souci de poi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373720"/>
            <a:ext cx="676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808080"/>
                </a:solidFill>
                <a:uFillTx/>
                <a:latin typeface="Arial"/>
              </a:rPr>
              <a:t>Afin de garder une certaine maniabilité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060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16198a"/>
                </a:solidFill>
                <a:uFillTx/>
                <a:latin typeface="Trebuchet MS"/>
              </a:rPr>
              <a:t>Le Robot une fois terminé</a:t>
            </a:r>
            <a:r>
              <a:rPr b="0" lang="fr-FR" sz="21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100" spc="-1" strike="noStrike">
              <a:solidFill>
                <a:srgbClr val="10126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08000" y="2708280"/>
            <a:ext cx="5328000" cy="3995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643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Programmation du Robot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2133720"/>
            <a:ext cx="7643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E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2997360"/>
            <a:ext cx="48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9999"/>
                </a:solidFill>
                <a:uFillTx/>
                <a:latin typeface="Arial"/>
              </a:rPr>
              <a:t>Acquisition de la position du Robot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716280"/>
            <a:ext cx="763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</a:rPr>
              <a:t>Le robot détecte sa position par rapport à la ligne grâce a 3 capteurs infrarouges, composé d’un émetteur et d’un récepteur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6248520" cy="1838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2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643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Programmation du Robot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1640" y="2133720"/>
            <a:ext cx="7643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E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997360"/>
            <a:ext cx="48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Traitement de l’information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71628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</a:rPr>
              <a:t>Le traitement est assuré par une carte Atmel SSI. Elle contient le programme en langage C</a:t>
            </a:r>
            <a:r>
              <a:rPr b="0" lang="fr-FR" sz="2300" spc="-1" strike="noStrike">
                <a:solidFill>
                  <a:srgbClr val="eaeaea"/>
                </a:solidFill>
                <a:latin typeface="Trebuchet MS"/>
              </a:rPr>
              <a:t> </a:t>
            </a:r>
            <a:r>
              <a:rPr b="0" lang="fr-FR" sz="2300" spc="-1" strike="noStrike">
                <a:solidFill>
                  <a:srgbClr val="999999"/>
                </a:solidFill>
                <a:latin typeface="Trebuchet MS"/>
              </a:rPr>
              <a:t>: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5084640"/>
            <a:ext cx="5832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  <a:ea typeface="Arial"/>
              </a:rPr>
              <a:t>- De diminuer le poids du robot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5661000"/>
            <a:ext cx="5832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  <a:ea typeface="Arial"/>
              </a:rPr>
              <a:t>- Mise en service plus simple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51640" y="4221000"/>
            <a:ext cx="985680" cy="25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40"/>
                            </p:stCondLst>
                            <p:childTnLst>
                              <p:par>
                                <p:cTn id="4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40"/>
                            </p:stCondLst>
                            <p:childTnLst>
                              <p:par>
                                <p:cTn id="4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040"/>
                            </p:stCondLst>
                            <p:childTnLst>
                              <p:par>
                                <p:cTn id="4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643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Programmation du Robot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2133720"/>
            <a:ext cx="7643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E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997360"/>
            <a:ext cx="48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9999"/>
                </a:solidFill>
                <a:uFillTx/>
                <a:latin typeface="Arial"/>
              </a:rPr>
              <a:t>Traitement de l’information</a:t>
            </a:r>
            <a:r>
              <a:rPr b="0" lang="fr-FR" sz="2000" spc="-1" strike="noStrike">
                <a:solidFill>
                  <a:srgbClr val="999999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71628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</a:rPr>
              <a:t>En fonction de l’information délivrée par les capteurs infrarouges, le microcontrôleur fait varier la vitesse de rotation.</a:t>
            </a:r>
            <a:r>
              <a:rPr b="0" lang="fr-FR" sz="23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157720"/>
            <a:ext cx="417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Wingdings"/>
                <a:ea typeface="Wingdings"/>
              </a:rPr>
              <a:t></a:t>
            </a:r>
            <a:r>
              <a:rPr b="0" lang="fr-FR" sz="1900" spc="-1" strike="noStrike">
                <a:solidFill>
                  <a:srgbClr val="999999"/>
                </a:solidFill>
                <a:latin typeface="Trebuchet MS"/>
              </a:rPr>
              <a:t> </a:t>
            </a:r>
            <a:r>
              <a:rPr b="0" lang="fr-FR" sz="1900" spc="-1" strike="noStrike" u="sng">
                <a:solidFill>
                  <a:srgbClr val="999999"/>
                </a:solidFill>
                <a:uFillTx/>
                <a:latin typeface="Trebuchet MS"/>
              </a:rPr>
              <a:t>Le robot change de direction.</a:t>
            </a:r>
            <a:r>
              <a:rPr b="0" lang="fr-FR" sz="23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3095640" cy="21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280"/>
                            </p:stCondLst>
                            <p:childTnLst>
                              <p:par>
                                <p:cTn id="505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780"/>
                            </p:stCondLst>
                            <p:childTnLst>
                              <p:par>
                                <p:cTn id="5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643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Programmation du Robot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2133720"/>
            <a:ext cx="7643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E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2997360"/>
            <a:ext cx="48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9999"/>
                </a:solidFill>
                <a:uFillTx/>
                <a:latin typeface="Arial"/>
              </a:rPr>
              <a:t>Détection de la cible</a:t>
            </a:r>
            <a:r>
              <a:rPr b="0" lang="fr-FR" sz="2000" spc="-1" strike="noStrike">
                <a:solidFill>
                  <a:srgbClr val="999999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645000"/>
            <a:ext cx="763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</a:rPr>
              <a:t>Afin de placer la balle au centre de la cible, un capteur magnétique est placé juste avant celle-ci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44500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  <a:ea typeface="Arial"/>
              </a:rPr>
              <a:t>- Dès la détection du capteur, le robot entame son processus de </a:t>
            </a:r>
            <a:r>
              <a:rPr b="0" lang="fr-FR" sz="1900" spc="-1" strike="noStrike" u="sng">
                <a:solidFill>
                  <a:srgbClr val="999999"/>
                </a:solidFill>
                <a:uFillTx/>
                <a:latin typeface="Trebuchet MS"/>
                <a:ea typeface="Arial"/>
              </a:rPr>
              <a:t>mise en mouvement du bras</a:t>
            </a:r>
            <a:r>
              <a:rPr b="0" lang="fr-FR" sz="1900" spc="-1" strike="noStrike">
                <a:solidFill>
                  <a:srgbClr val="999999"/>
                </a:solidFill>
                <a:latin typeface="Trebuchet MS"/>
                <a:ea typeface="Arial"/>
              </a:rPr>
              <a:t>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360"/>
                            </p:stCondLst>
                            <p:childTnLst>
                              <p:par>
                                <p:cTn id="5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79640" y="765000"/>
            <a:ext cx="45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808080"/>
                </a:solidFill>
                <a:uFillTx/>
                <a:latin typeface="Trebuchet MS"/>
              </a:rPr>
              <a:t>Calendrier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101267"/>
                </a:solidFill>
                <a:latin typeface="Tahoma"/>
              </a:rPr>
              <a:t>Conclusion :</a:t>
            </a:r>
            <a:endParaRPr b="0" lang="en-US" sz="29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3141720"/>
            <a:ext cx="62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  <a:ea typeface="Arial"/>
              </a:rPr>
              <a:t>Notre robot se déplace rapidement tout en maintenant sa trajectoire.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149720"/>
            <a:ext cx="6227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  <a:ea typeface="Arial"/>
              </a:rPr>
              <a:t>Supporte le poids du bras sans basculer, une fois le bras déplié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27640" y="4653000"/>
            <a:ext cx="2772000" cy="2079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01267"/>
                </a:solidFill>
                <a:latin typeface="Tahoma"/>
              </a:rPr>
              <a:t>Prochainement…</a:t>
            </a:r>
            <a:endParaRPr b="0" lang="en-US" sz="26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3141360"/>
            <a:ext cx="6227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  <a:ea typeface="Arial"/>
              </a:rPr>
              <a:t>La mise au point des servomoteurs (élaboration d’une carte électronique et programmation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4149720"/>
            <a:ext cx="6227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  <a:ea typeface="Arial"/>
              </a:rPr>
              <a:t>Ajustage du dépôt de la balle ainsi que l’éjection de la goupill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01267"/>
                </a:solidFill>
                <a:latin typeface="Tahoma"/>
              </a:rPr>
              <a:t>Problématique :</a:t>
            </a:r>
            <a:endParaRPr b="0" lang="en-US" sz="30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3141360"/>
            <a:ext cx="6227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Réalisation d'un robot mobile capable d'effectuer en toute autonomie un trajet déterminé, dans un temps minimal, avec un dépôt obligatoire d'une balle dans une cible.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27640" y="2565360"/>
            <a:ext cx="2681280" cy="3384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0.64516 L -4.16667E-006 -2.49827E-006 E">
                                      <p:cBhvr>
                                        <p:cTn id="3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Spécificités du Robot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1628640"/>
            <a:ext cx="69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Le robot doit pouvoir tenir dans un carton de 5 ramettes de photocopie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141720"/>
            <a:ext cx="45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808080"/>
                </a:solidFill>
                <a:uFillTx/>
                <a:latin typeface="Trebuchet MS"/>
              </a:rPr>
              <a:t>Longueur maximale 300 mm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4076640"/>
            <a:ext cx="410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808080"/>
                </a:solidFill>
                <a:uFillTx/>
                <a:latin typeface="Trebuchet MS"/>
              </a:rPr>
              <a:t>Largeur maximale 200 mm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5157720"/>
            <a:ext cx="446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808080"/>
                </a:solidFill>
                <a:uFillTx/>
                <a:latin typeface="Trebuchet MS"/>
              </a:rPr>
              <a:t>Hauteur maximale 200 mm</a:t>
            </a: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Spécificités du Robot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15573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rebuchet MS"/>
              </a:rPr>
              <a:t>Il dois répondre à certain nombre de critère comme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2565360"/>
            <a:ext cx="3456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999999"/>
                </a:solidFill>
                <a:latin typeface="Trebuchet MS"/>
                <a:ea typeface="Arial"/>
              </a:rPr>
              <a:t>- 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  <a:ea typeface="Arial"/>
              </a:rPr>
              <a:t>Être autonom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3500280"/>
            <a:ext cx="48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  <a:ea typeface="Arial"/>
              </a:rPr>
              <a:t>- Atteindre la cible avec un balle.</a:t>
            </a:r>
            <a:r>
              <a:rPr b="0" lang="fr-FR" sz="2300" spc="-1" strike="noStrike">
                <a:solidFill>
                  <a:srgbClr val="999999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4437000"/>
            <a:ext cx="748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999999"/>
                </a:solidFill>
                <a:latin typeface="Trebuchet MS"/>
                <a:ea typeface="Arial"/>
              </a:rPr>
              <a:t>- 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  <a:ea typeface="Arial"/>
              </a:rPr>
              <a:t>Avoir un interrupteur On/Off et un arrêt d’urg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5373720"/>
            <a:ext cx="712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999999"/>
                </a:solidFill>
                <a:latin typeface="Trebuchet MS"/>
                <a:ea typeface="Arial"/>
              </a:rPr>
              <a:t>- 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  <a:ea typeface="Arial"/>
              </a:rPr>
              <a:t>Se déplacer et effectuer ses actions le plus vite possib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Spécificités de la Cible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1628640"/>
            <a:ext cx="69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Dimensions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2133720"/>
            <a:ext cx="45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rebuchet MS"/>
              </a:rPr>
              <a:t>Longueur 200mm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2708280"/>
            <a:ext cx="45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rebuchet MS"/>
              </a:rPr>
              <a:t>Largeur 200mm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4005360"/>
            <a:ext cx="45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rebuchet MS"/>
              </a:rPr>
              <a:t>Diamètre des trous 55mm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3357720"/>
            <a:ext cx="45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rebuchet MS"/>
              </a:rPr>
              <a:t>Hauteur 22mm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5373720"/>
            <a:ext cx="69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Elle sera placé à gauche du sens du parcourt et signalé par un aimen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313080" cy="2968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2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Spécificités de la Piste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1125360"/>
            <a:ext cx="45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rebuchet MS"/>
              </a:rPr>
              <a:t>Largeur de la bande : 30mm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1844640"/>
            <a:ext cx="45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rebuchet MS"/>
              </a:rPr>
              <a:t>Couleur noir sur fond blan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6264360" cy="4159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Description du travail réalisé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La base du bras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M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35733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</a:rPr>
              <a:t>La base du robot a été conçu en balsa afin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4437000"/>
            <a:ext cx="583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  <a:ea typeface="Arial"/>
              </a:rPr>
              <a:t>- De diminuer le poids du robot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5229360"/>
            <a:ext cx="583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  <a:ea typeface="Arial"/>
              </a:rPr>
              <a:t>- De limiter le risque de basculement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950080"/>
            <a:ext cx="5975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9999"/>
                </a:solidFill>
                <a:latin typeface="Trebuchet MS"/>
                <a:ea typeface="Arial"/>
              </a:rPr>
              <a:t>- De Garder une rigidité suffisante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4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16198a"/>
                </a:solidFill>
                <a:uFillTx/>
                <a:latin typeface="Trebuchet MS"/>
              </a:rPr>
              <a:t>Description du travail réalisé</a:t>
            </a:r>
            <a:r>
              <a:rPr b="0" lang="fr-FR" sz="2400" spc="-1" strike="noStrike">
                <a:solidFill>
                  <a:srgbClr val="16198a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10126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637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 </a:t>
            </a:r>
            <a:r>
              <a:rPr b="0" lang="fr-FR" sz="2000" spc="-1" strike="noStrike" u="sng">
                <a:solidFill>
                  <a:srgbClr val="999999"/>
                </a:solidFill>
                <a:uFillTx/>
                <a:latin typeface="Trebuchet MS"/>
              </a:rPr>
              <a:t>La base du bras</a:t>
            </a: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1844640"/>
            <a:ext cx="7643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1267"/>
                </a:solidFill>
                <a:latin typeface="Trebuchet MS"/>
              </a:rPr>
              <a:t>- Partie GM</a:t>
            </a:r>
            <a:r>
              <a:rPr b="0" lang="fr-FR" sz="2400" spc="-1" strike="noStrike">
                <a:solidFill>
                  <a:srgbClr val="101267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500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9999"/>
                </a:solidFill>
                <a:latin typeface="Trebuchet MS"/>
              </a:rPr>
              <a:t>Cette base a ensuite été fixé à l’aide de 4 vis + rondell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56000" y="3995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9:48:46Z</dcterms:created>
  <dc:creator>Vincent</dc:creator>
  <dc:description/>
  <dc:language>en-US</dc:language>
  <cp:lastModifiedBy>Vincent</cp:lastModifiedBy>
  <dcterms:modified xsi:type="dcterms:W3CDTF">2007-05-10T20:14:32Z</dcterms:modified>
  <cp:revision>53</cp:revision>
  <dc:subject/>
  <dc:title>TPE 2006 - 1e S2</dc:title>
</cp:coreProperties>
</file>